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applause.wav" ContentType="audio/x-wav"/>
  <Override PartName="/ppt/media/image2.jpeg" ContentType="image/jpeg"/>
  <Override PartName="/ppt/media/chimes.wav" ContentType="audio/x-wav"/>
  <Override PartName="/ppt/media/wind.wav" ContentType="audio/x-wav"/>
  <Override PartName="/ppt/media/bomb.wav" ContentType="audio/x-wav"/>
  <Override PartName="/ppt/media/type.wav" ContentType="audio/x-wav"/>
  <Override PartName="/ppt/media/push.wav" ContentType="audio/x-wav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E216-BCAA-422A-81D7-85327375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FA83-C624-4B95-83EA-509DE654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D9ED-1B69-4770-AF68-ED265239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74A9-8449-44E2-B822-A5DDA888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79FD-86CA-4278-88DD-CE2CCD24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DC47-A2A5-4D5C-BE37-46073FC7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2AD-F06E-4B27-BEFD-C409CC5C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6888-076F-4633-BAFA-886655BA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A577-F0C0-4622-BB24-3D9D7991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35C3-A49D-4BFB-9E43-4091C1E9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A89-AB87-46AC-B9A8-3A6559BA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848-5ED2-4B4D-A9E8-560537B5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A6A1-05AB-4712-9774-24C75C0AA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ebiyatogretmeni.net/deyimler.htm" TargetMode="External"/><Relationship Id="rId2" Type="http://schemas.openxmlformats.org/officeDocument/2006/relationships/hyperlink" Target="http://www.edebiyatogretmeni.net/atasozleri.htm" TargetMode="External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debiyatogretmeni.net/omer_seyfettin.htm" TargetMode="External"/><Relationship Id="rId2" Type="http://schemas.openxmlformats.org/officeDocument/2006/relationships/hyperlink" Target="http://www.edebiyatogretmeni.net/refik_halit_karay.htm" TargetMode="External"/><Relationship Id="rId3" Type="http://schemas.openxmlformats.org/officeDocument/2006/relationships/hyperlink" Target="http://www.edebiyatogretmeni.net/refik_halit_karay.htm" TargetMode="External"/><Relationship Id="rId4" Type="http://schemas.openxmlformats.org/officeDocument/2006/relationships/hyperlink" Target="http://www.edebiyatogretmeni.net/huseyin_rahmi_gurpinar.htm" TargetMode="External"/><Relationship Id="rId5" Type="http://schemas.openxmlformats.org/officeDocument/2006/relationships/hyperlink" Target="http://www.edebiyatogretmeni.net/resat_nuri_guntekin.htm" TargetMode="External"/><Relationship Id="rId6" Type="http://schemas.openxmlformats.org/officeDocument/2006/relationships/image" Target="../media/image4.jpeg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debiyatogretmeni.net/gunluk.htm" TargetMode="External"/><Relationship Id="rId2" Type="http://schemas.openxmlformats.org/officeDocument/2006/relationships/hyperlink" Target="http://www.edebiyatogretmeni.net/sait_faik_abasiyanik.htm" TargetMode="External"/><Relationship Id="rId3" Type="http://schemas.openxmlformats.org/officeDocument/2006/relationships/hyperlink" Target="http://www.edebiyatogretmeni.net/memduh_sevket_esendal.htm" TargetMode="External"/><Relationship Id="rId4" Type="http://schemas.openxmlformats.org/officeDocument/2006/relationships/image" Target="../media/image5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İKÂYE (ÖYKÜ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99"/>
                </a:solidFill>
                <a:latin typeface="Arial"/>
              </a:rPr>
              <a:t>Sevcan ÖZ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99"/>
                </a:solidFill>
                <a:latin typeface="Arial"/>
              </a:rPr>
              <a:t>Sultanahmet Anadol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99"/>
                </a:solidFill>
                <a:latin typeface="Arial"/>
              </a:rPr>
              <a:t>Teknik, Anadolu Meslek 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99"/>
                </a:solidFill>
                <a:latin typeface="Arial"/>
              </a:rPr>
              <a:t>Endüstri Meslek Lis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99"/>
                </a:solidFill>
                <a:latin typeface="Arial"/>
              </a:rPr>
              <a:t>Müdür Yardımcıs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www.edebiyatogretmeni.ne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33920" y="4572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İKÂYE (ÖYKÜ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aşanmış  ya  da yaşanabilecek  şekilde  tasarlanmış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layları  kişilere  bağlı  olarak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elli  bir  yer  ve  zaman içinde   anlatan   tü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hikâye (öykü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yoru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1590840" cy="2338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238880" y="2743200"/>
            <a:ext cx="1608120" cy="2324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HİKÂYENİN UNSURLAR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LAY: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ikâyede  üzerinde  söz  söylenen  yaşantı  ya da  durumd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KİŞİLE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Olayın  oluşmasında  etkili olan ya  olayı  yaşayan  insanlardı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YE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Olayın   yaşandığı  çevre  veya  mekândı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ZAMA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layın  yaşandığı  dönem,  an   mevsim  ya  da   gündü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İL  VE  ANLATI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ikâyenin dili açık,  akıcı  ve  günlük  konuşma  dilinden  farklı olarak, etkili  sözcük, 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eyim 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tasözü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 ve  tamlamalarla   zenginleştirilmiş   güzel   bir   dil  olmalıdır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latım  ise  iki  şekilde  olur:   Hikâye  kahramanlarından  birinin ağzından  yapılan  anlatım 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“hikâyede  birinci  kişili  anlatım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ben anlatımı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azarın  ağzından  anlatılanlar  </a:t>
            </a:r>
            <a:r>
              <a:rPr b="0" lang="en-US" sz="1800" spc="-1" strike="noStrike">
                <a:solidFill>
                  <a:srgbClr val="669900"/>
                </a:solidFill>
                <a:latin typeface="Arial"/>
              </a:rPr>
              <a:t>“hikâyede  üçüncü  kişili  anlatım” (o anlatımı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3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İKÂYEDE PLÂ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kâyenin    planı  da   diğer    yazı  türlerinde   olduğu  gi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ç  bölümden  oluşur; ancak bu  bölümlerin  adları  farklıdır. Bunl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ERİM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 Hikâyenin   giriş   bölümüdür.Bu  bölümde  olayın geçtiği  çevre ,  kişiler tanıtılarak  ana  olaya giriş  yapıl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ÜĞÜM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ikâyenin  bütün  yönleriyle  anlatıldığı en  geniş  bölümdü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ÇÖZÜM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ikâyenin sonuç  bölümü  olup   merakın bir  sonuca bağlanarak  giderildiği bölümdü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ak  bütün hikâyelerde  bu plân uygulanmaz, bazı  öykülerde  başlangıç  ve sonuç  bölümü  yoktur .Bu bölümler  okuyucu  tarafından  tamamlanı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  <p:sndAc>
      <p:stSnd>
        <p:snd r:embed="rId1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Ö Y K Ü  Ç E Ş İ T L E R 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ikâye,hayatın  bütünü  içinde  fakat  bir  bölümü  üzerine  kurulmu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erinliği  olan  bir  büyüteçtir.  Bu büyüteç  altında  kimi  zaman   olay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ir  plân içinde, kişi,  zaman,  çevre  bağlantısı  içinde   hikâye  boyu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rdelenir.  Kimi  zaman  da  büyütecin  altında  incelenen  olay  değil,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ayatın  küçük  bir  kesiti, insan  gerçeğinin  kendisidir.  Bu  da öykünü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çeşitlerini   oluşturur.   Buna  gö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cc3300"/>
                </a:solidFill>
                <a:latin typeface="Arial"/>
              </a:rPr>
              <a:t>1) OLAY ( KLASİK  VAK’A )  HİKÂYES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ir  olayı  ele  alarak,  serim,   düğüm,   çözüm   plânıyla  anlatıp  b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onuca  bağlayan  öykülerdir.  Kahramanlar  ve çevrenin  tasvirine  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verilir.   Bir  fikir  verilmeye  çalışılır; okuyucuda  merak   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eyecan  uyandırılır.Bu   tür,  Fransız  yazar </a:t>
            </a:r>
            <a:r>
              <a:rPr b="0" lang="tr-TR" sz="1800" spc="-1" strike="noStrike">
                <a:solidFill>
                  <a:srgbClr val="cc3300"/>
                </a:solidFill>
                <a:latin typeface="Arial"/>
              </a:rPr>
              <a:t>Guy de Maupassant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( Gu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ö Mopasan) tarafından   yaygınlaştırıldığı  için  </a:t>
            </a:r>
            <a:r>
              <a:rPr b="0" lang="tr-TR" sz="1800" spc="-1" strike="noStrike">
                <a:solidFill>
                  <a:srgbClr val="cc3300"/>
                </a:solidFill>
                <a:latin typeface="Arial"/>
              </a:rPr>
              <a:t>“Mopa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cc3300"/>
                </a:solidFill>
                <a:latin typeface="Arial"/>
              </a:rPr>
              <a:t>Tarzı  Hikâye” 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de  den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u  tarzın  bizdeki  en  önemli  temsilcileri:  </a:t>
            </a: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Ömer  Seyfettin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,   </a:t>
            </a: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fik  Halit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Karay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üseyin Rahmi  Gürpınar 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ve  </a:t>
            </a:r>
            <a:r>
              <a:rPr b="0" lang="tr-TR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eşat  Nuri  Güntekin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’d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6553080" y="152280"/>
            <a:ext cx="1087560" cy="1447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7" name="bomb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2)  DURUM   ( KESİT  )  HİKÂYESİ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r olayı  değil   </a:t>
            </a: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ünlük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  yaşamın  her  hangi  bir  kesitini   ele  alıp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nlatan  öykülerdir   Serim,  düğüm,  çözüm  planına  uyulmaz.  Belli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r sonucu  da  yokt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Merak  ve  heyecandan  çok  duygu  ve  hayallere  yer  verilir;  fikre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önem   verilmez,  kişiler  kendi  doğal  ortamlarında  hissettirilir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Olayların ve  durumların  akışı  okuyucunun  hayal  gücüne  bırakıl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u  tarzın  dünya  edebiyatında  ilk temsilcisi  Rus  yazar  </a:t>
            </a:r>
            <a:r>
              <a:rPr b="0" lang="tr-TR" sz="2000" spc="-1" strike="noStrike">
                <a:solidFill>
                  <a:srgbClr val="cc3300"/>
                </a:solidFill>
                <a:latin typeface="Arial"/>
              </a:rPr>
              <a:t>An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cc3300"/>
                </a:solidFill>
                <a:latin typeface="Arial"/>
              </a:rPr>
              <a:t>Çehov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   olduğu   için  </a:t>
            </a:r>
            <a:r>
              <a:rPr b="0" lang="tr-TR" sz="2000" spc="-1" strike="noStrike">
                <a:solidFill>
                  <a:srgbClr val="cc3300"/>
                </a:solidFill>
                <a:latin typeface="Arial"/>
              </a:rPr>
              <a:t>“Çehov   Tarzı Hikâye”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  de den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zdeki  en  güçlü  temsilciler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ait  Faik  Abasıyanık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,  </a:t>
            </a:r>
            <a:r>
              <a:rPr b="0" lang="tr-T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emduh   Şevket  Esendal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  ve Tarık  Buğra’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43000" y="152280"/>
            <a:ext cx="97488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5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3)  MODERN    HİKÂYE 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ğer  öykü  çeşitlerinden  farklı  olarak,  insanların  her  gün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ördükleri fakat  düşünemedikleri  bazı  durumları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isindeki    gerçekleri,  hayaller ve  bir  takım olağanüstülükler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österen  hikâyelerd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kâyede  bir  tür  olarak  1920’lerde  ilk  defa  batıda  görülen   bu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layışın  en güçlü   temsilcisi  Fransız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  Kaf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zdeki  ilk  temsilcisi  Haldun  Taner’dir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llikle  büyük  şehirlerdeki  yozlaşmış  tipleri,  sosyal  ve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lumsal  bozuklukları ,  felsefi  bir  yaklaşımla,  ince  bir  yerg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  yer  yer  alay  katarak,  irdeleyici  biçimde   gözler  önüne  se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debiyatogretmeni.net/roman_ve_hikay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pu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3:08:52Z</dcterms:created>
  <dc:creator>SEVCAN ÖZDEN</dc:creator>
  <dc:description/>
  <dc:language>en-US</dc:language>
  <cp:lastModifiedBy>user</cp:lastModifiedBy>
  <dcterms:modified xsi:type="dcterms:W3CDTF">2008-11-09T03:27:46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