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applause.wav" ContentType="audio/x-wav"/>
  <Override PartName="/ppt/media/camera.wav" ContentType="audio/x-wav"/>
  <Override PartName="/ppt/media/chimes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0CF-FEB4-4FD6-BF3D-8BE0FDD3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157-9AF5-4FEE-82A6-0B568B9D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8A6-4FFA-4CD3-8920-0ACBD7FE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3D3-7336-42E3-B534-E10F2D9C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B776-5669-436F-8412-27504462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F4E2-5EED-4B7D-B98D-284F45F9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CB08-5977-46AA-8A7F-4DCC0F64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6216-E024-41F3-829E-11730254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3CD7-5F20-4B10-97CE-C6BE0324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3163-B640-4CCE-BB6B-D560A147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746B-F484-45A9-8F37-7DAD1709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E23-87AE-4233-AAB9-C31F37BE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8117-EA68-4BED-8DAC-5E1AFEFB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DA9D-5F8E-459F-B8E6-579E7AE2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A106-EC06-4C3D-81AC-27CE57E2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EE89-2280-4397-8DCE-ED69C5A7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FF28-B1D2-45BE-848A-1A21984A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887-EADF-49AB-A413-0FBEB4AA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295-DA1A-45C5-9E72-22E0FC98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6A4-3939-41D2-AE85-B13565CB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3C1-3586-4089-99AF-ABB154FE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116-CCDE-438C-B672-09A31BD0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755-B66A-472D-97DB-061E2B7D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2E0-61F8-4A88-A70A-2AC3274F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29E1-B57B-4EBB-9D8A-0872311246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0737-821A-4DBA-A373-9C2473EEBE7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debiyatogretmeni.net/cervantes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ebiyatogretmeni.net/mesnevi.htm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edebiyatogretmeni.net/yusuf_kamil_pasa.htm" TargetMode="External"/><Relationship Id="rId5" Type="http://schemas.openxmlformats.org/officeDocument/2006/relationships/hyperlink" Target="http://www.edebiyatogretmeni.net/victor_hugo.htm" TargetMode="External"/><Relationship Id="rId6" Type="http://schemas.openxmlformats.org/officeDocument/2006/relationships/hyperlink" Target="http://www.edebiyatogretmeni.net/victor_hugo.htm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edebiyatogretmeni.net/edebiyatimizda_ilkler.htm" TargetMode="External"/><Relationship Id="rId9" Type="http://schemas.openxmlformats.org/officeDocument/2006/relationships/hyperlink" Target="http://www.edebiyatogretmeni.net/semsettin_sami.htm" TargetMode="External"/><Relationship Id="rId10" Type="http://schemas.openxmlformats.org/officeDocument/2006/relationships/image" Target="../media/image1.png"/><Relationship Id="rId11" Type="http://schemas.openxmlformats.org/officeDocument/2006/relationships/hyperlink" Target="http://www.edebiyatogretmeni.net/namik_kemal.htm" TargetMode="External"/><Relationship Id="rId12" Type="http://schemas.openxmlformats.org/officeDocument/2006/relationships/hyperlink" Target="http://www.edebiyatogretmeni.net/intibah.htm" TargetMode="External"/><Relationship Id="rId13" Type="http://schemas.openxmlformats.org/officeDocument/2006/relationships/hyperlink" Target="http://www.edebiyatogretmeni.net/halit_ziya_usakligil.htm" TargetMode="External"/><Relationship Id="rId14" Type="http://schemas.openxmlformats.org/officeDocument/2006/relationships/hyperlink" Target="http://www.edebiyatogretmeni.net/mai_ve_siyah.htm" TargetMode="External"/><Relationship Id="rId15" Type="http://schemas.openxmlformats.org/officeDocument/2006/relationships/hyperlink" Target="http://www.edebiyatogretmeni.net/mai_ve_siyah.htm" TargetMode="External"/><Relationship Id="rId16" Type="http://schemas.openxmlformats.org/officeDocument/2006/relationships/image" Target="../media/image1.png"/><Relationship Id="rId17" Type="http://schemas.openxmlformats.org/officeDocument/2006/relationships/hyperlink" Target="http://www.edebiyatogretmeni.net/araba_sevdasi.htm" TargetMode="External"/><Relationship Id="rId18" Type="http://schemas.openxmlformats.org/officeDocument/2006/relationships/hyperlink" Target="http://www.edebiyatogretmeni.net/eylul.htm" TargetMode="External"/><Relationship Id="rId19" Type="http://schemas.openxmlformats.org/officeDocument/2006/relationships/hyperlink" Target="http://www.edebiyatogretmeni.net/mehmet_rauf.htm" TargetMode="External"/><Relationship Id="rId2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ebiyatogretmeni.net/halide_edip_adivar.htm" TargetMode="External"/><Relationship Id="rId3" Type="http://schemas.openxmlformats.org/officeDocument/2006/relationships/hyperlink" Target="http://www.edebiyatogretmeni.net/atesten_gomlek.htm" TargetMode="External"/><Relationship Id="rId4" Type="http://schemas.openxmlformats.org/officeDocument/2006/relationships/hyperlink" Target="http://www.edebiyatogretmeni.net/yaban.htm" TargetMode="External"/><Relationship Id="rId5" Type="http://schemas.openxmlformats.org/officeDocument/2006/relationships/hyperlink" Target="http://www.edebiyatogretmeni.net/resat_nuri_guntekin.htm" TargetMode="External"/><Relationship Id="rId6" Type="http://schemas.openxmlformats.org/officeDocument/2006/relationships/hyperlink" Target="http://www.edebiyatogretmeni.net/calikusu.htm" TargetMode="External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ebiyatogretmeni.net/yazarlar.ht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508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OMA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Sevcan ÖZD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Sultanahmet Anadolu Teknik, Teknik Lise ve Endüstri Meslek Lises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Müdür Yardımcıs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vert"/>
    <p:sndAc>
      <p:stSnd>
        <p:snd r:embed="rId2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OMA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rebuchet MS"/>
              </a:rPr>
              <a:t>Yaşanmış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rebuchet MS"/>
              </a:rPr>
              <a:t>ya da   yaşanabilir   olayları,  yer,  zaman,  çevre   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rebuchet MS"/>
              </a:rPr>
              <a:t>insan  unsurlarına   dayanarak,  geniş  bir  bakış  açısıy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rebuchet MS"/>
              </a:rPr>
              <a:t>anlatan  yazı  türüne 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roman</a:t>
            </a:r>
            <a:r>
              <a:rPr b="0" lang="en-US" sz="2800" spc="-1" strike="noStrike">
                <a:solidFill>
                  <a:srgbClr val="003300"/>
                </a:solidFill>
                <a:latin typeface="Trebuchet MS"/>
              </a:rPr>
              <a:t>  deni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ru"/>
    <p:sndAc>
      <p:stSnd>
        <p:snd r:embed="rId1" name="camera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 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ÖZELLİKLERİ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onusu  insan  ve   dünyadı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rçek   yaşamı  yansıtmaya    çalışı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lattığı   olay,  çevre   ve  kişiler, gerçek yaşamdan  alını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Olay  ve  kişileri  ayrıntılı  anlatma,   tahlil  ve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tasvirlere  çok  yer  verme,   bir  ana  olay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trafında   bir  çok  küçük  olaya yer  verme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bakımından   hikâye   türünden  ayrılı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arihsel Gelişimi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Verdana"/>
              </a:rPr>
              <a:t>Roman türünün ilk örneğini ilk defa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Verdana"/>
              </a:rPr>
              <a:t>XVI.  yüzyılda   İspanyol   yazar    Miguel  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Cervontes</a:t>
            </a:r>
            <a:r>
              <a:rPr b="0" lang="tr-TR" sz="2400" spc="-1" strike="noStrike">
                <a:solidFill>
                  <a:srgbClr val="ffffff"/>
                </a:solidFill>
                <a:latin typeface="Verdana"/>
              </a:rPr>
              <a:t> (Mişel dö Servantes) “Don Kişot”  adl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Verdana"/>
              </a:rPr>
              <a:t>eseriyle  vermişti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Verdana"/>
              </a:rPr>
              <a:t>XVII. yüzyılda Madema  de  La Fayette “Princesse  de  Clevs”  adlı  eseriyle  onu  takip  etmiş;  XIX.  yüzyılda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Verdana"/>
              </a:rPr>
              <a:t>gelişen  romantizm 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Verdana"/>
              </a:rPr>
              <a:t>realizm  akımları  bu  türün  de  gelişmesinde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Verdana"/>
              </a:rPr>
              <a:t>etkili  olmuştu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ürk  Edebiyatında daha önceleri  bu  türün yerini 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utan  </a:t>
            </a:r>
            <a:r>
              <a:rPr b="0" lang="tr-TR" sz="1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MESNEVİLER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  vardı.Batılı  anlamdaki  rom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ürü  bizde  önce  çevirilerle  başla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k  olarak  </a:t>
            </a:r>
            <a:r>
              <a:rPr b="0" lang="tr-TR" sz="18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Yusuf  Kâmil  Paşa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    Fransız  yazar 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Fenelon’dan“Telmaque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”adlı  eseri  çevirmiş; sonra  </a:t>
            </a:r>
            <a:r>
              <a:rPr b="0" lang="tr-TR" sz="18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Wictor</a:t>
            </a:r>
            <a:r>
              <a:rPr b="0" lang="tr-TR" sz="18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  Hugo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dan  “Sefiller”, Daniel Defo’dan “Robinsun  Crosoe” ve  Alexandre  Dumas‘dan “Monte   Criesto”   çevrilmişti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zde </a:t>
            </a:r>
            <a:r>
              <a:rPr b="0" lang="tr-TR" sz="18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 ilk  yerli  roma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ı  </a:t>
            </a:r>
            <a:r>
              <a:rPr b="0" lang="tr-TR" sz="18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Şemsettin  Sam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aaşşuk   u    Talat   ve  Fitnat  adlı  eseriyle   vermiştir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aha  sonra  </a:t>
            </a:r>
            <a:r>
              <a:rPr b="0" lang="tr-TR" sz="18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Namık  Kemal 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0" lang="tr-TR" sz="18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İntibah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 “ adlı eseriyle  ilk  edebi  roman  örneğini    </a:t>
            </a:r>
            <a:r>
              <a:rPr b="0" lang="tr-TR" sz="18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Halit   Ziya   Uşaklıgil 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0" lang="tr-TR" sz="1800" spc="-1" strike="noStrike" u="sng">
                <a:solidFill>
                  <a:srgbClr val="ffff99"/>
                </a:solidFill>
                <a:uFillTx/>
                <a:latin typeface="Verdana"/>
                <a:hlinkClick r:id="rId14"/>
              </a:rPr>
              <a:t>Mai</a:t>
            </a:r>
            <a:r>
              <a:rPr b="0" lang="tr-TR" sz="1800" spc="-1" strike="noStrike" u="sng">
                <a:solidFill>
                  <a:srgbClr val="ffff99"/>
                </a:solidFill>
                <a:uFillTx/>
                <a:latin typeface="Verdana"/>
                <a:hlinkClick r:id="rId15"/>
              </a:rPr>
              <a:t>  ve  SİYAH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 “la  ilk  modern  roman  örneğini  vermişlerdir.  Bunları  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tr-TR" sz="1800" spc="-1" strike="noStrike" u="sng">
                <a:solidFill>
                  <a:srgbClr val="ffff99"/>
                </a:solidFill>
                <a:uFillTx/>
                <a:latin typeface="Verdana"/>
                <a:hlinkClick r:id="rId17"/>
              </a:rPr>
              <a:t>Araba   Sevdası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 “  adlı  romanıyla Recaizade Mahmut Ekrem, “</a:t>
            </a:r>
            <a:r>
              <a:rPr b="0" lang="tr-TR" sz="1800" spc="-1" strike="noStrike" u="sng">
                <a:solidFill>
                  <a:srgbClr val="ffff99"/>
                </a:solidFill>
                <a:uFillTx/>
                <a:latin typeface="Verdana"/>
                <a:hlinkClick r:id="rId18"/>
              </a:rPr>
              <a:t>Eylül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”  adlı  romanıyla     </a:t>
            </a:r>
            <a:r>
              <a:rPr b="0" lang="tr-TR" sz="1800" spc="-1" strike="noStrike" u="sng">
                <a:solidFill>
                  <a:srgbClr val="ffff99"/>
                </a:solidFill>
                <a:uFillTx/>
                <a:latin typeface="Verdana"/>
                <a:hlinkClick r:id="rId19"/>
              </a:rPr>
              <a:t>Mehmet  Rauf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   takip  eder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lli Mücadele  döneminde  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Halide  Edip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  “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Ateşten Gömlek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“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Yakup Kadri Karaosmanoğlu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Y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aba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”;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Reşat  Nur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 , “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Çalıkuşu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”  romanlarıyla  bu  türü  mükemmele  ulaştırı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  <p:sndAc>
      <p:stSnd>
        <p:snd r:embed="rId7" name="chimes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OMAN ÇEŞİTLERİ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499"/>
              </a:spcBef>
              <a:buClr>
                <a:srgbClr val="ffff99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KONULARINA GÖ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1. Tarihi   Roman 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 Tarihteki  olay  ya  d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işileri  konu  alan  romanlardır.  Yazar  tarihi  gerçekleri 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endi  hayal   gücüyle  birleştirerek  anlatır.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2.Macera Romanı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ünlük hayatta  her  zaman  rastlanmayan,   şaşırtıcı,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ürükleyici,  esrarengiz olayları anlatan  romanlardı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rüven  Romanları”  da  denir.  Bir  araştırma  ve  izlemeyi  anlatan  “Polisiye Roman”  alışılmışın dışında  uzak  yerleri  ve   yaşamları    anlatan” Egzotik  Romanlar”  da  bu gruba )- gir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3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800000"/>
                </a:solidFill>
                <a:latin typeface="Verdana"/>
              </a:rPr>
              <a:t>3) Sosyal   Roman :</a:t>
            </a: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 İnsan  yaşamının sınırsız  kültür  birikimi  içinde  yer alan  ve insanı  derinden etkileyen  toplumsal, siyasi  olaylar, inançlar, gelenek ve görenekleri    bazen  eleştirisel,  bazen  de  bilimsel   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açıdan  ele  alıp   anlatan  romanlardı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800000"/>
                </a:solidFill>
                <a:latin typeface="Verdana"/>
              </a:rPr>
              <a:t>4)-  Psikolojik   Roman :  ( Tahlil  Romanı  )</a:t>
            </a: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 :   Dış  alemdeki  olaylardan   çok ,  kahramanların  iç  dünyasını,    ruh  hallerini  ele  alarak       kişilerin  toplumla  ilişkilerini,   bunların  birbirinden    nasıl  etkilendiklerini  anlatan  romanlardı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5)  </a:t>
            </a:r>
            <a:r>
              <a:rPr b="0" lang="tr-TR" sz="2000" spc="-1" strike="noStrike">
                <a:solidFill>
                  <a:srgbClr val="800000"/>
                </a:solidFill>
                <a:latin typeface="Verdana"/>
              </a:rPr>
              <a:t>Otobiyografik   Roman: </a:t>
            </a: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0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Yazar</a:t>
            </a: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ın  kendi  yaşamın  anlattığı  romanlardır.  Dünya  edebiyatında  Alfonse   Dode’nin 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Küçük    Şeyler”, bizim  edebiyatımızda:  Y.  Kadri   Karaosmanoğlu’nun 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Anamın  Kitabı “.  P.  Safa’nın  “Dokuzuncu  Hariciye  Koğuşu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bu türün örnekleridi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) KONULARIN  IŞLENİŞİNE  GÖRE  ROMANLAR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1 – Romantik  Roman: Romantik  akıma  uygun  olarak,  duygu  ve  hayallerin    ön  plânda  olduğu  romanlardır.(  İntibah”,   “Eylül”,   “Mai  Ve   Siyah”   gibi  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2 –Realist   Roman  : 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Gerçekçi  akıma  uygun   olarak  gözlem  ve  deneyimin duygu  ve  hayalden  daha  ön  plânda  olduğu  akımdır  İlk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örneği  R.  M.  Ekrem’in  “Araba  Sevdası “ adlı eseridir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Verdana"/>
              </a:rPr>
              <a:t>  </a:t>
            </a: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3 – Natüralist  Roman: 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Bilimsel  araştırmalara  bağlı  kalarak  kahramanlarını 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gözlemlerle  seçen  romanlardı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Verdana"/>
              </a:rPr>
              <a:t>www.edebiyatogretmeni.n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ru"/>
    <p:sndAc>
      <p:stSnd>
        <p:snd r:embed="rId3" name="type.wav"/>
      </p:stSnd>
    </p:sndAc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9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98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98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98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98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98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98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98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98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7:55:41Z</dcterms:created>
  <dc:creator>SEVCAN ÖZDEN</dc:creator>
  <dc:description/>
  <dc:language>en-US</dc:language>
  <cp:lastModifiedBy>user</cp:lastModifiedBy>
  <dcterms:modified xsi:type="dcterms:W3CDTF">2008-11-09T03:35:4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