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BD6-28C1-4D98-BFA5-6A4096A3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7EC-8662-4DC5-832D-847849C7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471-B66E-457D-B0B3-866FDC57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9E7-7DEB-4DE7-85E5-DB7E3D7D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D130-8213-4C23-A2EA-A4ACF78E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D893-39E1-446A-BA8A-2D120A31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763B-84EA-46DB-81C1-E9B9E2DC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510F-8931-4E2F-81B9-9DAC650E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7193-9E25-411E-BECC-B84B1102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EB05-DA3D-4628-B788-C3A27CD3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094-C2F9-40E0-A77C-7A7E6DF8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D91-1953-4870-B855-0550049F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0F24-0212-48C1-8D60-3032E71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2906-EEE9-40B5-8060-51A3F641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DB2C-05BF-4B79-BAF9-8741CDB7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9EB4-E75E-4267-9006-FB8A473C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0108-5AFF-4F05-9FB4-5C6634A4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3B3-0DCE-48B7-93A0-7A0EED71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C92-9437-4A9B-8482-645D60FC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477-DB2D-4629-80DB-83501675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97B-EFA5-407E-9D09-C7BCC590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677-250E-4E94-A622-227E090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7BA-C1B6-47A1-94F0-65FB12FE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947-9045-49DD-A61C-82F966B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C76F-462F-4FD0-983A-7F5049B7A0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6077-46A1-448D-9495-733B881B19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1417680"/>
            <a:ext cx="7324560" cy="33238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Sıfatlar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(Ön Adlar)</a:t>
            </a:r>
            <a:r>
              <a:rPr b="0" lang="en-US" sz="10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60320" y="508464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debiyatogretmeni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4365720"/>
            <a:ext cx="8353440" cy="2287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b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v,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şu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sokak,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yıllar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ötek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kapı,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diğ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lbise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berik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d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2720" y="299880"/>
            <a:ext cx="437616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)İşaret Sıfatlar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628640"/>
            <a:ext cx="73454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dları işaret yoluyla gösterip belirten bir sıfat çeşididir.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80000" y="4941720"/>
            <a:ext cx="30258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İşaret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ami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40464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İşaret sözcükleri, bir adın önüne gelerek onları işaret yoluyla gösterirs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şaret sıfatı; bir adın yerini tutacak biçimde kullanılırsa, işaret zamiri olur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500280"/>
            <a:ext cx="5508720" cy="64260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tabı ben de okudu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3500280"/>
            <a:ext cx="2808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İşaret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ıfat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0" y="4941720"/>
            <a:ext cx="5062320" cy="7034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On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en de okudu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5013360"/>
            <a:ext cx="8244000" cy="15562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İşt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bu adam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(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İşaret  sıfatının anlamını pekiştiri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76280"/>
            <a:ext cx="81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İş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 sözcüğü doğrudan işaret sıfatı olarak kullanılabileceği gib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 işaret sıfatının başına gelerek onun anlamını pekiştirebili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3789360"/>
            <a:ext cx="8209080" cy="6426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İşt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ep,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şt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şın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İşaret sıfatı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989000"/>
            <a:ext cx="9144000" cy="374976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7819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r adın önüne gelerek onu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ayı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ölçü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ikta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yönünden tam ve kesin olarak değil d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şağı yukarı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elli belirsiz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bir biçimde gösteren sıfat çeşididir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549360"/>
            <a:ext cx="5400720" cy="7642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) Belgisiz Sıfat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292640"/>
            <a:ext cx="7380360" cy="14346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Öğretmen,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nsana güvenilmeyeceğini söyledi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60280"/>
            <a:ext cx="8308800" cy="7034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irkaç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oruma cevap veremed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81000"/>
            <a:ext cx="8280360" cy="131292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irço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orunum var, hangisini çözecek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76640"/>
            <a:ext cx="8852040" cy="7034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Kim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san, artık böyle düşünmüy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924280"/>
            <a:ext cx="6986520" cy="7642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ütü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çocuklar güzeldi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645000"/>
            <a:ext cx="6762600" cy="7034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azl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l göz çıkarma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5302080"/>
            <a:ext cx="8315280" cy="1556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irkaç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kitap okumakla adam olunmaz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476280"/>
            <a:ext cx="8820000" cy="31413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!!!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rkaç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içb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rhang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raz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bi belgisiz sözcüklerinden sonra gele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lar çoğul eki almadan kullanılı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4076640"/>
            <a:ext cx="761364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nsan böyle düşünmez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42920" y="5302080"/>
            <a:ext cx="7667640" cy="1556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azı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çocuk ders çalışmayı sevmez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04640"/>
            <a:ext cx="8136000" cy="27752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>
                  <a:alpha val="9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ütü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im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z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” belgisiz sözcüklerinden sonra gel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lar tekil de çoğul da kullanılabili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68280" y="3429000"/>
            <a:ext cx="698220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ütü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ğaçlar çiçek açtı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66480" y="4281480"/>
            <a:ext cx="725508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Kim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kitaplar işe yaramaz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797360"/>
            <a:ext cx="914400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te yalnızc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oruyu çözememiş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620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i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 sözcüğü, bir adın önüne gelerek ona 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erhangi bi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 sözcüğünü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lamını katarsa 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elgisiz sıfattı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; “tek” anlamını katarsa, 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ayı sıfatı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l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64320" y="3157560"/>
            <a:ext cx="717912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ayram onu ziyaret edeli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2000" y="3860640"/>
            <a:ext cx="21801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lgisiz sıf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089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ayı sıfat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2852640"/>
            <a:ext cx="8207280" cy="2287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r adın önüne gelerek onu soru yoluyla gösterip belirten, bir sıfa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çeşidid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38200"/>
            <a:ext cx="5681880" cy="11912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) Soru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ıfatlar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268280"/>
            <a:ext cx="8604000" cy="42087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oru sıfatları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 adların özelliklerini, sayısını, yeriyle ilgili açıklamaları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oru yoluyla  gösteren bir sıfat çeşididir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4570560"/>
            <a:ext cx="8893080" cy="1556280"/>
          </a:xfrm>
          <a:prstGeom prst="rect">
            <a:avLst/>
          </a:prstGeom>
          <a:solidFill>
            <a:srgbClr val="010199"/>
          </a:solidFill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İy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nsan,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üç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çocuk,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ulanık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u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azı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kitaplar,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ang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..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333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Adların önüne gelerek onları çeşitli yönlerd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niteleyen ya da belirten sözlerdir.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5300640"/>
            <a:ext cx="655308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bası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iş yapıyormuş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6560" y="155520"/>
            <a:ext cx="6028560" cy="764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Nası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ir ev istiyormuş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7800" y="1557360"/>
            <a:ext cx="594180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ınıfta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kaç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öğrenci vardı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3040" y="2852640"/>
            <a:ext cx="604980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ay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hang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yoldan gidil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4076640"/>
            <a:ext cx="654372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ansör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kaçıncı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kata çıktı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476280"/>
            <a:ext cx="9144000" cy="52120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ru sözcükleri, bir adın önüne gelerek, onu soru yoluyla belirtirse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oru sıfatı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; bir adın yerini tutacak şekilde kullanılırsa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oru zamir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; bir eylemin önüne gelip onun anlamını pekiştirip sınırlarsa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oru zarfı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olur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3500280"/>
            <a:ext cx="9144000" cy="916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ralarda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ne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laşıyorsun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98920" y="228600"/>
            <a:ext cx="6525360" cy="764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Çocuk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şle uğraşıyo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1001880"/>
            <a:ext cx="20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oru sıfat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884240"/>
            <a:ext cx="7715160" cy="764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Çarşıdan sana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layım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2360" y="260820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oru zami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4724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oru zarf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4365720"/>
            <a:ext cx="8459640" cy="764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ng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kula gittiğini bilmiyoru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71280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ru sıfatları, her zaman cümleye soru anlamı vermez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2220840"/>
            <a:ext cx="639612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ng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kula gidiyormuş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9640" y="314172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Soru anlamı verir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4000" y="522288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Soru anlamı vermez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844640"/>
            <a:ext cx="9144000" cy="44809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yı adlarıyla sayı adlarından “-inci, -ar(-er), -ız(-iz)”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kleriyle türemiş sözcükler bir adın önüne gelerek, o adı, say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önünden gösterip belirtirse, sayı sıfatı olur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2720" y="322200"/>
            <a:ext cx="5046840" cy="91692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) Say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ıfatlar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628640"/>
            <a:ext cx="9144000" cy="301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yrıca, “ilk” ve “son” sözcükleri sıralama bildirdiği için adların önünde yer almaları halinde sayı sıfatı olur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31840" y="1413000"/>
            <a:ext cx="8912160" cy="3385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yı sözcükleri, aslında bir addır. Bunlar, bir adın önüne gelerek kullanılırsa, sıfat olma özelliği kazanır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645000"/>
            <a:ext cx="9144000" cy="2287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İk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kiş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yolda önünü kesmiş.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Sıfa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620640"/>
            <a:ext cx="5977080" cy="1434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İk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 bir doğal sayıdı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1640" y="5516640"/>
            <a:ext cx="2520720" cy="825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i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li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42120" y="465120"/>
            <a:ext cx="512316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sıl Sayı Sıfatlar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2133720"/>
            <a:ext cx="684216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ların sayısını göster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7960" y="3213000"/>
            <a:ext cx="3023280" cy="825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eş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kal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4365720"/>
            <a:ext cx="3181320" cy="9169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üç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çocu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92360" y="6021360"/>
            <a:ext cx="36003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kinc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ını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4720" y="322200"/>
            <a:ext cx="5781600" cy="916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ıra Sayı Sıfatlar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349360"/>
            <a:ext cx="8136000" cy="119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yı sözcüklerine ”-inci” eki getirilere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ara sıra anlamının verilmesidi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4520" y="4237200"/>
            <a:ext cx="3337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ördünc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k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4520" y="5084640"/>
            <a:ext cx="34513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üçünc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ka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8748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Örneklerde de görüldüğü gibi sıfatlar, bir adın önüne gelerek onu </a:t>
            </a: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niteleye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belirte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 çeşitli  yönlerden 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gösterip sınırlaya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bir sözcük çeşididir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32000" y="299880"/>
            <a:ext cx="6624720" cy="764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Üleştirme Sayı Sıfatlar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700280"/>
            <a:ext cx="770436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yılara “-ar, -er” ekinin getirilmesiyle onla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ylaştırma ve eşitlik anlamı veren bir sıfat çeşididi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0360" y="4646520"/>
            <a:ext cx="249408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kişer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720" y="4646520"/>
            <a:ext cx="211320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üz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720" y="4646520"/>
            <a:ext cx="252000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irer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b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4581360"/>
            <a:ext cx="8675640" cy="1739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yüzde ell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kar,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üçte bi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hata,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yüzde o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şans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404640"/>
            <a:ext cx="6481800" cy="916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Kesir Sayı Sıfatlar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2276640"/>
            <a:ext cx="7345440" cy="1434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ların kesir bildiren sayılarla gösterilmesidi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716360" y="5157720"/>
            <a:ext cx="4140360" cy="764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beşiz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bek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277920"/>
            <a:ext cx="691200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opluluk Sayı Sıfatlar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1557360"/>
            <a:ext cx="7777440" cy="301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yı sözcüklerine “-ız, -iz”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kinin getirilmesiyle onlara topluluk anlamı veren bir sıfat çeşididir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3640" y="5229360"/>
            <a:ext cx="3323160" cy="764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ikiz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çocuk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26920" y="836640"/>
            <a:ext cx="7274160" cy="4938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Arial"/>
              </a:rPr>
              <a:t>Yapılarına Göre Sıfatlar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4360" y="4076640"/>
            <a:ext cx="7705440" cy="1739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ki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ndal,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sk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yüzler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u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e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264960"/>
            <a:ext cx="4896000" cy="1008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asit Sıfatla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220840"/>
            <a:ext cx="8208720" cy="764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ök durumunda olan sıfatlardı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4869000"/>
            <a:ext cx="8459640" cy="1556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la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ık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su, bit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ki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yüzler, kapı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da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k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nöbetçi, su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uz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yaz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360" y="260280"/>
            <a:ext cx="5941440" cy="1008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üremiş Sıfatla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2276640"/>
            <a:ext cx="8424720" cy="1922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d ya da eylem tabanlarına çeşitli yapım eklerini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etirilmesi ile oluşan sıfatlardı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916280"/>
            <a:ext cx="8820000" cy="2775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rden çok sözcüğün, birleşmesinden oluşan sıfatlara yapıları yönünden bileşik sıfat deni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193680"/>
            <a:ext cx="6335640" cy="1008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ileşik Sıfatla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300640"/>
            <a:ext cx="9144000" cy="764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Bileşik sıfatlar iki grupta inceleni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1916280"/>
            <a:ext cx="8496000" cy="21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lam olarak bir tek kavramı gösterdiği için biçimce bileşik yazılan sıfatlardı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63960" y="522360"/>
            <a:ext cx="7009920" cy="703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Kaynaşmış Bileşik Sıfat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797360"/>
            <a:ext cx="6337440" cy="1312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yalınayak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çocuk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boşboğaz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adın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4000" y="2368440"/>
            <a:ext cx="8496000" cy="301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çimsel olarak ayrı yazılmalarına karşın belli bir kurala bağlı olarak anlamca kaynaşmış olan sıfatlardır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89200" y="412920"/>
            <a:ext cx="711936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. Kurallı Bileşik Sıfat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49280" y="2276640"/>
            <a:ext cx="8370720" cy="15562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urallı bileşik sıfatlar genel olarak şu yollarla yapılı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9548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20640"/>
            <a:ext cx="9144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r sözcüğün sıfat görevi kazanabilmesi için mutlaka bir adın ya da zamirin önüne gelerek onu nitelemesi ya da belirtmesi gereki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149720"/>
            <a:ext cx="813744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Sıfat tamlaması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sıfat tamlamas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üyük kapı-</a:t>
            </a:r>
            <a:r>
              <a:rPr b="0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lı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v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güzel göz-</a:t>
            </a:r>
            <a:r>
              <a:rPr b="0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lü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kı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ıfa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A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Sıfat        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1052640"/>
            <a:ext cx="7920000" cy="1739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 sıfat tamlamasında tamlanan durumundaki ad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lı, -li” ekinin getirilmesiy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8420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1620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3680" y="3110400"/>
            <a:ext cx="8699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Sıfat tamlamas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 yıl-lı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ekleyi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ıfat       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Sıfat tam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ki ay-lı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ü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ıfat    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404640"/>
            <a:ext cx="698508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yı sıfatlarıyla kurul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ıfat tamlamalarında tamlanan durumundaki a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lık, -lik ekinin getirilmesiy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87280" y="2924280"/>
            <a:ext cx="694872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akısız ad tamlaması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10199"/>
                </a:solidFill>
                <a:uFillTx/>
                <a:latin typeface="Arial"/>
              </a:rPr>
              <a:t>Mermer sütun-l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ar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ıf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620640"/>
            <a:ext cx="8281800" cy="17398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r takısız ad tamlamasında, tamlan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urumundaki ada “-lı, -li” ekinin getirilmesiyl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4724280"/>
            <a:ext cx="5372280" cy="17398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kısız ad tamlamas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deri mont-lu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çocu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ıfat              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260280"/>
            <a:ext cx="9144000" cy="231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r sıfat tamlamasında adla sıfatın yeri değiştiriler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a üçüncü tekil kişi iyelik eki   (-i, -si) getirmesiyle 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2781360"/>
            <a:ext cx="806436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yıkık duvar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duvar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ı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ıkık e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ıfat tamlamas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4581360"/>
            <a:ext cx="8352000" cy="131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ırık ca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ca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kırık pencere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ıfat tamlaması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476360" y="2565360"/>
            <a:ext cx="6012000" cy="4115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baba-dan kalma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e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Sıfat            Ad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El-den düşme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dol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Sıfat              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76280"/>
            <a:ext cx="8064360" cy="1922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Ayrılma (-den) durum eki almış bi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addan sonra kullanı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ad eylemler birleşik sıfat oluşturur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1268280"/>
            <a:ext cx="7777080" cy="44830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Sıfatlarla İlgili Özellikler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4937040"/>
            <a:ext cx="9144000" cy="1922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şi adlarının başında veya sonunda ya da hem başında hem de sonunda kullanılabilirl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277920"/>
            <a:ext cx="5513400" cy="7034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an (Unvan) Sıfat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628640"/>
            <a:ext cx="8569080" cy="314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Arial"/>
              </a:rPr>
              <a:t>İnsan adlarıyla birlikte kullanılı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Arial"/>
              </a:rPr>
              <a:t>İnsanların rütbe, derece ve sosyal durumların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Arial"/>
              </a:rPr>
              <a:t>göre onların adlarına eklenen saygı, tanıtma sözcükleridi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1268280"/>
            <a:ext cx="81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kir Sıtkı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e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amat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erit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aş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okto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hmet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e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fesö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İsmail Hakk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azi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sman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aş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3600" y="4797360"/>
            <a:ext cx="90504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iteleme sıfatları, iki şekilde pekiştirili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420840"/>
            <a:ext cx="6048720" cy="7642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ıfatlarda Pekiştir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0160" y="1916280"/>
            <a:ext cx="89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iteleme sıfatlarının anlamını güçlendirmek amacıyla onların pekiştirilmesidir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4437000"/>
            <a:ext cx="9144000" cy="1556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Te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iz ev,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be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yaz gömlek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zun boy, </a:t>
            </a: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ma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vi deniz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476280"/>
            <a:ext cx="889308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Niteleme sıfatındaki ilk ünlünü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onuna “</a:t>
            </a:r>
            <a:r>
              <a:rPr b="0" lang="en-US" sz="4800" spc="-1" strike="noStrike">
                <a:solidFill>
                  <a:srgbClr val="010199"/>
                </a:solidFill>
                <a:latin typeface="Arial"/>
              </a:rPr>
              <a:t>m,p,r,s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” ünsüzlerind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uygun olan birin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getirilmesi yoluyla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35280" y="2060640"/>
            <a:ext cx="5616360" cy="210492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Görevlerine Göre Sıfatla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16000" y="2421000"/>
            <a:ext cx="6480360" cy="277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ğri büğrü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yol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ırıl pırı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ili ufakl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aş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arı sar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lira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95640" y="1125360"/>
            <a:ext cx="453708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İkileme yoluyla 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2205000"/>
            <a:ext cx="9144000" cy="436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teleme sıfatlarının sonun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cik, -cek, -ce, (-i)msi ve (-i)mtrak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klerinden uygun olan birinin getirilmesiy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arın anlamlarında ve derecelerinde bir azalma ve daralmanın meydana gelmesidi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765000"/>
            <a:ext cx="5688000" cy="7642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ıfatlarda Daral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1413000"/>
            <a:ext cx="9144000" cy="344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üyü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üyüğe yakı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lı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kita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lın gibi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üksek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ç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ep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ükseğe yakı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s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ib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ıya yakı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ızıl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ımtra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hav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ızıla yakı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16000" y="4941720"/>
            <a:ext cx="6732720" cy="164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Tamlayan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Tamlan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Sıfat             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404640"/>
            <a:ext cx="5780160" cy="82512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Sıfat Tamlamalar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1700280"/>
            <a:ext cx="8675640" cy="27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ıfatların, adları nitelemesi veya belirtmesiyle oluşmu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öz gruplarına sıfat tamlaması deni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42920" y="2924280"/>
            <a:ext cx="6985080" cy="37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amlay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amlan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Engi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deni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Sessiz sedasız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t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İşe yaramaz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şya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Bazı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insan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Bu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fik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692280"/>
            <a:ext cx="8424720" cy="1922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ıfat tamlamalarında sıfat tamlaya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up önce, ad tamlanan olup sonra gel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2852640"/>
            <a:ext cx="8748720" cy="3141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Uzun boylu esm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çocu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Tamlay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Tamlan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Kırmızı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lbise, ayakkabı ve çant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Tamlaya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Tamlan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ıfat tamlamalarında, tamlayan ya 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mlanan birden çok kullanılabili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8921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Yeşi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</a:rPr>
              <a:t>köşkün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 lambası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y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çocuğun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</a:rPr>
              <a:t>masmavi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öz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n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Karel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yatak örtüs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ıfat            B.siz ad 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B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yaz gün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ıfat          B.siz ad 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ıfatlar, bir ad tamlamasında tamlay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a da tamlanan görevinde kullanılabil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1844640"/>
            <a:ext cx="9144000" cy="436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r niteleme veya sayı sıfatı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ümlede bir adın önüne gelmezse ya da çoğul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amlama ve ad durum eklerinden biriyle çekimlenmiş olarak kullanılırsa, tür yönünden adlaşı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unlara adlaşmış sıfat deni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47640" y="284040"/>
            <a:ext cx="6188400" cy="7642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ıfatların  Adlaşmas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00000" y="5445000"/>
            <a:ext cx="7272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mutsuzl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başarılı olama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0000" y="549360"/>
            <a:ext cx="5256360" cy="106884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Yaşl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da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ayağa kalkt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ıfat  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2205000"/>
            <a:ext cx="44751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aşlı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ayağa kalktı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3645000"/>
            <a:ext cx="75614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Umutsuz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sanlar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başarılı olamaz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ıfat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042920" y="2349360"/>
            <a:ext cx="6265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.Zeki YOLLU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2106000" y="4960800"/>
            <a:ext cx="35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www.edebiyatogretmeni.net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12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2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4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349360"/>
            <a:ext cx="9144000" cy="420876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r adın önüne gelerek onu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durum,renk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ve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içim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yönünden gösteren onu çeşitli özellikleriyle belirleyen bir sıfat çeşididir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565200"/>
            <a:ext cx="5246640" cy="82512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iteleme Sıfatlar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365720"/>
            <a:ext cx="7777080" cy="1556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66"/>
                </a:solidFill>
                <a:uFillTx/>
                <a:latin typeface="Arial"/>
              </a:rPr>
              <a:t>uzu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boy, </a:t>
            </a:r>
            <a:r>
              <a:rPr b="1" lang="en-US" sz="4800" spc="-1" strike="noStrike" u="sng">
                <a:solidFill>
                  <a:srgbClr val="ffcc66"/>
                </a:solidFill>
                <a:uFillTx/>
                <a:latin typeface="Arial"/>
              </a:rPr>
              <a:t>da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giysi,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66"/>
                </a:solidFill>
                <a:uFillTx/>
                <a:latin typeface="Arial"/>
              </a:rPr>
              <a:t>geniş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lo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içim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25520"/>
            <a:ext cx="7920000" cy="143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mavi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ömlek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iyah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ntolon, </a:t>
            </a:r>
            <a:r>
              <a:rPr b="1" lang="en-US" sz="4400" spc="-1" strike="noStrike" u="sng">
                <a:solidFill>
                  <a:srgbClr val="b2b2b2"/>
                </a:solidFill>
                <a:uFillTx/>
                <a:latin typeface="Arial"/>
              </a:rPr>
              <a:t>gri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lutl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n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2421000"/>
            <a:ext cx="7705800" cy="1434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çalışka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öğrenci, 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yaşlı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m, </a:t>
            </a:r>
            <a:r>
              <a:rPr b="1" lang="en-US" sz="4400" spc="-1" strike="noStrike" u="sng">
                <a:solidFill>
                  <a:srgbClr val="00ff00"/>
                </a:solidFill>
                <a:uFillTx/>
                <a:latin typeface="Arial"/>
              </a:rPr>
              <a:t>solgun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üzl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uru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989000"/>
            <a:ext cx="9144000" cy="420876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dların önüne gelerek onları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şare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elgisizlik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oru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ve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ayı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yönünden gösterip belirten bir sıfat çeşididir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9080" y="660240"/>
            <a:ext cx="4624560" cy="76428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irtme Sıfatlar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07920"/>
            <a:ext cx="9144000" cy="3477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Belirtme sıfatları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 adları belirtmedeki farklılıkların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öre kendi içinde dört ana gruba ayrılarak incelenir </a:t>
            </a: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0:29:24Z</dcterms:created>
  <dc:creator>Umur Yollu</dc:creator>
  <dc:description/>
  <dc:language>en-US</dc:language>
  <cp:lastModifiedBy>user</cp:lastModifiedBy>
  <dcterms:modified xsi:type="dcterms:W3CDTF">2008-10-12T10:05:47Z</dcterms:modified>
  <cp:revision>18</cp:revision>
  <dc:subject/>
  <dc:title>Slayt 1</dc:title>
</cp:coreProperties>
</file>