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F9B8-31A5-47A6-AC7E-2DC0A7C193D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1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BAAF8-5433-428D-9090-971409E6B5BB}"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4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11C79-9C5D-4017-8308-AB6432A22131}"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4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7267F-134B-4D29-AB35-626C88EBBACB}"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5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53B16-AD68-4AD1-B1DD-7B77D6431200}"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5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A16DC-39D4-46B1-B87C-E44C120E715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5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86A3D-D8EF-4063-958A-407787DD0331}"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6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C3E6A-BDBC-41FC-85B8-BDC462674735}"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6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23632-8FC1-45AD-AE34-9C571A07026C}"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6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42B6C-D115-4762-8BDA-DCF07899DA1E}"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6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75E96-77A1-4CB4-978F-FA93923B6F6F}"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7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C4892-20DF-4A41-A85F-945903ED6181}"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2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B813D-B78E-4F1C-BAFC-80DB31772794}"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7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10193-3939-4215-89E8-8223E852939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7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A49A0-F425-4E20-AAD5-326FDD231B3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8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CB3F4-FEE2-4055-A607-25A9CB9575B2}"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8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F1F5A-1AA8-44C7-9241-DAA764097D65}"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8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23A9F-D851-414A-A089-34C70FD8A27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9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25A42-D7DA-4B65-96F4-7AB5BF2F2D4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9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B2AF9-16AD-44BE-8D7A-58B70400D6B4}"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9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99B80-83B3-404E-BB01-141DF837C118}"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9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1DCE0-D661-4AE9-BA7A-1FEA460985DE}"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50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85F0C-52BB-4A1B-A43B-06468323D53C}"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2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6566-B334-49D4-BD6C-D85606CE53C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50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20A9B-4B30-40F3-8D86-A6BBC243E760}"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50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0ADBB-5D3E-432A-B676-EFB9E2CBBE2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51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5EC99-D6E4-422A-81AB-C3B2B0CF9802}"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51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FE4F8-B741-4F55-81AB-E7780E8C005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51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39514-C1E6-4EB7-9AD1-95A2E38F0534}"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52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0B00D-3EFF-4DCD-B7F7-6A5C42E9A2B5}"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52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0E46-1AB2-482E-9086-B8FD5D5C336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52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1B187-39DC-4EA5-9736-6578D411E3F0}"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52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DC955-4316-42B6-A2EC-21F32AE698A8}"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5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D74DD-0E27-4EF1-9D8B-4EE9ED41842B}"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2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DF3DF-A0EA-4791-BE7B-BA1773E772CF}"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5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BD4BF-961F-4728-8329-2E4F66DAB2C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5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CB19C-782F-4907-9D2A-72AF085D73CA}"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54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30EB6-365F-492A-BA2A-B1C627373EDE}"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54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1E8FC-0074-4186-9756-7230E3FFD2E0}"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54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EFF1A-DBC3-47CF-B54B-F88EA946B8A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55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F822A-6569-4F38-8E85-25451592E36A}"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55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D60BB-1E02-4E15-9C36-422593F27FB9}"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55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AADFA-1DF6-4D7B-BD83-A618562461B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55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6D86C-E6ED-4488-8C14-BBA4B5284B79}"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56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0D5CF-619F-4D9E-836E-CB7CDC61EA92}"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3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CAFE6-D1D7-4E11-BBBE-73EE121A2BF1}"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5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698BF-8F25-4E97-AAE6-A1D020B441B6}"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56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B946C-E05E-4BCD-A284-72DF17F78A00}"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57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7B040-42C6-405D-A0F9-B358006E1EF1}"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57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C4EF9-B1DE-4367-B5B9-E472AB5DF216}"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57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12CCA-362F-4471-9430-0D078A81BE86}"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58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DBD73-7268-43FC-AAFE-893494ABB548}"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58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EB9EB-AC17-4FB3-ABB7-54AF625C7078}"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3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6C96-87F1-4962-85A3-6C3EE9E72A48}"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3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AD00-CF4C-4044-AA43-701C97A4EEEF}"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3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B07EF-6FCB-49A4-A448-F9E49DA0577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44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32042-4C16-4162-80E4-FB9F584B9A6A}"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72942A-DB76-4F52-8F8C-E61CD29CF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66951-0741-4F23-BAA0-69D2AE60E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3C764-1F4C-438E-B750-2A9347A00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48F82-7ED9-4864-9457-FBDBBD8B0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2A474E-5275-4FD6-9907-7C6ADDA6E0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7BDC9-E005-473B-A8FE-503BE5403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4E72CC-28EF-4576-9550-410051F21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E7EBD3-B5C9-462A-9C8D-3C0B43753A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89E22E-2BEA-468E-8E06-DCD543832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0BB6E-FCB8-4E7E-B294-13D8C94AB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A577A-948E-4CF5-9139-887CB5065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587BC-C98C-41D3-BCC2-6F35BD856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B951F-2FEB-4AE9-BB96-CA0A7E2D1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19B7C-ADFD-455B-962C-7A9F742FB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4A8F0-08AD-4B7A-9915-44AC4468D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C00DCE-3C02-4E1B-AF6E-7E768CBB39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C164F6-CA74-4BF6-9A10-91F069A4FE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328339B-2C85-4D01-BF06-51C9730A2C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478708B-6A07-4015-8DD6-160A13B21A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DF8924A-C49A-40BF-AEE2-5314DDCDA2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A8A1F11-D186-4B39-81EE-D9CDF0BB04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B082BFE-05A5-49A9-A02A-FE66B6033B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BEAD1-34D8-4847-92A7-B626BFFC4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13A40A5-BFC2-406D-A3D9-07A3EB803F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0D29639-C8C2-42CC-B272-E94FAAEFDB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AEC0203-9B64-4D4A-8CF4-B1938876A5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EB6BE1E-6B7B-4221-A9E2-8A36D37904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23143C3-936D-4AC6-B7F7-B8A5E0C242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4A1EADA-DE35-493D-8395-3BAC54165A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2025980-1D66-49DC-8C3C-15D1A0512D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03C617-0DF4-4F5E-A128-08F1F81D09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01E364-375F-49EF-ABBA-CB59D264ED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11A0CE-1CE7-4623-9074-6D8B3EAB73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8553A-7B39-4A07-972B-D1F2DA2E4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A7AA05-1A49-4A4A-B71A-C58BB62D96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482692-7BF6-42FF-870E-7CE1640C40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0DB064-86AC-4B4F-BD9E-A254E358A6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ECA333-C042-4E9E-BC56-1DEBE28B0F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D1C182-7BB6-4085-8F0B-EDEA268D6F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604EDD-FF16-4219-B2D3-A567B9264E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683F62-C55D-48D8-A6E4-6230FE346B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BE1580-5A11-44A1-9878-FF22991FDE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3C900D-8D32-429F-93E5-4C20BEB9A2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8C092EE-09DA-45D2-9B06-73B64291EE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06373-B195-4FD8-9173-C93C9B712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F3A6D32-61DD-4264-8654-380D8679E3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D295B0D-C6F1-460C-921A-322AFA6E5B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A84646B-38C4-4AC9-A429-E6422D5650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C99C70F-8860-41A1-9F55-62AD2DF17B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93046E5-76E3-4251-AD08-4274D976FE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A2D35E0-6A87-403B-92B7-3E589D2761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94F089B-3993-4F12-A338-4314F8AC31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C60CA62-63FD-4499-8805-DA4658295C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5EEDC55-3514-447B-87D6-02F834998F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BF07DC6-F51C-4572-92FB-89620208EB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79842-4A4D-46E6-AEE7-EC013ED2D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EAD2CDE-4A35-4D8F-BBA3-B46BD62774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0B0FB7D-DB47-49D7-BC75-68FF6565F5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F13C118-73B7-462E-BD19-8C886609B5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B5B6A8F-2FF9-44A2-AB46-D95AEBCAA1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8DCAB76-543F-42A6-979D-8AA40F8122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211D995-38B5-44D9-AF6C-127F642A7E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1629BAD-AEB5-4F4B-B7AC-1B4FF009FF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03B9665-9CCA-4D6E-9043-AF214DEA61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7A46DD6-3159-47CF-85D1-7FBBFB1197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D76FCD4-DCA4-4A0F-BFB9-416F943E80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8FB28-7E32-4EFA-9FF8-78F93162B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BD41435-48FD-44E9-97DD-C957AF83C2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DD0471C-F237-40DD-A4BB-C870B522F5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013ECA5-F4BA-434F-8632-6D20091D00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C475EC7-8F55-4338-83E4-8FC4A29854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195B545-DD42-4454-B1D2-87BB0FFB28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00B48E3-F9FC-406E-A682-B25FC1A414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3064C5D-AA47-4522-827C-45F1D675AE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C84C0CA-F966-4004-AE8F-8E312487FE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34F79D9-45ED-4C55-8BE4-7BE4053458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F3A1EA2-1EEC-4351-A370-5699B0A7C9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D6571-1677-485D-9589-2B4A482F5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2C1B0A8-BB42-4E0E-8F07-0E3F78934F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8CC9187-4139-4486-A5EF-F1E29D4165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61B0F5A-3648-45AB-8C42-88C60CE4AB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2F019BE-D719-4495-8CD9-753A50AA71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8A8BA74-4338-4A51-BA5E-6C9CE60FD1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00699-DBC6-4B46-A057-876016DBB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Düz Bağlayıcı"/>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Düz Bağlayıcı"/>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Düz Bağlayıcı"/>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Dikdörtgen"/>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Düz Bağlayıcı"/>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Oval"/>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78DCC-BDA1-49E4-BC28-F64D50D9E865}" type="slidenum">
              <a:rPr b="1" lang="tr-T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4 Dikdörtgen"/>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6 Dikdörtgen"/>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7 Dikdörtgen"/>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8 Dikdörtgen"/>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9 Düz Bağlayıcı"/>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20 Düz Bağlayıcı"/>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3 Düz Bağlayıcı"/>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4 Düz Bağlayıcı"/>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5 Düz Bağlayıcı"/>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6 Düz Bağlayıcı"/>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7 Dikdörtgen"/>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8 Oval"/>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9 Oval"/>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30 Oval"/>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1 Oval"/>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2 Oval"/>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9144B-F4BD-4C62-A306-02A7543973B8}" type="slidenum">
              <a:rPr b="1" lang="tr-T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Düz Bağlayıcı"/>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Düz Bağlayıcı"/>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Düz Bağlayıcı"/>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Dikdörtgen"/>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Düz Bağlayıcı"/>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Oval"/>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99122-4AD4-45CE-B8B7-48CBC20A82DE}" type="slidenum">
              <a:rPr b="1" lang="tr-T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4 Dikdörtgen"/>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6 Dikdörtgen"/>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7 Dikdörtgen"/>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8 Dikdörtgen"/>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9 Düz Bağlayıcı"/>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20 Düz Bağlayıcı"/>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3 Düz Bağlayıcı"/>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4 Düz Bağlayıcı"/>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5 Düz Bağlayıcı"/>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6 Dikdörtgen"/>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7 Oval"/>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8 Oval"/>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9 Oval"/>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30 Oval"/>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1 Oval"/>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2 Düz Bağlayıcı"/>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FC148-23FC-4EEE-BB06-DC6B31384B72}" type="slidenum">
              <a:rPr b="1" lang="tr-T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Düz Bağlayıcı"/>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Düz Bağlayıcı"/>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Düz Bağlayıcı"/>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Dikdörtgen"/>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Düz Bağlayıcı"/>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Oval"/>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D86C9-66B7-40B1-9E5E-E5209D1FDB12}" type="slidenum">
              <a:rPr b="1" lang="tr-T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4 Düz Bağlayıcı"/>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6 Düz Bağlayıcı"/>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7 Düz Bağlayıcı"/>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8 Düz Bağlayıcı"/>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9 Dikdörtgen"/>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20 Düz Bağlayıcı"/>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3 Oval"/>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70752-B572-4D34-B4C3-D2D2C1215FF4}" type="slidenum">
              <a:rPr b="1" lang="tr-T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4 Düz Bağlayıcı"/>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6 Oval"/>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7 Düz Bağlayıcı"/>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8 Dikdörtgen"/>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9 Düz Bağlayıcı"/>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20 Düz Bağlayıcı"/>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3 Düz Bağlayıcı"/>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FE3CB-8000-4EC8-BF15-91D101185E40}" type="slidenum">
              <a:rPr b="1" lang="tr-T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edebiyatogretmeni.net/"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Century Schoolbook"/>
              </a:rPr>
              <a:t>KİMDİR BU?</a:t>
            </a:r>
            <a:endParaRPr b="0" lang="en-US" sz="30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entury Schoolbook"/>
              </a:rPr>
              <a:t>HALK VE DİVAN EDEBİYATI</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d2611c"/>
                </a:solidFill>
                <a:uFillTx/>
                <a:latin typeface="Century Schoolbook"/>
                <a:hlinkClick r:id="rId1"/>
              </a:rPr>
              <a:t>www.edebiyatogretmeni.net</a:t>
            </a:r>
            <a:r>
              <a:rPr b="1" lang="tr-TR" sz="1800" spc="-1" strike="noStrike">
                <a:solidFill>
                  <a:srgbClr val="ff0000"/>
                </a:solidFill>
                <a:latin typeface="Century Schoolbook"/>
              </a:rPr>
              <a:t>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457200" y="456840"/>
            <a:ext cx="8229600" cy="566892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t>
            </a:r>
            <a:r>
              <a:rPr b="0" lang="tr-TR" sz="2400" spc="-1" strike="noStrike">
                <a:solidFill>
                  <a:srgbClr val="000000"/>
                </a:solidFill>
                <a:latin typeface="Century Schoolbook"/>
              </a:rPr>
              <a:t>Kayseri kadısı Şemsettin Mehmet’in oğludur. Babasının görevi nedeniyle Kahire ve Halep’te bulunu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İslami ilimlerin yanı sıra astronomi, tıp eğitimi görü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Babasının ölümü üzerine Kayseri kadısı olur. Bölgesindeki iç karışıklıklardan yararlanarak kendini Sivas’ta sultan ilan eder. Akkoyunlularla yapılan savaşta tutsak düşer ve öldürülür. Şiirlerinde Azeri Türkçesin özellikleri görülür. Eserlerinde aşk ve kahramanlık temalarının yanında tasavvufa da yer vermişti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entury Schoolbook"/>
              </a:rPr>
              <a:t>KADI BURHANETTİ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57200" y="456840"/>
            <a:ext cx="8229600" cy="5668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a:t>
            </a:r>
            <a:r>
              <a:rPr b="0" lang="tr-TR" sz="2800" spc="-1" strike="noStrike">
                <a:solidFill>
                  <a:srgbClr val="000000"/>
                </a:solidFill>
                <a:latin typeface="Century Schoolbook"/>
              </a:rPr>
              <a:t>Şair, dönemindeki aksaklıkları ele almış, bazı yöneticileri yerden yere vurmuştur.</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 </a:t>
            </a:r>
            <a:r>
              <a:rPr b="0" lang="tr-TR" sz="2800" spc="-1" strike="noStrike">
                <a:solidFill>
                  <a:srgbClr val="000000"/>
                </a:solidFill>
                <a:latin typeface="Century Schoolbook"/>
              </a:rPr>
              <a:t>Halk şiirine hicivle mizah karışımı değerli örnekler kazandırmıştır.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Edebiyatımızda başarılı taşlamalar söylemiştir.</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 </a:t>
            </a:r>
            <a:r>
              <a:rPr b="0" lang="tr-TR" sz="2800" spc="-1" strike="noStrike">
                <a:solidFill>
                  <a:srgbClr val="000000"/>
                </a:solidFill>
                <a:latin typeface="Century Schoolbook"/>
              </a:rPr>
              <a:t>Aruzla da yazmakla birlikte, gerçek kişiliği hece ile yazdığı koşma, nefes, destan semai, devriye tarzındaki şiirlerinde görülür.”</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Schoolbook"/>
              </a:rPr>
              <a:t>SEYRANİ</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6840" y="380520"/>
            <a:ext cx="8458200" cy="574524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t>
            </a:r>
            <a:r>
              <a:rPr b="0" lang="tr-TR" sz="2400" spc="-1" strike="noStrike">
                <a:solidFill>
                  <a:srgbClr val="000000"/>
                </a:solidFill>
                <a:latin typeface="Century Schoolbook"/>
              </a:rPr>
              <a:t>Divan şiirinin ilk büyük şairi olarak kabul edilir. Nahçivan seferinden dönen Kanuni’ye bir kaside sunar ve padişahın ilgisini çeker. Zati’yi örnek olarak başladığı şiirinde kendi kişiliğini bulduktan sonra devlet işlerinde çeşitli görevler yapar. Kanuni’in ölümü üzerine Divan şiirinin içtenlik dolu en güzel mersiyelerinden birini yazar. Ölçü ve uyakları kullanışta kendine kadar gelen şairleri ve çağdaşlarını aşmıştı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Şiir dili içine İstanbul Türkçesini, deyimler, halk söyleyişlerini yerleştirmiştir. Yabancı sözcük ve tamlamaları bol kullanmıştır. Özellikle kasidelerinde ve Kanuni mersiyesinde kullandığı dil daha da ağırdı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entury Schoolbook"/>
              </a:rPr>
              <a:t>BAKİ</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57200" y="380880"/>
            <a:ext cx="8229600" cy="556272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a:t>
            </a:r>
            <a:r>
              <a:rPr b="0" lang="tr-TR" sz="2800" spc="-1" strike="noStrike">
                <a:solidFill>
                  <a:srgbClr val="000000"/>
                </a:solidFill>
                <a:latin typeface="Century Schoolbook"/>
              </a:rPr>
              <a:t>Erzurum ve Trabzon medreselerinde okuduktan sonra İstanbul’a gelir. Bir süre sonra devlet memurluğu yapar.</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 </a:t>
            </a:r>
            <a:r>
              <a:rPr b="0" lang="tr-TR" sz="2800" spc="-1" strike="noStrike">
                <a:solidFill>
                  <a:srgbClr val="000000"/>
                </a:solidFill>
                <a:latin typeface="Century Schoolbook"/>
              </a:rPr>
              <a:t>Divan edebiyatından etkilenerek aruzu da kullanan bu XIX. yüzyıl ozanı Divan sahibidir ve bu Divan’ını saraya takdim etmiştir. </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Asıl ürünü hece ile yazdığı fakat divanına almadığı yergi ve taşlamalarıyla sağlamıştır.</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 </a:t>
            </a:r>
            <a:r>
              <a:rPr b="1" lang="tr-TR" sz="2800" spc="-1" strike="noStrike">
                <a:solidFill>
                  <a:srgbClr val="000000"/>
                </a:solidFill>
                <a:latin typeface="Century Schoolbook"/>
              </a:rPr>
              <a:t>Sergüzeştname’</a:t>
            </a:r>
            <a:r>
              <a:rPr b="0" lang="tr-TR" sz="2800" spc="-1" strike="noStrike">
                <a:solidFill>
                  <a:srgbClr val="000000"/>
                </a:solidFill>
                <a:latin typeface="Century Schoolbook"/>
              </a:rPr>
              <a:t>nin dışında nesirlerini topladığı </a:t>
            </a:r>
            <a:r>
              <a:rPr b="1" lang="tr-TR" sz="2800" spc="-1" strike="noStrike">
                <a:solidFill>
                  <a:srgbClr val="000000"/>
                </a:solidFill>
                <a:latin typeface="Century Schoolbook"/>
              </a:rPr>
              <a:t>Kitab-ı Hikâye-i Garibe</a:t>
            </a:r>
            <a:r>
              <a:rPr b="0" lang="tr-TR" sz="2800" spc="-1" strike="noStrike">
                <a:solidFill>
                  <a:srgbClr val="000000"/>
                </a:solidFill>
                <a:latin typeface="Century Schoolbook"/>
              </a:rPr>
              <a:t> adlı yapıtı da vardır.”</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Schoolbook"/>
              </a:rPr>
              <a:t>BAYBURTLU ZİHNİ</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609480"/>
            <a:ext cx="8229600" cy="4525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Edebiyatımızın ilk mizah ve hiciv şairi sayılır. Çağdaşlarına yönelttiği yergilerle çağının nefret edilen ozanı da olmuştur. Kendi yaşamı da bu yüzden sona ermişti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entury Schoolbook"/>
              </a:rPr>
              <a:t>NEFİ</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04920" y="304560"/>
            <a:ext cx="8229600" cy="556236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t>
            </a:r>
            <a:r>
              <a:rPr b="0" lang="tr-TR" sz="2400" spc="-1" strike="noStrike">
                <a:solidFill>
                  <a:srgbClr val="000000"/>
                </a:solidFill>
                <a:latin typeface="Century Schoolbook"/>
              </a:rPr>
              <a:t>XVI. yüzyıl tasavvuf şairlerindendir. Sivas’ta yaşamıştır. Hayatı efsanelere konu olmuştu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Kanuni zamanında, Doğu Anadolu’da patlak veren bir isyana katılmış ve bu isyana ilişkin izlenimlerine şiirlerinde yer vermişti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Hızır Paşa tarafından Sivas’ta idam ettirilmişti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Son derece lirik şiirleri ve yalın bir halk dili vardı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 </a:t>
            </a:r>
            <a:r>
              <a:rPr b="0" lang="tr-TR" sz="2400" spc="-1" strike="noStrike">
                <a:solidFill>
                  <a:srgbClr val="000000"/>
                </a:solidFill>
                <a:latin typeface="Century Schoolbook"/>
              </a:rPr>
              <a:t>Okuryazar olmadığından, şiirlerinde yalnızca hece ölçüsünü kullanmıştı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Din dışı konularda söylenmiş şiirleri de çoktu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entury Schoolbook"/>
              </a:rPr>
              <a:t>PİR SULTAN ABDAL</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04560" y="762120"/>
            <a:ext cx="8381880" cy="53640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t>
            </a:r>
            <a:r>
              <a:rPr b="0" lang="tr-TR" sz="2400" spc="-1" strike="noStrike">
                <a:solidFill>
                  <a:srgbClr val="000000"/>
                </a:solidFill>
                <a:latin typeface="Century Schoolbook"/>
              </a:rPr>
              <a:t>XI. yüzyılın sonlarında Batı Türkistan’da doğdu. Çocuk yaşlarında anne ve babasını kaybetti ve Yesi şehrine geldi.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Tasavvuf yoluna girdi ve ölünceye kadar bu yolda vasıflı insan yetiştirmek için çaba sarf etti.</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 </a:t>
            </a:r>
            <a:r>
              <a:rPr b="0" lang="tr-TR" sz="2400" spc="-1" strike="noStrike">
                <a:solidFill>
                  <a:srgbClr val="000000"/>
                </a:solidFill>
                <a:latin typeface="Century Schoolbook"/>
              </a:rPr>
              <a:t>Kurduğu tarikatla Orta Asya’da  etkin olduğu gibi Anadolu’nun Türkleşmesinde ve İslamlaşmasında önemli rolü oldu.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Türk Tasavvuf Edebiyatımızın öncüsü ve kurucusu olarak kabul edilir. Hece vezni ile yazdığı didaktik bir divanı vardı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entury Schoolbook"/>
              </a:rPr>
              <a:t>HOCA AHMET YESEVİ</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609480"/>
            <a:ext cx="8229600" cy="551664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a:t>
            </a:r>
            <a:r>
              <a:rPr b="0" lang="tr-TR" sz="2800" spc="-1" strike="noStrike">
                <a:solidFill>
                  <a:srgbClr val="000000"/>
                </a:solidFill>
                <a:latin typeface="Century Schoolbook"/>
              </a:rPr>
              <a:t>Toplumcu, didaktik şiirleri vardır. Kötüleri, fakirliği, mevki düşkünlüğünü eleştirir. Bunlara çözüm önerir.</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 </a:t>
            </a:r>
            <a:r>
              <a:rPr b="0" lang="tr-TR" sz="2800" spc="-1" strike="noStrike">
                <a:solidFill>
                  <a:srgbClr val="000000"/>
                </a:solidFill>
                <a:latin typeface="Century Schoolbook"/>
              </a:rPr>
              <a:t>Şiir ile düşünceyi birleştirir. Hikmetli sözlere, atasözlerine yer vermiştir.</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 </a:t>
            </a:r>
            <a:r>
              <a:rPr b="0" lang="tr-TR" sz="2800" spc="-1" strike="noStrike">
                <a:solidFill>
                  <a:srgbClr val="000000"/>
                </a:solidFill>
                <a:latin typeface="Century Schoolbook"/>
              </a:rPr>
              <a:t>Akıcı bir dili vardır. 17. yüzyılda yaşamıştır.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Hayrabad, Hayriyye, Tuhfet-ül Haremeyn, Divan, Surname eserlerinden bazılarıdır.”</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Schoolbook"/>
              </a:rPr>
              <a:t>NABİ</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456840"/>
            <a:ext cx="8229600" cy="566892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a:t>
            </a:r>
            <a:r>
              <a:rPr b="0" lang="tr-TR" sz="2800" spc="-1" strike="noStrike">
                <a:solidFill>
                  <a:srgbClr val="000000"/>
                </a:solidFill>
                <a:latin typeface="Century Schoolbook"/>
              </a:rPr>
              <a:t>15. yüzyıl Bektaşi şairlerindendir. Asıl adı Gaybi’dir.</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 </a:t>
            </a:r>
            <a:r>
              <a:rPr b="0" lang="tr-TR" sz="2800" spc="-1" strike="noStrike">
                <a:solidFill>
                  <a:srgbClr val="000000"/>
                </a:solidFill>
                <a:latin typeface="Century Schoolbook"/>
              </a:rPr>
              <a:t>Abdal Musa’nın tekkesinde kırk yıl kulluk etmiştir. </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Şiirleri ve didaktik tarzda yazıları vardır. </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Hece’nin yanında aruzu da kullanmıştır. Bektaşilik ilkelerini softa bir görüşle alay derecesinde savunmuştur. </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a:t>
            </a:r>
            <a:r>
              <a:rPr b="1" lang="tr-TR" sz="2800" spc="-1" strike="noStrike">
                <a:solidFill>
                  <a:srgbClr val="000000"/>
                </a:solidFill>
                <a:latin typeface="Century Schoolbook"/>
              </a:rPr>
              <a:t>Gülistan”</a:t>
            </a:r>
            <a:r>
              <a:rPr b="0" lang="tr-TR" sz="2800" spc="-1" strike="noStrike">
                <a:solidFill>
                  <a:srgbClr val="000000"/>
                </a:solidFill>
                <a:latin typeface="Century Schoolbook"/>
              </a:rPr>
              <a:t> ve “</a:t>
            </a:r>
            <a:r>
              <a:rPr b="1" lang="tr-TR" sz="2800" spc="-1" strike="noStrike">
                <a:solidFill>
                  <a:srgbClr val="000000"/>
                </a:solidFill>
                <a:latin typeface="Century Schoolbook"/>
              </a:rPr>
              <a:t>Gevhername”</a:t>
            </a:r>
            <a:r>
              <a:rPr b="0" lang="tr-TR" sz="2800" spc="-1" strike="noStrike">
                <a:solidFill>
                  <a:srgbClr val="000000"/>
                </a:solidFill>
                <a:latin typeface="Century Schoolbook"/>
              </a:rPr>
              <a:t> adında şiir kitabı ve bir de Divanı vardır.”</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Schoolbook"/>
              </a:rPr>
              <a:t>KAYGUSUZ ABDAL</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304920"/>
            <a:ext cx="8229600" cy="57909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a:t>
            </a:r>
            <a:r>
              <a:rPr b="0" lang="tr-TR" sz="2800" spc="-1" strike="noStrike">
                <a:solidFill>
                  <a:srgbClr val="000000"/>
                </a:solidFill>
                <a:latin typeface="Century Schoolbook"/>
              </a:rPr>
              <a:t>14.yüzyıl Tekke Halk Edebiyatı şairidir. Ankara’da Bayramiyye tarikatını kurmuştur.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Güçlü bir medrese eğitimi almıştır. Yunus Emre etkisinde sade bir dil ve lirik bir anlatımla dile getirdiği şiirlerinden yalnızca birkaç tanesi bilinmektedir.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Hece ölçüsünün yanında aruz ölçüsünü de kullanmıştır. Sade ve coşkun bir dili vardır.”</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Schoolbook"/>
              </a:rPr>
              <a:t>HACI BAYRAM-I VELİ</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7200" y="456840"/>
            <a:ext cx="8229600" cy="579132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a:t>
            </a:r>
            <a:r>
              <a:rPr b="0" lang="tr-TR" sz="2800" spc="-1" strike="noStrike">
                <a:solidFill>
                  <a:srgbClr val="000000"/>
                </a:solidFill>
                <a:latin typeface="Century Schoolbook"/>
              </a:rPr>
              <a:t>16.yüzyıl saz şairlerindendir. Koçaklamalarıyla tanınır.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Şiirlerinin ana teması yiğitlik ve savaştır.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Halk şiiri geleneği içinde yetiştiği için şiirlerinde </a:t>
            </a:r>
            <a:r>
              <a:rPr b="1" lang="tr-TR" sz="2800" spc="-1" strike="noStrike">
                <a:solidFill>
                  <a:srgbClr val="000000"/>
                </a:solidFill>
                <a:latin typeface="Century Schoolbook"/>
              </a:rPr>
              <a:t>klasik şiirimizin izleri yoktur</a:t>
            </a:r>
            <a:r>
              <a:rPr b="0" lang="tr-TR" sz="2800" spc="-1" strike="noStrike">
                <a:solidFill>
                  <a:srgbClr val="000000"/>
                </a:solidFill>
                <a:latin typeface="Century Schoolbook"/>
              </a:rPr>
              <a: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Dili sade, anlatımı yalındır.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Bolu Bey’ine karşı mücadeleler etmiştir. Bu kişi Celali İsyanları’na karışmış, Robin Hood misali zenginden aldığını yoksullara dağıtmıştır. Rivayete göre babasının intikamını almak için dağa çıkmıştır.”</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Schoolbook"/>
              </a:rPr>
              <a:t>KÖROĞLU</a:t>
            </a:r>
            <a:endParaRPr b="0" lang="en-US" sz="2800" spc="-1" strike="noStrike">
              <a:solidFill>
                <a:srgbClr val="000000"/>
              </a:solidFill>
              <a:latin typeface="Century Schoolboo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380520"/>
            <a:ext cx="8229600" cy="574524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18.yüzyılda yetişen mahallileşme ( yerlileşme ) akımının en büyük temsilcisi olan sanatçı, yaşadığı ve vurgunu olduğu şehri, İstanbul’u şiirlerinde baştanbaşa bir resim dekoru gibi işleyerek, hatta İstanbul için şiirler yazmıştır.</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 </a:t>
            </a:r>
            <a:r>
              <a:rPr b="0" lang="tr-TR" sz="2800" spc="-1" strike="noStrike">
                <a:solidFill>
                  <a:srgbClr val="000000"/>
                </a:solidFill>
                <a:latin typeface="Century Schoolbook"/>
              </a:rPr>
              <a:t>Beşiktaş, Hisar, Göksu, Çubuklu ve Kâğıthane semtleri onun şiirinde sokakları, camileri, lale bahçeleri, çeşmeleri, insanlarının kıyafetleri, eğlenceleri ile canlı bir biçimde yer alır.”</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Schoolbook"/>
              </a:rPr>
              <a:t>NEDİM</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380520"/>
            <a:ext cx="8229600" cy="574524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a:t>
            </a:r>
            <a:r>
              <a:rPr b="0" lang="tr-TR" sz="2800" spc="-1" strike="noStrike">
                <a:solidFill>
                  <a:srgbClr val="000000"/>
                </a:solidFill>
                <a:latin typeface="Century Schoolbook"/>
              </a:rPr>
              <a:t>Çağatay Türkçesinin en büyük şairidir. Divan edebiyatında ilk hamse sahibi olan kişidir. </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ilk “şairler tezkiresi” olan “Mecalis’ün Nefais” onun eseridir. </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Türkçenin güzelliklerini görerek, onun Farsçadan daha üstün olduğunu ilk söyleyen dilcimiz odur.” Muhakemet’ül Lugateyn” adlı sözlükte Farsça ile Türkçeyi karşılaştırmış ve Türkçenin üstün olduğu sonucuna varmıştır. </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Türk dil birliğini kurmaya çalışmış ve bu amaçla şiirler yazmıştır “</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Schoolbook"/>
              </a:rPr>
              <a:t>ALİ ŞİR NEVAİ</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380520"/>
            <a:ext cx="8229600" cy="533412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t>
            </a:r>
            <a:r>
              <a:rPr b="0" lang="tr-TR" sz="2400" spc="-1" strike="noStrike">
                <a:solidFill>
                  <a:srgbClr val="000000"/>
                </a:solidFill>
                <a:latin typeface="Century Schoolbook"/>
              </a:rPr>
              <a:t>17.yüzyıl halk şairidir. Türkmen aşiretleri içinde yetişmiştir. Halk edebiyatı geleneklerini sürdürmüştü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Sadece bir konuşma dili kullanmış, dil ve ölçü bakımından </a:t>
            </a:r>
            <a:r>
              <a:rPr b="1" lang="tr-TR" sz="2400" spc="-1" strike="noStrike">
                <a:solidFill>
                  <a:srgbClr val="000000"/>
                </a:solidFill>
                <a:latin typeface="Century Schoolbook"/>
              </a:rPr>
              <a:t>Divan etkisinden uzak kalmıştır</a:t>
            </a:r>
            <a:r>
              <a:rPr b="0" lang="tr-TR"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Mecazlarının öğelerini hep çevresinden ve doğadan almıştı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Halk Edebiyatı’nda aşk ve doğa şairi olarak ün salan, </a:t>
            </a:r>
            <a:r>
              <a:rPr b="1" lang="tr-TR" sz="2400" spc="-1" strike="noStrike">
                <a:solidFill>
                  <a:srgbClr val="000000"/>
                </a:solidFill>
                <a:latin typeface="Century Schoolbook"/>
              </a:rPr>
              <a:t>“güzelleme “ şairi</a:t>
            </a:r>
            <a:r>
              <a:rPr b="0" lang="tr-TR" sz="2400" spc="-1" strike="noStrike">
                <a:solidFill>
                  <a:srgbClr val="000000"/>
                </a:solidFill>
                <a:latin typeface="Century Schoolbook"/>
              </a:rPr>
              <a:t> olarak bilinen halk ozanıdır. Halk şiirinin en önemli temsilcilerindendi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entury Schoolbook"/>
              </a:rPr>
              <a:t>KARACAOĞLA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533160"/>
            <a:ext cx="8229600" cy="55926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t>
            </a:r>
            <a:r>
              <a:rPr b="0" lang="tr-TR" sz="2400" spc="-1" strike="noStrike">
                <a:solidFill>
                  <a:srgbClr val="000000"/>
                </a:solidFill>
                <a:latin typeface="Century Schoolbook"/>
              </a:rPr>
              <a:t>15.yüzyılın en büyük Divan şairi kabul edilmektedir. Şair, Fars yazınının biçim ve özle ilgili özelliklerini şiirimize getirmiş, Divan şiirini daha üstün bir düzeye çıkartmıştır. </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İnce, zeki ve nükteci bir kişiliği olan şair, pek çok kaside yazmıştır. </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Daha çok gazel, kaside ve mesnevi nazım biçimlerinde başarı göstermiştir. </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Çağının dilini başarıyla kullanan şair, divanındaki bol mecazlı anlatımında, </a:t>
            </a:r>
            <a:r>
              <a:rPr b="1" lang="tr-TR" sz="2400" spc="-1" strike="noStrike">
                <a:solidFill>
                  <a:srgbClr val="000000"/>
                </a:solidFill>
                <a:latin typeface="Century Schoolbook"/>
              </a:rPr>
              <a:t>“ Harname “</a:t>
            </a:r>
            <a:r>
              <a:rPr b="0" lang="tr-TR" sz="2400" spc="-1" strike="noStrike">
                <a:solidFill>
                  <a:srgbClr val="000000"/>
                </a:solidFill>
                <a:latin typeface="Century Schoolbook"/>
              </a:rPr>
              <a:t>deki nükteli söyleyişinde, “</a:t>
            </a:r>
            <a:r>
              <a:rPr b="1" lang="tr-TR" sz="2400" spc="-1" strike="noStrike">
                <a:solidFill>
                  <a:srgbClr val="000000"/>
                </a:solidFill>
                <a:latin typeface="Century Schoolbook"/>
              </a:rPr>
              <a:t>Hüsrev ü Şirin“</a:t>
            </a:r>
            <a:r>
              <a:rPr b="0" lang="tr-TR" sz="2400" spc="-1" strike="noStrike">
                <a:solidFill>
                  <a:srgbClr val="000000"/>
                </a:solidFill>
                <a:latin typeface="Century Schoolbook"/>
              </a:rPr>
              <a:t>deki yalın anlatımında aynı başarıyı göstermiştir.”</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entury Schoolbook"/>
              </a:rPr>
              <a:t>ŞEYHİ</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456840"/>
            <a:ext cx="8229600" cy="566892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a:t>
            </a:r>
            <a:r>
              <a:rPr b="0" lang="tr-TR" sz="2800" spc="-1" strike="noStrike">
                <a:solidFill>
                  <a:srgbClr val="000000"/>
                </a:solidFill>
                <a:latin typeface="Century Schoolbook"/>
              </a:rPr>
              <a:t>Ferman padişahın dağlar bizimdir ” dizesiyle ün kazanan ve 19. yüzyıl Halk şiirindeki yerini alan sanatçı hem söyleyiş hem de konu ve duyarlıkları bakımından diğer halk ozanlarından ayrılır. </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Aşk, doğa ve yiğitlik temalarını temiz bir Türkçeyle ve koşma, türkü gibi nazım biçimleriyle işlemiştir. </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Osmanlı hükümetince yerleşik düzene geçirilmek istenen Avşarlar, toprağa yerleşmek istemeyince hükümet kuvvetleriyle çatışmış, sanatçı da Avşarları desteklemiştir.”</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Schoolbook"/>
              </a:rPr>
              <a:t>DADALOĞLU</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837720"/>
            <a:ext cx="8229600" cy="528804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t>
            </a:r>
            <a:r>
              <a:rPr b="0" lang="tr-TR" sz="2400" spc="-1" strike="noStrike">
                <a:solidFill>
                  <a:srgbClr val="000000"/>
                </a:solidFill>
                <a:latin typeface="Century Schoolbook"/>
              </a:rPr>
              <a:t>Divan Edebiyatının en usta şairi olarak kabul edilir. İstanbul’da doğmuş, yetişmiştir. </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Mevlevi tarikatına girerek şeyhlik mertebesine kadar yükselmiştir. </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24 yaşında divan sahibi olacak kadar genç yaşta şiirde ustalaşmış, iki yıl sonra da edebiyatımızın ünlü eserlerinden </a:t>
            </a:r>
            <a:r>
              <a:rPr b="1" lang="tr-TR" sz="2400" spc="-1" strike="noStrike">
                <a:solidFill>
                  <a:srgbClr val="000000"/>
                </a:solidFill>
                <a:latin typeface="Century Schoolbook"/>
              </a:rPr>
              <a:t>Hüsn ü Aşkı</a:t>
            </a:r>
            <a:r>
              <a:rPr b="0" lang="tr-TR" sz="2400" spc="-1" strike="noStrike">
                <a:solidFill>
                  <a:srgbClr val="000000"/>
                </a:solidFill>
                <a:latin typeface="Century Schoolbook"/>
              </a:rPr>
              <a:t> yazmıştır. </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Bu mesnevisinde alegorik biçimde ilahi aşkı işler.</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Klasik Divan Edebiyatı temalarını işlediği şiirleri de sevilir. </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Zarif, zengin ve akıcı bir dili vardır.”</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entury Schoolbook"/>
              </a:rPr>
              <a:t>ŞEYH GALİP</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380520"/>
            <a:ext cx="8229600" cy="574524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t>
            </a:r>
            <a:r>
              <a:rPr b="0" lang="tr-TR" sz="2400" spc="-1" strike="noStrike">
                <a:solidFill>
                  <a:srgbClr val="000000"/>
                </a:solidFill>
                <a:latin typeface="Century Schoolbook"/>
              </a:rPr>
              <a:t>Mısra söyleyişi, nazım dili, zevki ve mecaz ustalığı ile kuruluş devrinin (15. yüzyıl) en büyük şairi sayılır. </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Yıldızı en fazla Fatih döneminde parlar. Onun hocası ve sözüne güvendiği bir insandır. </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Şair Ali Şir Nevai’ye nazireler de söylemiş ve onun İstanbul’da tanınmasını sağlamıştır. </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Çağdaşlarından ayrı olarak tasavvufa elden geldiğince az yer vermiştir. </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ruz veznini Türkçeye uygulamakta ve dili güzel kullanmakta kendine kadarki şairlerin en üstünüdür. </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Tarih düşürmeyi manzumelerde bir sanat haline getiren odur.”</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entury Schoolbook"/>
              </a:rPr>
              <a:t>AHMET PAŞA</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456840"/>
            <a:ext cx="8229600" cy="566892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t>
            </a:r>
            <a:r>
              <a:rPr b="0" lang="tr-TR" sz="2400" spc="-1" strike="noStrike">
                <a:solidFill>
                  <a:srgbClr val="000000"/>
                </a:solidFill>
                <a:latin typeface="Century Schoolbook"/>
              </a:rPr>
              <a:t>Avrupalılar arasında “Hacı Kalfa” diye tanınan 17. yüzyılın bu ünlü bilgini, yaşamını okumakla ve kitap yazmakla geçirmişti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rapça ve Farsçadan başka Latince ve Fransızcayı da öğrenmiş, din ve devlet işlerinin ayrılması gerektiğini savunmuş, boş inançlara karşı çıkmıştı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En büyük ve en önemli esen “ Keşfü’z-Zünun ”dur. Bu eserde, bilimin tanımı amacı, bölümleri ile 300 kadar bilim açıklanmış, 15.000’den çok eser, konuları ve yazanlarıyla tanıtılmıştı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entury Schoolbook"/>
              </a:rPr>
              <a:t>KÂTİP ÇELEBİ</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456840"/>
            <a:ext cx="8229600" cy="566892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a:t>
            </a:r>
            <a:r>
              <a:rPr b="0" lang="tr-TR" sz="2800" spc="-1" strike="noStrike">
                <a:solidFill>
                  <a:srgbClr val="000000"/>
                </a:solidFill>
                <a:latin typeface="Century Schoolbook"/>
              </a:rPr>
              <a:t>13. yüzyılda yaşamış Mevlevi tarikatının kurucusudur. </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İyi bir eğitim görmüştür. Farsça, Arapça, Rumca, eski Yunanca bilir. </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Tasavvuf felsefesi, mitoloji ve tarih konularında derin bilgisi vardır. </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Kaynağını insan sevgisinden alan bir düşünürlükle içten duyguları ve coşkuları dile getirmiştir.”</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Schoolbook"/>
              </a:rPr>
              <a:t>MEVLANA CELALEDDİN-İ RUMİ</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0880" y="457200"/>
            <a:ext cx="8229600" cy="4525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a:t>
            </a:r>
            <a:r>
              <a:rPr b="0" lang="tr-TR" sz="2800" spc="-1" strike="noStrike">
                <a:solidFill>
                  <a:srgbClr val="000000"/>
                </a:solidFill>
                <a:latin typeface="Century Schoolbook"/>
              </a:rPr>
              <a:t>İslami Türk edebiyatının bilinen ilk yazarıdır.11.yüzyılda Türkistan’da doğmuştur.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İlk mesnevi türünü, ilk aruz ölçüsünü, ilk alegorik eseri, ilk siyasetnameyi, ilk didaktik eseri ve ilk geçiş dönemi eserini yazmıştır.</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Schoolbook"/>
              </a:rPr>
              <a:t>YUSUF HAS HACİP</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57200" y="609480"/>
            <a:ext cx="8229600" cy="5516640"/>
          </a:xfrm>
          <a:prstGeom prst="rect">
            <a:avLst/>
          </a:prstGeom>
          <a:noFill/>
          <a:ln w="0">
            <a:noFill/>
          </a:ln>
        </p:spPr>
        <p:txBody>
          <a:bodyPr anchor="t">
            <a:normAutofit fontScale="99000"/>
          </a:bodyPr>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t>
            </a:r>
            <a:r>
              <a:rPr b="0" lang="tr-TR" sz="2400" spc="-1" strike="noStrike">
                <a:solidFill>
                  <a:srgbClr val="000000"/>
                </a:solidFill>
                <a:latin typeface="Century Schoolbook"/>
              </a:rPr>
              <a:t>11.yüzyılın İslami Türk edebiyatını bilinen ilk yazarıdır. İyi bir eğitim almıştır. Yazdığı  eserinde insan karakterini “ adalet, devlet, akıl ve kanaat “ olmak üzere dörde ayırıyor. Bunları eserde somutluyor. Adaleti “ Gündoğdu “ adlı bir padişah, devleti “ Aytoldı “ isminde bir vezir, akılı “ Ögdülmüş “ adlı vezirin oğlu ve kanaati de “ Udgurmuş “ adlı vezirin kardeşi şeklinde canlandırıyor. </a:t>
            </a:r>
            <a:endParaRPr b="0" lang="en-US" sz="24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Eser baştanbaşa bunların karşılıklı konuşmaları ve tartışmalarından ibarettir. </a:t>
            </a:r>
            <a:endParaRPr b="0" lang="en-US" sz="24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Bunların dışında eserde o zamanki Türk toplumunun bütün katmanlarından insan vardır. </a:t>
            </a:r>
            <a:endParaRPr b="0" lang="en-US" sz="24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Bir çeşit siyasetname sayılan bu eseri, İslami Türk edebiyatının ele geçen ilk ürünlerindendir.”</a:t>
            </a:r>
            <a:endParaRPr b="0" lang="en-US" sz="24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entury Schoolbook"/>
              </a:rPr>
              <a:t>YUSUF HAS HACİP- KUTADGU BİLİG</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304920"/>
            <a:ext cx="8229600" cy="5821200"/>
          </a:xfrm>
          <a:prstGeom prst="rect">
            <a:avLst/>
          </a:prstGeom>
          <a:noFill/>
          <a:ln w="0">
            <a:noFill/>
          </a:ln>
        </p:spPr>
        <p:txBody>
          <a:bodyPr anchor="t">
            <a:normAutofit fontScale="99000"/>
          </a:bodyPr>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t>
            </a:r>
            <a:r>
              <a:rPr b="0" lang="tr-TR" sz="2400" spc="-1" strike="noStrike">
                <a:solidFill>
                  <a:srgbClr val="000000"/>
                </a:solidFill>
                <a:latin typeface="Century Schoolbook"/>
              </a:rPr>
              <a:t>XIV. yüzyılın Azeri Türkçesi’ni kullanan, yapıtlarının çoğunda aruzu bir kısmında heceyi kullanan sanatçısıdır. </a:t>
            </a: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Bilgin ve şair olduğu kadar Yıldırım Beyazıt ve Timur’la çarpışmış bir savaşçıdır. </a:t>
            </a: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Yiğitlik, aşk ve tasavvufu kaynaştıran sanatçı, kendine özgü söyleyişi ile Anadolu şiirinin kurucularındandır. </a:t>
            </a: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600 sayfalık Divanı vardır. Bu Divan’da gazellerden başka 116 tuyuğ bulunur. </a:t>
            </a: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Tuyuğ denen Türk nazım şeklini en fazla kullanan odur. </a:t>
            </a: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Hiçbir gazelinde mahlas kullanmamıştır şair.”</a:t>
            </a: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entury Schoolbook"/>
              </a:rPr>
              <a:t>KADI BURHANETTİ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457200"/>
            <a:ext cx="8229600" cy="54864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t>
            </a:r>
            <a:r>
              <a:rPr b="0" lang="tr-TR" sz="2400" spc="-1" strike="noStrike">
                <a:solidFill>
                  <a:srgbClr val="000000"/>
                </a:solidFill>
                <a:latin typeface="Century Schoolbook"/>
              </a:rPr>
              <a:t>14. yüzyılın ilk yarısında Anadolu’da yetişen Türk şair ve mutasavvıflarının en büyüklerindendi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Hacı Bektaş-ı Veli, Ahi Evran, Şeyh Süleyman, Mevlana, Sultan Veled gibi büyük mutasavvıfların yapıtlarıyla yakından ilgilenmişti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 </a:t>
            </a:r>
            <a:r>
              <a:rPr b="0" lang="tr-TR" sz="2400" spc="-1" strike="noStrike">
                <a:solidFill>
                  <a:srgbClr val="000000"/>
                </a:solidFill>
                <a:latin typeface="Century Schoolbook"/>
              </a:rPr>
              <a:t>Dil ve edebiyat tarihimizde ayrı bir yeri vardır. En önemli yapıtı, </a:t>
            </a:r>
            <a:r>
              <a:rPr b="1" lang="tr-TR" sz="2400" spc="-1" strike="noStrike">
                <a:solidFill>
                  <a:srgbClr val="000000"/>
                </a:solidFill>
                <a:latin typeface="Century Schoolbook"/>
              </a:rPr>
              <a:t>“Garipname”</a:t>
            </a:r>
            <a:r>
              <a:rPr b="0" lang="tr-TR" sz="2400" spc="-1" strike="noStrike">
                <a:solidFill>
                  <a:srgbClr val="000000"/>
                </a:solidFill>
                <a:latin typeface="Century Schoolbook"/>
              </a:rPr>
              <a:t> adlı tasavvufi, dini, ahlaki</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mesnevisidi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entury Schoolbook"/>
              </a:rPr>
              <a:t>ÂŞIK PAŞA</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456840"/>
            <a:ext cx="8229600" cy="566892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t>
            </a:r>
            <a:r>
              <a:rPr b="0" lang="tr-TR" sz="2400" spc="-1" strike="noStrike">
                <a:solidFill>
                  <a:srgbClr val="000000"/>
                </a:solidFill>
                <a:latin typeface="Century Schoolbook"/>
              </a:rPr>
              <a:t>12.yüzyılda yaşamış bir şairdir. Yaşamı hakkında bilgileri Ali Şir Nevai’nin anlattığı bir takım efsanelerden ibaretti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Türkistanlı olup anadan doğma kör bir şairdir. Dindar, bilgili bir insandı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En önemli eseri olan Atabetül-l Hakayık’ı yazmıştır. Bu eserinde dindar olmanın;</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erdemlerinden, iyiliklerinden, cömertliklerinden anlatmıştır. Ayrıca eserin dörtlükler bölümünde bilginin toplum için önemini ve bilginin insana ve topluma neler kazandığını anlatmaktadı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entury Schoolbook"/>
              </a:rPr>
              <a:t>EDİP AHMET YÜKNEKİ</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533520" y="380520"/>
            <a:ext cx="8229600" cy="533412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a:t>
            </a:r>
            <a:r>
              <a:rPr b="0" lang="tr-TR" sz="2800" spc="-1" strike="noStrike">
                <a:solidFill>
                  <a:srgbClr val="000000"/>
                </a:solidFill>
                <a:latin typeface="Century Schoolbook"/>
              </a:rPr>
              <a:t>17.yüzyıl Tekke Halk Edebiyatı şairidir. Aruz ve hece ölçüsü ile</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yazdığı şiirlerini Divan-ı İlahiyat isimli eserinde toplamıştır. Tasavvuf</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konulu eserlerinin yanında tefsir kitapları da kaleme almıştır. Yunus</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Emre’ye hayranlık duyan şair, Yunus Emre tarzı tasavvuf şiirinin bu</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yüzyıldaki en önemli temsilcisidir.”</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Schoolbook"/>
              </a:rPr>
              <a:t>NİYAZİ-İ MISRÎ</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456840"/>
            <a:ext cx="8229600" cy="566892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t>
            </a:r>
            <a:r>
              <a:rPr b="0" lang="tr-TR" sz="2400" spc="-1" strike="noStrike">
                <a:solidFill>
                  <a:srgbClr val="000000"/>
                </a:solidFill>
                <a:latin typeface="Century Schoolbook"/>
              </a:rPr>
              <a:t>Âşık edebiyatının 19. yüzyıldaki önemli temsilcilerinden biridi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Saz şairleri içinde Divan şiirini en iyi bilenlerdendi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Başta Fuzuli olmak üzere Baki ve Nedim’den etkilenmiş, hem Divan hem de Halk şiiri tarzında eserler vermişti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Gazel, murabba, muhammes ve müseddeslerinde bu kültürünü açıkça belli eder. Hece ile yazdığı, tasavvuf üzerine şiirleri de vardır. Asıl sanatçı kişiliği koşma ve semailerde görülü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entury Schoolbook"/>
              </a:rPr>
              <a:t>ERZURUMLU EMRAH</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533160"/>
            <a:ext cx="8229600" cy="5592600"/>
          </a:xfrm>
          <a:prstGeom prst="rect">
            <a:avLst/>
          </a:prstGeom>
          <a:noFill/>
          <a:ln w="0">
            <a:noFill/>
          </a:ln>
        </p:spPr>
        <p:txBody>
          <a:bodyPr anchor="t">
            <a:normAutofit fontScale="98000"/>
          </a:bodyPr>
          <a:p>
            <a:pPr marL="267120" indent="-2671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t>
            </a:r>
            <a:r>
              <a:rPr b="0" lang="tr-TR" sz="2400" spc="-1" strike="noStrike">
                <a:solidFill>
                  <a:srgbClr val="000000"/>
                </a:solidFill>
                <a:latin typeface="Century Schoolbook"/>
              </a:rPr>
              <a:t>Halk arasında yiğitlik ve mertliğin simgesi olarak ün kazanmıştır.</a:t>
            </a:r>
            <a:endParaRPr b="0" lang="en-US" sz="2400" spc="-1" strike="noStrike">
              <a:solidFill>
                <a:srgbClr val="000000"/>
              </a:solidFill>
              <a:latin typeface="Century Schoolbook"/>
            </a:endParaRPr>
          </a:p>
          <a:p>
            <a:pPr marL="267120" indent="-2671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Yiğitlik ve iyilikseverliğiyle halkın gönlünde destanlaşan ozanın kim olduğu kesin olarak bilinmemektedir. 16. yüzyılda yaşadığı sanılmaktadır. </a:t>
            </a:r>
            <a:endParaRPr b="0" lang="en-US" sz="2400" spc="-1" strike="noStrike">
              <a:solidFill>
                <a:srgbClr val="000000"/>
              </a:solidFill>
              <a:latin typeface="Century Schoolbook"/>
            </a:endParaRPr>
          </a:p>
          <a:p>
            <a:pPr marL="267120" indent="-2671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Onun şiirleri çoğunlukla yiğitçe söylenmiş koçaklamalardır. </a:t>
            </a:r>
            <a:endParaRPr b="0" lang="en-US" sz="2400" spc="-1" strike="noStrike">
              <a:solidFill>
                <a:srgbClr val="000000"/>
              </a:solidFill>
              <a:latin typeface="Century Schoolbook"/>
            </a:endParaRPr>
          </a:p>
          <a:p>
            <a:pPr marL="267120" indent="-2671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şk ve doğa güzelliklerini dile getiren şiirleri de vardır.”</a:t>
            </a:r>
            <a:endParaRPr b="0" lang="en-US" sz="2400" spc="-1" strike="noStrike">
              <a:solidFill>
                <a:srgbClr val="000000"/>
              </a:solidFill>
              <a:latin typeface="Century Schoolbook"/>
            </a:endParaRPr>
          </a:p>
          <a:p>
            <a:pPr marL="267120" indent="-2671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entury Schoolbook"/>
              </a:rPr>
              <a:t>KÖROĞLU</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380520"/>
            <a:ext cx="8229600" cy="574524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t>
            </a:r>
            <a:r>
              <a:rPr b="0" lang="tr-TR" sz="2400" spc="-1" strike="noStrike">
                <a:solidFill>
                  <a:srgbClr val="000000"/>
                </a:solidFill>
                <a:latin typeface="Century Schoolbook"/>
              </a:rPr>
              <a:t>Selçuklu Sultanı Alâeddin Keykubat döneminde, Anadolu’ya Horasan’dan gelen şair, Anadolu’da din dişi konularda şiirler söyleyen ilk Divan sanatçısı kabul edilmektedir. Ondan önce divan tarzında şiirler yazan başka şairler olmakla birlikte onlar şiirlerini Farsça yazmıştır. Bu nedenle bu şairlerin Türk Divan edebiyatının gelişmesinde pek rolü olmamıştı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Yaşadığı dönemde tasavvuf yaygın bir akım olmasına rağmen o, şiirlerinde tasavvufi konuları işlememişti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Gazellinde aşk ve şarapla ilgili duygularını dile getirmiş, din dışı konuları işlemişti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entury Schoolbook"/>
              </a:rPr>
              <a:t>HOCA DEHHANİ</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533520" y="457200"/>
            <a:ext cx="8229600" cy="452592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a:t>
            </a:r>
            <a:r>
              <a:rPr b="0" lang="tr-TR" sz="2800" spc="-1" strike="noStrike">
                <a:solidFill>
                  <a:srgbClr val="000000"/>
                </a:solidFill>
                <a:latin typeface="Century Schoolbook"/>
              </a:rPr>
              <a:t>Xlll. yüzyılın ilk yarısında Anadolu’da Tasavvuf şiirleri yazan bir şairdir. </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En ünlü eseri aruzla kaside biçiminde yazdığı </a:t>
            </a:r>
            <a:r>
              <a:rPr b="1" lang="tr-TR" sz="2800" spc="-1" strike="noStrike">
                <a:solidFill>
                  <a:srgbClr val="000000"/>
                </a:solidFill>
                <a:latin typeface="Century Schoolbook"/>
              </a:rPr>
              <a:t>Çarhname </a:t>
            </a:r>
            <a:r>
              <a:rPr b="0" lang="tr-TR" sz="2800" spc="-1" strike="noStrike">
                <a:solidFill>
                  <a:srgbClr val="000000"/>
                </a:solidFill>
                <a:latin typeface="Century Schoolbook"/>
              </a:rPr>
              <a:t>adlı</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Tasavvuf ve ahlak temalarını işleyen yüz beyitlik şiirdir.”</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Schoolbook"/>
              </a:rPr>
              <a:t>AHMET FAKİH</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609480"/>
            <a:ext cx="8229600" cy="551664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t>
            </a:r>
            <a:r>
              <a:rPr b="0" lang="tr-TR" sz="2400" spc="-1" strike="noStrike">
                <a:solidFill>
                  <a:srgbClr val="000000"/>
                </a:solidFill>
                <a:latin typeface="Century Schoolbook"/>
              </a:rPr>
              <a:t>14.yüzyıl şairidir.1250 yılında doğduğu tahmin edilmektedir. Gençliğinde edebiyat ve tasavvuf öğrenmişti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hi Evranı Veli ile 50 yıl beraber yaşamıştır. Farsça ve Arapça öğrenmiş, ancak o eserlerini Türkçe yazmıştı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Türkçeyi bir sanat dili haline getirmeyi çok isteyen bir şairidi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entury Schoolbook"/>
              </a:rPr>
              <a:t>“ </a:t>
            </a:r>
            <a:r>
              <a:rPr b="1" lang="tr-TR" sz="2400" spc="-1" strike="noStrike">
                <a:solidFill>
                  <a:srgbClr val="000000"/>
                </a:solidFill>
                <a:latin typeface="Century Schoolbook"/>
              </a:rPr>
              <a:t>Mantık’ut Tayr “</a:t>
            </a:r>
            <a:r>
              <a:rPr b="0" lang="tr-TR" sz="2400" spc="-1" strike="noStrike">
                <a:solidFill>
                  <a:srgbClr val="000000"/>
                </a:solidFill>
                <a:latin typeface="Century Schoolbook"/>
              </a:rPr>
              <a:t> adlı tasavvufi eserin manzum tercümesinde Türkçeye incelik, ahenk kazandıracağını söylemektedir. Eserde tasavvufi konuları işlemişti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entury Schoolbook"/>
              </a:rPr>
              <a:t>GÜLŞEHRİ</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380880"/>
            <a:ext cx="8229600" cy="452592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a:t>
            </a:r>
            <a:r>
              <a:rPr b="0" lang="tr-TR" sz="2800" spc="-1" strike="noStrike">
                <a:solidFill>
                  <a:srgbClr val="000000"/>
                </a:solidFill>
                <a:latin typeface="Century Schoolbook"/>
              </a:rPr>
              <a:t>Eserlerini Azeri lehçesiyle yazmış olan şair, Divan eden lirik şairi olarak bilinir. Arapça, Farsça, Türkçe Divanı olan tek şairidir.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Hz. Muhammed’in ölümünden duyduğu acıyı dile getirdiği </a:t>
            </a:r>
            <a:r>
              <a:rPr b="1" lang="tr-TR" sz="2800" spc="-1" strike="noStrike">
                <a:solidFill>
                  <a:srgbClr val="000000"/>
                </a:solidFill>
                <a:latin typeface="Century Schoolbook"/>
              </a:rPr>
              <a:t>“Su kasidesi”</a:t>
            </a:r>
            <a:r>
              <a:rPr b="0" lang="tr-TR" sz="2800" spc="-1" strike="noStrike">
                <a:solidFill>
                  <a:srgbClr val="000000"/>
                </a:solidFill>
                <a:latin typeface="Century Schoolbook"/>
              </a:rPr>
              <a:t> en önemli şiirlerindendir.”</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Schoolbook"/>
              </a:rPr>
              <a:t>FUZULİ</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609480" y="457200"/>
            <a:ext cx="8229600" cy="452592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a:t>
            </a:r>
            <a:r>
              <a:rPr b="0" lang="tr-TR" sz="2800" spc="-1" strike="noStrike">
                <a:solidFill>
                  <a:srgbClr val="000000"/>
                </a:solidFill>
                <a:latin typeface="Century Schoolbook"/>
              </a:rPr>
              <a:t>Türkçenin Arapça ile koşu atları gibi yarış edebileceğini” göstermek, Türk dilinin zenginliğini, her duygu ve düşünceyi ifadeye elverişli olduğunu ispat etmek gibi bir düşünceyle </a:t>
            </a:r>
            <a:r>
              <a:rPr b="1" lang="tr-TR" sz="2800" spc="-1" strike="noStrike">
                <a:solidFill>
                  <a:srgbClr val="000000"/>
                </a:solidFill>
                <a:latin typeface="Century Schoolbook"/>
              </a:rPr>
              <a:t>Divânü Lügati’t Türk</a:t>
            </a:r>
            <a:r>
              <a:rPr b="0" lang="tr-TR" sz="2800" spc="-1" strike="noStrike">
                <a:solidFill>
                  <a:srgbClr val="000000"/>
                </a:solidFill>
                <a:latin typeface="Century Schoolbook"/>
              </a:rPr>
              <a:t> adlı sözlüğü hazırlayan bu sanatçı 11. yüzyılda yaşamıştır. Onun bu eseri kültür tarihimizin çok önemli bir ürünüdür.”</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Schoolbook"/>
              </a:rPr>
              <a:t>KAŞGARLI MAHMUD</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685800"/>
            <a:ext cx="8229600" cy="544032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t>
            </a:r>
            <a:r>
              <a:rPr b="0" lang="tr-TR" sz="2400" spc="-1" strike="noStrike">
                <a:solidFill>
                  <a:srgbClr val="000000"/>
                </a:solidFill>
                <a:latin typeface="Century Schoolbook"/>
              </a:rPr>
              <a:t>Gördüklerini, işittiklerini anlatırken zaman zaman abartıya başvurur; böylece olaylara masalsı bir nitelik kazandırır. Bu özelliği, eserinin kolaylıkla ve zevkle okunmasını istemesinden kaynaklanı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Bir başka özelliği de bazı önemli olayları eserine alabilmek için, bu olayların geçtiği yerlere hayali geziler düzenleyip bunları yaşamış gibi anlatmasıdı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Zaten o, gezerken gördükleri ve duyduklarıyla yetinmemiş, okuduğu kaynaklardan da birtakım bilgiler derleyip aktarmıştı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entury Schoolbook"/>
              </a:rPr>
              <a:t>EVLİYA ÇELEBİ</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533520" y="380880"/>
            <a:ext cx="8229600" cy="452592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t>
            </a:r>
            <a:r>
              <a:rPr b="0" lang="tr-TR" sz="2400" spc="-1" strike="noStrike">
                <a:solidFill>
                  <a:srgbClr val="000000"/>
                </a:solidFill>
                <a:latin typeface="Century Schoolbook"/>
              </a:rPr>
              <a:t>17.yüzyıl Halk edebiyatı şairidir. Doğum ve ölüm tarihleri, hayatı hakkında esaslı bir bilgi yoktur. Kırımlı olduğu söylenmektedi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Âşık Ömer gibi Divan edebiyatından etkilenmiş, hecenin yanında aruzla da şiirler yazmıştı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 </a:t>
            </a:r>
            <a:r>
              <a:rPr b="0" lang="tr-TR" sz="2400" spc="-1" strike="noStrike">
                <a:solidFill>
                  <a:srgbClr val="000000"/>
                </a:solidFill>
                <a:latin typeface="Century Schoolbook"/>
              </a:rPr>
              <a:t>Heceyle yazdığı şiirlerde daha başarılıdır. Medrese eğitimi gördüğü için koşma ve türkülerinde bile yer yer yabancı sözcükler, Divan mazmunları görülü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entury Schoolbook"/>
              </a:rPr>
              <a:t>GEVHERİ</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457200"/>
            <a:ext cx="8229600" cy="5410080"/>
          </a:xfrm>
          <a:prstGeom prst="rect">
            <a:avLst/>
          </a:prstGeom>
          <a:noFill/>
          <a:ln w="0">
            <a:noFill/>
          </a:ln>
        </p:spPr>
        <p:txBody>
          <a:bodyPr anchor="t">
            <a:normAutofit fontScale="95000"/>
          </a:bodyPr>
          <a:p>
            <a:pPr marL="259200" indent="-259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a:t>
            </a:r>
            <a:r>
              <a:rPr b="0" lang="tr-TR" sz="2800" spc="-1" strike="noStrike">
                <a:solidFill>
                  <a:srgbClr val="000000"/>
                </a:solidFill>
                <a:latin typeface="Century Schoolbook"/>
              </a:rPr>
              <a:t>XIV. yüzyılın en çok eser veren, klasik edebiyatın kurulmasında büyük rolü olan şairidir. </a:t>
            </a:r>
            <a:endParaRPr b="0" lang="en-US" sz="2800" spc="-1" strike="noStrike">
              <a:solidFill>
                <a:srgbClr val="000000"/>
              </a:solidFill>
              <a:latin typeface="Century Schoolbook"/>
            </a:endParaRPr>
          </a:p>
          <a:p>
            <a:pPr marL="259200" indent="-259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Fazla sayıda ve hacimli eserler veren büyük bir şair olmamakla beraber, devrinin üstadı, Türkçeyi iyi kullanan bir sanatkârdır. </a:t>
            </a:r>
            <a:endParaRPr b="0" lang="en-US" sz="2800" spc="-1" strike="noStrike">
              <a:solidFill>
                <a:srgbClr val="000000"/>
              </a:solidFill>
              <a:latin typeface="Century Schoolbook"/>
            </a:endParaRPr>
          </a:p>
          <a:p>
            <a:pPr marL="259200" indent="-259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Onun 8000 beyti aşan büyük bir divanı 8250 beyitlik </a:t>
            </a:r>
            <a:r>
              <a:rPr b="1" lang="tr-TR" sz="2800" spc="-1" strike="noStrike">
                <a:solidFill>
                  <a:srgbClr val="000000"/>
                </a:solidFill>
                <a:latin typeface="Century Schoolbook"/>
              </a:rPr>
              <a:t>İskendername</a:t>
            </a:r>
            <a:r>
              <a:rPr b="0" lang="tr-TR" sz="2800" spc="-1" strike="noStrike">
                <a:solidFill>
                  <a:srgbClr val="000000"/>
                </a:solidFill>
                <a:latin typeface="Century Schoolbook"/>
              </a:rPr>
              <a:t>’si, 5000 beyit tutan </a:t>
            </a:r>
            <a:r>
              <a:rPr b="1" lang="tr-TR" sz="2800" spc="-1" strike="noStrike">
                <a:solidFill>
                  <a:srgbClr val="000000"/>
                </a:solidFill>
                <a:latin typeface="Century Schoolbook"/>
              </a:rPr>
              <a:t>Cemşid ü Hurşit’i</a:t>
            </a:r>
            <a:r>
              <a:rPr b="0" lang="tr-TR" sz="2800" spc="-1" strike="noStrike">
                <a:solidFill>
                  <a:srgbClr val="000000"/>
                </a:solidFill>
                <a:latin typeface="Century Schoolbook"/>
              </a:rPr>
              <a:t> eserlerinin en önemlileridir.”</a:t>
            </a:r>
            <a:endParaRPr b="0" lang="en-US" sz="2800" spc="-1" strike="noStrike">
              <a:solidFill>
                <a:srgbClr val="000000"/>
              </a:solidFill>
              <a:latin typeface="Century Schoolbook"/>
            </a:endParaRPr>
          </a:p>
          <a:p>
            <a:pPr marL="259200" indent="-259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59200" indent="-259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59200" indent="-259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59200" indent="-259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Schoolbook"/>
              </a:rPr>
              <a:t>AHMEDİ</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380520"/>
            <a:ext cx="8229600" cy="574524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t>
            </a:r>
            <a:r>
              <a:rPr b="0" lang="tr-TR" sz="2400" spc="-1" strike="noStrike">
                <a:solidFill>
                  <a:srgbClr val="000000"/>
                </a:solidFill>
                <a:latin typeface="Century Schoolbook"/>
              </a:rPr>
              <a:t>Divan edebiyatının büyük şairlerinden biridir. Daha hayatta iken yüceltilmiş, çağdaşı olan büyük şairleri bile gölgede bırakmıştır.</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Şairliğini gösteren tek eseri Divan’ıdır. Divanının ağırlık noktasını gazelleri oluşturur; 619 gazeli vardır. </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Gazellerinde aşk, tabiat, rintlik konularını işlemiştir. </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Şiirlerinde din ve tasavvufa yer vermemiştir. 0, şiir sanatının çok usta bir kuyumcusudur. Sözü, en mükemmel ve kusursuz biçimde söylemeye özen göstermiştir. </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Şiirlerinde söz ve anlam sanatlarına çok sık yer vermiştir. Nazım tekniği son derece sağlam ve güçlüdür.”</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entury Schoolbook"/>
              </a:rPr>
              <a:t>BAKİ</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380880"/>
            <a:ext cx="8229600" cy="556272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t>
            </a:r>
            <a:r>
              <a:rPr b="0" lang="tr-TR" sz="2400" spc="-1" strike="noStrike">
                <a:solidFill>
                  <a:srgbClr val="000000"/>
                </a:solidFill>
                <a:latin typeface="Century Schoolbook"/>
              </a:rPr>
              <a:t>19. yüzyıl Âşık edebiyatı şairlerindendir. Kayseri’de doğmuştu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Sultan Abdülmecit döneminde İstanbul’da yedi yıl kalmıştı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Âşık kahvelerinde, konaklarda, hatta sarayda şiirler söylemişti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Tasavvufa ilgi duymuş, hicviyeleri yüzünden İstanbul’dan kaçmak zorunda kalmıştı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Âşık ve Divan tarzı şiirler yazmıştır. Yönetimin aksayan</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yanlarını sert bir dille taşlamalarıyla tanınmıştı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entury Schoolbook"/>
              </a:rPr>
              <a:t>SEYRANİ</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533160"/>
            <a:ext cx="8229600" cy="5592600"/>
          </a:xfrm>
          <a:prstGeom prst="rect">
            <a:avLst/>
          </a:prstGeom>
          <a:noFill/>
          <a:ln w="0">
            <a:noFill/>
          </a:ln>
        </p:spPr>
        <p:txBody>
          <a:bodyPr anchor="t">
            <a:normAutofit fontScale="99000"/>
          </a:bodyPr>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t>
            </a:r>
            <a:r>
              <a:rPr b="0" lang="tr-TR" sz="2400" spc="-1" strike="noStrike">
                <a:solidFill>
                  <a:srgbClr val="000000"/>
                </a:solidFill>
                <a:latin typeface="Century Schoolbook"/>
              </a:rPr>
              <a:t>Divan edebiyatında halk için ahlakçı ve hicivci şiir yazanların önde gelenidir. </a:t>
            </a:r>
            <a:endParaRPr b="0" lang="en-US" sz="24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Gerçekleri ortaya koymuş, kimi dindar geçinen ikiyüzlülerin iç yüzlerini göstermiştir. Onun gazel ve kasidelerinde biraz sadelik, teklifsizlik dışında pek büyük bir kudret görülmez. </a:t>
            </a:r>
            <a:endParaRPr b="0" lang="en-US" sz="24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Bine yakın şiirinden bazıları devrinin tarihi şahsiyetlerini anlatmaktadır; fakat yine Divanı’nda bulunan Terkib-i bend, Türk edebiyatındaki bu tür eserlerin en üstünü sayılmıştır.</a:t>
            </a:r>
            <a:endParaRPr b="0" lang="en-US" sz="24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 </a:t>
            </a:r>
            <a:r>
              <a:rPr b="0" lang="tr-TR" sz="2400" spc="-1" strike="noStrike">
                <a:solidFill>
                  <a:srgbClr val="000000"/>
                </a:solidFill>
                <a:latin typeface="Century Schoolbook"/>
              </a:rPr>
              <a:t>Ziya Paşa bile ona nazire yaptığı terkib-i bendinde onu geçtiğini değil, onunla beraber olduğunu söylemiştir.”</a:t>
            </a:r>
            <a:endParaRPr b="0" lang="en-US" sz="24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entury Schoolbook"/>
              </a:rPr>
              <a:t>BAĞDATLI RUHİ</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304920"/>
            <a:ext cx="8229600" cy="58212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a:t>
            </a:r>
            <a:r>
              <a:rPr b="0" lang="tr-TR" sz="2800" spc="-1" strike="noStrike">
                <a:solidFill>
                  <a:srgbClr val="000000"/>
                </a:solidFill>
                <a:latin typeface="Century Schoolbook"/>
              </a:rPr>
              <a:t>Divan edebiyatının en büyük lirik şairidir. Yaşamı sıkıntılar içinde geçmiştir. İlimsiz şiirin temelsiz duvar gibi olacağını düşünerek kendi dönemindeki bütün ilimleri öğrenmiştir.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Şiirlerini Azeri Türkçesiyle yazmıştır.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Kendi dönemine göre oldukça yalın bir dil kullanmıştır.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Gazel şairi olarak tanınır. Istırap, aşk, tasavvuf, şiirlerinde en çok işlediği konulardır”</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Schoolbook"/>
              </a:rPr>
              <a:t>FUZULİ</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533160"/>
            <a:ext cx="8229600" cy="55926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t>
            </a:r>
            <a:r>
              <a:rPr b="0" lang="tr-TR" sz="2400" spc="-1" strike="noStrike">
                <a:solidFill>
                  <a:srgbClr val="000000"/>
                </a:solidFill>
                <a:latin typeface="Century Schoolbook"/>
              </a:rPr>
              <a:t>Divan şiirine yeni bir tür eklemiş. Dilini İstanbul Türkçesiyle oldukça sadeleştirmiş.</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 </a:t>
            </a:r>
            <a:r>
              <a:rPr b="0" lang="tr-TR" sz="2400" spc="-1" strike="noStrike">
                <a:solidFill>
                  <a:srgbClr val="000000"/>
                </a:solidFill>
                <a:latin typeface="Century Schoolbook"/>
              </a:rPr>
              <a:t>Yaşadığı devrin sosyal çalkantılarını şiirine tüm canlılığıyla yansıtmış.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Divan şiirindeki “Sevgiliyi” somutlaştırmıştı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entury Schoolbook"/>
              </a:rPr>
              <a:t>NEDİM</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380520"/>
            <a:ext cx="8229600" cy="5715000"/>
          </a:xfrm>
          <a:prstGeom prst="rect">
            <a:avLst/>
          </a:prstGeom>
          <a:noFill/>
          <a:ln w="0">
            <a:noFill/>
          </a:ln>
        </p:spPr>
        <p:txBody>
          <a:bodyPr anchor="t">
            <a:normAutofit fontScale="99000"/>
          </a:bodyPr>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a:t>
            </a:r>
            <a:r>
              <a:rPr b="0" lang="tr-TR" sz="2800" spc="-1" strike="noStrike">
                <a:solidFill>
                  <a:srgbClr val="000000"/>
                </a:solidFill>
                <a:latin typeface="Century Schoolbook"/>
              </a:rPr>
              <a:t>Orta yol tanımayan sert karakteri, üslubuna da yansımıştır.</a:t>
            </a:r>
            <a:endParaRPr b="0" lang="en-US" sz="28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Devrinin zalim, dürüstlüğü su götürür tüm devlet adamlarını kıyasıya eleştirmiştir. Bu özellikleri yüzünden pek çok düşmanı olmuş ve onun odunlukta boğdurulmasına sebep olmuştur. </a:t>
            </a:r>
            <a:endParaRPr b="0" lang="en-US" sz="28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Yergiyi bırakacağına dair söz verdiğini ifade eden şiirlerinde bile yergiden vazgeçmemiştir. </a:t>
            </a:r>
            <a:endParaRPr b="0" lang="en-US" sz="28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Yergi türündeki şiirlerini topladığı eserinin adı “</a:t>
            </a:r>
            <a:r>
              <a:rPr b="1" lang="tr-TR" sz="2800" spc="-1" strike="noStrike">
                <a:solidFill>
                  <a:srgbClr val="000000"/>
                </a:solidFill>
                <a:latin typeface="Century Schoolbook"/>
              </a:rPr>
              <a:t>Siham-ı Kaza”</a:t>
            </a:r>
            <a:r>
              <a:rPr b="0" lang="tr-TR" sz="2800" spc="-1" strike="noStrike">
                <a:solidFill>
                  <a:srgbClr val="000000"/>
                </a:solidFill>
                <a:latin typeface="Century Schoolbook"/>
              </a:rPr>
              <a:t> dır.”</a:t>
            </a:r>
            <a:endParaRPr b="0" lang="en-US" sz="28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Schoolbook"/>
              </a:rPr>
              <a:t>NEFİ</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456840"/>
            <a:ext cx="8229600" cy="5668920"/>
          </a:xfrm>
          <a:prstGeom prst="rect">
            <a:avLst/>
          </a:prstGeom>
          <a:noFill/>
          <a:ln w="0">
            <a:noFill/>
          </a:ln>
        </p:spPr>
        <p:txBody>
          <a:bodyPr anchor="t">
            <a:normAutofit fontScale="98000"/>
          </a:bodyPr>
          <a:p>
            <a:pPr marL="267120" indent="-2671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t>
            </a:r>
            <a:r>
              <a:rPr b="0" lang="tr-TR" sz="2400" spc="-1" strike="noStrike">
                <a:solidFill>
                  <a:srgbClr val="000000"/>
                </a:solidFill>
                <a:latin typeface="Century Schoolbook"/>
              </a:rPr>
              <a:t>XIV. yüzyılın Azeri Türkçesi’yle eserler veren şairlerinden biridir.</a:t>
            </a:r>
            <a:endParaRPr b="0" lang="en-US" sz="2400" spc="-1" strike="noStrike">
              <a:solidFill>
                <a:srgbClr val="000000"/>
              </a:solidFill>
              <a:latin typeface="Century Schoolbook"/>
            </a:endParaRPr>
          </a:p>
          <a:p>
            <a:pPr marL="267120" indent="-2671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Çağının en coşkun en lirik tasavvuf şairi odur. Hurufiliğin kurucusu olan bu mezhebin yayılışında önemli rol oynamıştır. </a:t>
            </a:r>
            <a:endParaRPr b="0" lang="en-US" sz="2400" spc="-1" strike="noStrike">
              <a:solidFill>
                <a:srgbClr val="000000"/>
              </a:solidFill>
              <a:latin typeface="Century Schoolbook"/>
            </a:endParaRPr>
          </a:p>
          <a:p>
            <a:pPr marL="267120" indent="-2671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Vahdet-i vücut inanışını ifadedeki cesur ve taşkın tutumu dolayısıyla 1404’te Halep’te derisi yüzülmek suretiyle idam edilmiştir.</a:t>
            </a:r>
            <a:endParaRPr b="0" lang="en-US" sz="2400" spc="-1" strike="noStrike">
              <a:solidFill>
                <a:srgbClr val="000000"/>
              </a:solidFill>
              <a:latin typeface="Century Schoolbook"/>
            </a:endParaRPr>
          </a:p>
          <a:p>
            <a:pPr marL="267120" indent="-2671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 </a:t>
            </a:r>
            <a:r>
              <a:rPr b="0" lang="tr-TR" sz="2400" spc="-1" strike="noStrike">
                <a:solidFill>
                  <a:srgbClr val="000000"/>
                </a:solidFill>
                <a:latin typeface="Century Schoolbook"/>
              </a:rPr>
              <a:t>0, Divan şirinin adeta bir Yunus Emre’sidir. </a:t>
            </a:r>
            <a:endParaRPr b="0" lang="en-US" sz="2400" spc="-1" strike="noStrike">
              <a:solidFill>
                <a:srgbClr val="000000"/>
              </a:solidFill>
              <a:latin typeface="Century Schoolbook"/>
            </a:endParaRPr>
          </a:p>
          <a:p>
            <a:pPr marL="267120" indent="-2671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Bektaşiler onu yedi büyük Alevi şairden biri saymışlardır.</a:t>
            </a:r>
            <a:endParaRPr b="0" lang="en-US" sz="2400" spc="-1" strike="noStrike">
              <a:solidFill>
                <a:srgbClr val="000000"/>
              </a:solidFill>
              <a:latin typeface="Century Schoolbook"/>
            </a:endParaRPr>
          </a:p>
          <a:p>
            <a:pPr marL="267120" indent="-2671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Divanında küçük mesnevileri, gazelleri yanında Türk nazım şekli olan tuyuğları da vardır.”</a:t>
            </a:r>
            <a:endParaRPr b="0" lang="en-US" sz="2400" spc="-1" strike="noStrike">
              <a:solidFill>
                <a:srgbClr val="000000"/>
              </a:solidFill>
              <a:latin typeface="Century Schoolbook"/>
            </a:endParaRPr>
          </a:p>
          <a:p>
            <a:pPr marL="267120" indent="-2671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entury Schoolbook"/>
              </a:rPr>
              <a:t>SEYYİT NESİMİ</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57200" y="457200"/>
            <a:ext cx="8229600" cy="59436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t>
            </a:r>
            <a:r>
              <a:rPr b="0" lang="tr-TR" sz="2400" spc="-1" strike="noStrike">
                <a:solidFill>
                  <a:srgbClr val="000000"/>
                </a:solidFill>
                <a:latin typeface="Century Schoolbook"/>
              </a:rPr>
              <a:t>17. yüzyılda yaşamış ve Kâtibi, Kuloğlu, Kayıkçı Kul Mustafa gibi şairlerin etkisi altında yetişmişti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Şiirlerinden Anadolu’nun birçok şehrini gezdiği, Mısır, Libya ve Rumeli’de bulunduğu, uzun yıllar gurbette yaşadığı anlaşılmaktadı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Etkileri Milli edebiyat akımı ve Cumhuriyet devri şairlerine kadar gelmişti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Şair, Divan ve Tekke şiirinin etkilerine kapılmamış, hayata ve halk zevkine bağlı olarak aşk, gurbet, sevinç, üzüntü gibi duyguları dile getirmişti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Şiirlerini en çok koşma ve semai tarzında söylemişti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entury Schoolbook"/>
              </a:rPr>
              <a:t>KARACAOĞLA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685800"/>
            <a:ext cx="8229600" cy="544032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a:t>
            </a:r>
            <a:r>
              <a:rPr b="0" lang="tr-TR" sz="2800" spc="-1" strike="noStrike">
                <a:solidFill>
                  <a:srgbClr val="000000"/>
                </a:solidFill>
                <a:latin typeface="Century Schoolbook"/>
              </a:rPr>
              <a:t>Divan edebiyatı asıl olarak şiirde gelişim göstermesine rağmen nesir alanında da birçok ürün verilmiştir.15. yüzyılda nesir alanındaki önemli sanatçılardan olan “süslü nesrin temsilcilerimdendir.</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 </a:t>
            </a:r>
            <a:r>
              <a:rPr b="0" lang="tr-TR" sz="2800" spc="-1" strike="noStrike">
                <a:solidFill>
                  <a:srgbClr val="000000"/>
                </a:solidFill>
                <a:latin typeface="Century Schoolbook"/>
              </a:rPr>
              <a:t>Sözcük oyunlarına, söz sanatlarına yer vermiş ağır bir dil kullanmıştır.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Schoolbook"/>
              </a:rPr>
              <a:t>“</a:t>
            </a:r>
            <a:r>
              <a:rPr b="1" lang="tr-TR" sz="2800" spc="-1" strike="noStrike">
                <a:solidFill>
                  <a:srgbClr val="000000"/>
                </a:solidFill>
                <a:latin typeface="Century Schoolbook"/>
              </a:rPr>
              <a:t>Tazurruname</a:t>
            </a:r>
            <a:r>
              <a:rPr b="0" lang="tr-TR" sz="2800" spc="-1" strike="noStrike">
                <a:solidFill>
                  <a:srgbClr val="000000"/>
                </a:solidFill>
                <a:latin typeface="Century Schoolbook"/>
              </a:rPr>
              <a:t>” adlı eseriyle bilinir.”</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Schoolbook"/>
              </a:rPr>
              <a:t>SİNAN PAŞA</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380520"/>
            <a:ext cx="8229600" cy="574524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a:t>
            </a:r>
            <a:r>
              <a:rPr b="0" lang="tr-TR" sz="2800" spc="-1" strike="noStrike">
                <a:solidFill>
                  <a:srgbClr val="000000"/>
                </a:solidFill>
                <a:latin typeface="Century Schoolbook"/>
              </a:rPr>
              <a:t>Tekke edebiyatının büyük şairlerindendir. Sivas civarında, Kanuni zamanında yaşamış, Bektaşi tarikatına mensup bir şairdir.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Aşkı, doğayı, halkın gerçek yaşamını duru bir halk diliyle anlatan şiirler yazmışlardır.</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Divan edebiyatından hemen hemen hiç etkilenmemiş, tüm şiirlerini hece ölçüsüyle yazmıştır.”</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Schoolbook"/>
              </a:rPr>
              <a:t>PİR SULTAN ABDAL</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533160"/>
            <a:ext cx="8229600" cy="55926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t>
            </a:r>
            <a:r>
              <a:rPr b="0" lang="tr-TR" sz="2400" spc="-1" strike="noStrike">
                <a:solidFill>
                  <a:srgbClr val="000000"/>
                </a:solidFill>
                <a:latin typeface="Century Schoolbook"/>
              </a:rPr>
              <a:t>Bursa’da, 1351 yılında doğduğu tahmin edilen şair, İslami Türk edebiyatının ileri gelen mesnevi şairlerindendi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Hayatı hakkında kesin bilgiler bulunmamakla birlikte Yıldırım Bayezid’e bir müddet Divan-ı Hümayun imamlığı yapmış olduğu söyleni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En ünlü yapıtı, Hz. Muhammed için yazdığı </a:t>
            </a:r>
            <a:r>
              <a:rPr b="1" lang="tr-TR" sz="2400" spc="-1" strike="noStrike">
                <a:solidFill>
                  <a:srgbClr val="000000"/>
                </a:solidFill>
                <a:latin typeface="Century Schoolbook"/>
              </a:rPr>
              <a:t>“Vesiletü’n Necat”</a:t>
            </a:r>
            <a:r>
              <a:rPr b="0" lang="tr-TR" sz="2400" spc="-1" strike="noStrike">
                <a:solidFill>
                  <a:srgbClr val="000000"/>
                </a:solidFill>
                <a:latin typeface="Century Schoolbook"/>
              </a:rPr>
              <a:t> -halk arasında “Mevlit” diye bilinir- adlı mesnevisidi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Bu yapıt, dil bakımından 15. yüzyıl Anadolu Türkçesinin sade şekliyle yazılmış olup yapıtta, istiare ve cinasa özellikle yer verilmişti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entury Schoolbook"/>
              </a:rPr>
              <a:t>SÜLEYMAN ÇELEBİ</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685800"/>
            <a:ext cx="8229600" cy="544032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t>
            </a:r>
            <a:r>
              <a:rPr b="0" lang="tr-TR" sz="2400" spc="-1" strike="noStrike">
                <a:solidFill>
                  <a:srgbClr val="000000"/>
                </a:solidFill>
                <a:latin typeface="Century Schoolbook"/>
              </a:rPr>
              <a:t>Zengin bir hayal gücü vardır. İlahi aşkı işlediği gazellerinde samimi ve coşkun bir lirizm göze çarpa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Onun şiirlerinde Sebk-i Hindi üslubunun bütün özellikleri yer alı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 </a:t>
            </a:r>
            <a:r>
              <a:rPr b="0" lang="tr-TR" sz="2400" spc="-1" strike="noStrike">
                <a:solidFill>
                  <a:srgbClr val="000000"/>
                </a:solidFill>
                <a:latin typeface="Century Schoolbook"/>
              </a:rPr>
              <a:t>Dili ve anlatımı akıcıdır; ancak Arapça, Farsça sözcük ve tamlamalar şiirlerinde oldukça fazladı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Gazel şairi olarak tanınır; büyük şair olarak tanınmasında sembolik bir eser olan </a:t>
            </a:r>
            <a:r>
              <a:rPr b="1" lang="tr-TR" sz="2400" spc="-1" strike="noStrike">
                <a:solidFill>
                  <a:srgbClr val="000000"/>
                </a:solidFill>
                <a:latin typeface="Century Schoolbook"/>
              </a:rPr>
              <a:t>Hüsn-ü Aşk</a:t>
            </a:r>
            <a:r>
              <a:rPr b="0" lang="tr-TR" sz="2400" spc="-1" strike="noStrike">
                <a:solidFill>
                  <a:srgbClr val="000000"/>
                </a:solidFill>
                <a:latin typeface="Century Schoolbook"/>
              </a:rPr>
              <a:t> mesnevisi de etkili olmuştu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entury Schoolbook"/>
              </a:rPr>
              <a:t>ŞEYH GALİP</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762120"/>
            <a:ext cx="8229600" cy="53640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t>
            </a:r>
            <a:r>
              <a:rPr b="0" lang="tr-TR" sz="2400" spc="-1" strike="noStrike">
                <a:solidFill>
                  <a:srgbClr val="000000"/>
                </a:solidFill>
                <a:latin typeface="Century Schoolbook"/>
              </a:rPr>
              <a:t>Tekke Edebiyatının en önemli temsilcilerindendi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Şiirlerini çoğunlukla hece ölçüsü ve dörtlüklerle oluşturan şairin, gazel ve mesnevi nazım şekliyle oluşturduğu şiirleri de vardı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 </a:t>
            </a:r>
            <a:r>
              <a:rPr b="0" lang="tr-TR" sz="2400" spc="-1" strike="noStrike">
                <a:solidFill>
                  <a:srgbClr val="000000"/>
                </a:solidFill>
                <a:latin typeface="Century Schoolbook"/>
              </a:rPr>
              <a:t>Halk dilinin söyleyiş özelliklerini yansıtan şiirlerinde yalın, içten, lirik bir üslup hâkimdi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Divan’ı ve </a:t>
            </a:r>
            <a:r>
              <a:rPr b="1" lang="tr-TR" sz="2400" spc="-1" strike="noStrike">
                <a:solidFill>
                  <a:srgbClr val="000000"/>
                </a:solidFill>
                <a:latin typeface="Century Schoolbook"/>
              </a:rPr>
              <a:t>Risaletü’n Nushiyye</a:t>
            </a:r>
            <a:r>
              <a:rPr b="0" lang="tr-TR" sz="2400" spc="-1" strike="noStrike">
                <a:solidFill>
                  <a:srgbClr val="000000"/>
                </a:solidFill>
                <a:latin typeface="Century Schoolbook"/>
              </a:rPr>
              <a:t> adlı öğretici bir mesnevisi vardı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entury Schoolbook"/>
              </a:rPr>
              <a:t>YUNUS EMR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456840"/>
            <a:ext cx="8229600" cy="566892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a:t>
            </a:r>
            <a:r>
              <a:rPr b="0" lang="tr-TR" sz="2800" spc="-1" strike="noStrike">
                <a:solidFill>
                  <a:srgbClr val="000000"/>
                </a:solidFill>
                <a:latin typeface="Century Schoolbook"/>
              </a:rPr>
              <a:t>Yunus Emre’nin etkisinde, kuvvetli tasavvuf kültürüyle yüklü, hem hece, hem aruz ölçüsünü kullanarak şiirler yazmıştır.</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 </a:t>
            </a:r>
            <a:r>
              <a:rPr b="0" lang="tr-TR" sz="2800" spc="-1" strike="noStrike">
                <a:solidFill>
                  <a:srgbClr val="000000"/>
                </a:solidFill>
                <a:latin typeface="Century Schoolbook"/>
              </a:rPr>
              <a:t>Nükteli, iğneli bir dili vardır. Şiirlerinde hicivli, mizahlı yer yer tekerlemeli bir örgü içerisinde ham sofularla, insanlık kusurlarıyla alay eder.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Century Schoolbook"/>
              </a:rPr>
              <a:t>“</a:t>
            </a:r>
            <a:r>
              <a:rPr b="0" lang="tr-TR" sz="2800" spc="-1" strike="noStrike">
                <a:solidFill>
                  <a:srgbClr val="ff0000"/>
                </a:solidFill>
                <a:latin typeface="Century Schoolbook"/>
              </a:rPr>
              <a:t>Budalaname”</a:t>
            </a:r>
            <a:r>
              <a:rPr b="0" lang="tr-TR" sz="2800" spc="-1" strike="noStrike">
                <a:solidFill>
                  <a:srgbClr val="000000"/>
                </a:solidFill>
                <a:latin typeface="Century Schoolbook"/>
              </a:rPr>
              <a:t> adlı eserinde halk nesrinin başarılı örneklerini vermiştir.”</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Schoolbook"/>
              </a:rPr>
              <a:t>KAYGUSUZ ABDAL</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7598d9"/>
                </a:solidFill>
                <a:latin typeface="Century Schoolbook"/>
              </a:rPr>
              <a:t>FATİH ÇAKIR</a:t>
            </a:r>
            <a:endParaRPr b="0" lang="en-US" sz="3000" spc="-1" strike="noStrike">
              <a:solidFill>
                <a:srgbClr val="575f6d"/>
              </a:solidFill>
              <a:latin typeface="Century Schoolbook"/>
            </a:endParaRPr>
          </a:p>
        </p:txBody>
      </p:sp>
      <p:sp>
        <p:nvSpPr>
          <p:cNvPr id="415" name=""/>
          <p:cNvSpPr txBox="1"/>
          <p:nvPr/>
        </p:nvSpPr>
        <p:spPr>
          <a:xfrm>
            <a:off x="456840" y="1600200"/>
            <a:ext cx="7467480" cy="4873680"/>
          </a:xfrm>
          <a:prstGeom prst="rect">
            <a:avLst/>
          </a:prstGeom>
          <a:noFill/>
          <a:ln w="0">
            <a:noFill/>
          </a:ln>
        </p:spPr>
        <p:txBody>
          <a:bodyPr anchor="t">
            <a:normAutofit/>
          </a:bodyPr>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entury Schoolbook"/>
              </a:rPr>
              <a:t>Başarılar dilerim…</a:t>
            </a:r>
            <a:endParaRPr b="0" lang="en-US" sz="2400" spc="-1" strike="noStrike">
              <a:solidFill>
                <a:srgbClr val="000000"/>
              </a:solidFill>
              <a:latin typeface="Century Schoolbook"/>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Wingdings"/>
                <a:ea typeface="Wingdings"/>
              </a:rPr>
              <a: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7200" y="456840"/>
            <a:ext cx="8229600" cy="5638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t>
            </a:r>
            <a:r>
              <a:rPr b="0" lang="tr-TR" sz="2400" spc="-1" strike="noStrike">
                <a:solidFill>
                  <a:srgbClr val="000000"/>
                </a:solidFill>
                <a:latin typeface="Century Schoolbook"/>
              </a:rPr>
              <a:t>O, belirli bir sevgiliyi değil, bizzat “ aşk’ın kendisini sevmektedi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 </a:t>
            </a:r>
            <a:r>
              <a:rPr b="0" lang="tr-TR" sz="2400" spc="-1" strike="noStrike">
                <a:solidFill>
                  <a:srgbClr val="000000"/>
                </a:solidFill>
                <a:latin typeface="Century Schoolbook"/>
              </a:rPr>
              <a:t>Olgunlaşma ve kurtuluş sırrını aşkta bulmuştur. İnsanı, aşkın cefasının olgunlaştıracağına inanı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 </a:t>
            </a:r>
            <a:r>
              <a:rPr b="0" lang="tr-TR" sz="2400" spc="-1" strike="noStrike">
                <a:solidFill>
                  <a:srgbClr val="000000"/>
                </a:solidFill>
                <a:latin typeface="Century Schoolbook"/>
              </a:rPr>
              <a:t>Ona göre kavuşma arzusu çok kuvvetli olmalı ama kavuşma gerçekleşmemelidir. Nitekim Türkçeye kazandırdığı ölümsüz “ Leyla ile Mecnun “ mesnevisinde Mecnun; aşkıyla yanıp tutuştuğu Leyla, çölde onu arayıp bulduğu halde kendisine dönüp bakmaz. Bu aşk anlayışı Tasavvufun aşk görüşüne benzer; ama şairin aşkı tamamen tasavvufi de değildi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entury Schoolbook"/>
              </a:rPr>
              <a:t>FUZULİ</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609480" y="456840"/>
            <a:ext cx="8229600" cy="52578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a:t>
            </a:r>
            <a:r>
              <a:rPr b="0" lang="tr-TR" sz="2800" spc="-1" strike="noStrike">
                <a:solidFill>
                  <a:srgbClr val="000000"/>
                </a:solidFill>
                <a:latin typeface="Century Schoolbook"/>
              </a:rPr>
              <a:t>Zaman zaman başından geçen olayları bir fıkra şeklinde mizahla süslemiştir.</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 </a:t>
            </a:r>
            <a:r>
              <a:rPr b="0" lang="tr-TR" sz="2800" spc="-1" strike="noStrike">
                <a:solidFill>
                  <a:srgbClr val="000000"/>
                </a:solidFill>
                <a:latin typeface="Century Schoolbook"/>
              </a:rPr>
              <a:t>Kendisini Keşan’a sürgüne götüren arabanın aynasından yüzünü görerek anlatışı Türk şiirinde yeni bir söyleyiş kabul edilmektedir.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Bu yüzden en tanınmış yapıtı </a:t>
            </a:r>
            <a:r>
              <a:rPr b="1" lang="tr-TR" sz="2800" spc="-1" strike="noStrike">
                <a:solidFill>
                  <a:srgbClr val="000000"/>
                </a:solidFill>
                <a:latin typeface="Century Schoolbook"/>
              </a:rPr>
              <a:t>‘Mihnet-i Keşan”dır</a:t>
            </a:r>
            <a:r>
              <a:rPr b="0" lang="tr-TR" sz="2800" spc="-1" strike="noStrike">
                <a:solidFill>
                  <a:srgbClr val="000000"/>
                </a:solidFill>
                <a:latin typeface="Century Schoolbook"/>
              </a:rPr>
              <a: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Sanatçının iki “Divan”ı ve ‘</a:t>
            </a:r>
            <a:r>
              <a:rPr b="1" lang="tr-TR" sz="2800" spc="-1" strike="noStrike">
                <a:solidFill>
                  <a:srgbClr val="000000"/>
                </a:solidFill>
                <a:latin typeface="Century Schoolbook"/>
              </a:rPr>
              <a:t>Gülşen-i Aşk”</a:t>
            </a:r>
            <a:r>
              <a:rPr b="0" lang="tr-TR" sz="2800" spc="-1" strike="noStrike">
                <a:solidFill>
                  <a:srgbClr val="000000"/>
                </a:solidFill>
                <a:latin typeface="Century Schoolbook"/>
              </a:rPr>
              <a:t> adlı mesnevisi başlıca yapıtları arasındadır.”</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Schoolbook"/>
              </a:rPr>
              <a:t>KEÇECİZADE İZZET MOLLA</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7200" y="456840"/>
            <a:ext cx="8229600" cy="57150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a:t>
            </a:r>
            <a:r>
              <a:rPr b="0" lang="tr-TR" sz="2800" spc="-1" strike="noStrike">
                <a:solidFill>
                  <a:srgbClr val="000000"/>
                </a:solidFill>
                <a:latin typeface="Century Schoolbook"/>
              </a:rPr>
              <a:t>Yaşamını bilime ve kitaplara adamıştır.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Bir yakınının ölümünden sonra kendisine kalan mirasla pek çok kitap almıştır.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Batı bilimlerine ilk pencereyi açan kişidir. Fransızca ve Latince öğrenmiştir. Tarih, coğrafya, bibliyografya (kitap bilgisi), sosyoloji alanlarında ciddi emek ürünü olan yirmiden fazla eseri vardır.</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Schoolbook"/>
              </a:rPr>
              <a:t> </a:t>
            </a:r>
            <a:r>
              <a:rPr b="0" lang="tr-TR" sz="2800" spc="-1" strike="noStrike">
                <a:solidFill>
                  <a:srgbClr val="000000"/>
                </a:solidFill>
                <a:latin typeface="Century Schoolbook"/>
              </a:rPr>
              <a:t>20 yılda tamamladığı, on beş bine yakın kitabın konuları ve yazarları hakkında bilgi veren kitabı çok önemlidir.”</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Schoolbook"/>
              </a:rPr>
              <a:t>KÂTİP ÇELEBİ</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457200" y="457200"/>
            <a:ext cx="8229600" cy="4525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Schoolbook"/>
              </a:rPr>
              <a:t>“</a:t>
            </a:r>
            <a:r>
              <a:rPr b="0" lang="tr-TR" sz="2400" spc="-1" strike="noStrike">
                <a:solidFill>
                  <a:srgbClr val="000000"/>
                </a:solidFill>
                <a:latin typeface="Century Schoolbook"/>
              </a:rPr>
              <a:t>İran hükümdarlarından Keykavus’un XI. yüzyıl yazdığı </a:t>
            </a:r>
            <a:r>
              <a:rPr b="1" lang="tr-TR" sz="2400" spc="-1" strike="noStrike">
                <a:solidFill>
                  <a:srgbClr val="000000"/>
                </a:solidFill>
                <a:latin typeface="Century Schoolbook"/>
              </a:rPr>
              <a:t>Kabusname’</a:t>
            </a:r>
            <a:r>
              <a:rPr b="0" lang="tr-TR" sz="2400" spc="-1" strike="noStrike">
                <a:solidFill>
                  <a:srgbClr val="000000"/>
                </a:solidFill>
                <a:latin typeface="Century Schoolbook"/>
              </a:rPr>
              <a:t>yi XV. Yüzyılda II. Murat’ın isteği üzerine çevirerek, şair olmak isteyenlere bir şiirin özellikleri konusunda öğütler sunup sade nesir örneği vermişti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entury Schoolbook"/>
              </a:rPr>
              <a:t>MERCİMEK AHME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usuf</cp:lastModifiedBy>
  <dcterms:modified xsi:type="dcterms:W3CDTF">2012-08-25T22:44:55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