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7693-E8B2-4BC7-BFED-A7F697B5E77F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C98A-DBC2-4C97-B961-94D7DAAF9A31}" type="slidenum">
              <a:rPr b="0" lang="tr-T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57DE-0B72-47C6-B9B9-A930E799CA8C}" type="slidenum">
              <a:rPr b="0" lang="tr-T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C88D-FE7F-4324-9028-23DC1CA60DCE}" type="slidenum">
              <a:rPr b="0" lang="tr-T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2E2A-89F9-4A40-B533-1EFD9F682E33}" type="slidenum">
              <a:rPr b="0" lang="tr-T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5545-72BF-4187-9076-D456CE037A65}" type="slidenum">
              <a:rPr b="0" lang="tr-T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2F0F-0F78-47F6-AA7C-7F47E28F6D43}" type="slidenum">
              <a:rPr b="0" lang="tr-T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1713-0C5E-4313-80B7-569A8F8CC880}" type="slidenum">
              <a:rPr b="0" lang="tr-T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ADE2-F5F0-4D60-94CC-CF238A3E9970}" type="slidenum">
              <a:rPr b="0" lang="tr-T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8F7F-2255-4168-8B57-ADF1CEEF245A}" type="slidenum">
              <a:rPr b="0" lang="tr-T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EBB4-3B5F-4E41-A798-597C7A91240F}" type="slidenum">
              <a:rPr b="0" lang="tr-T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615F-7530-4E22-841E-4AE4A429DA40}" type="slidenum">
              <a:rPr b="0" lang="tr-T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302B-7A44-4345-9542-99795A0B8C20}" type="slidenum">
              <a:rPr b="0" lang="tr-T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8B2E-14A1-4F7B-A180-426CB952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2E47-C5D6-409C-AB18-076AC72E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775-6F41-4074-A6D5-F523E5B4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8652-24C0-482D-BC17-1A7E91B6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1530-759E-408A-ABB9-25E95E51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D6F1-2080-4EB0-B659-F3E606E4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E450-BEC1-40A1-BCD5-6117E09F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7C16-F232-4EC8-9B5A-4179A0BC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6058-A587-424C-AE60-9B74DA2A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F333-A9B6-4DA8-A584-8625F595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63FF-71D4-46F4-9381-5CFFF858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D85-0A63-457C-B2F3-9580477E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27A3-B7FE-4CC3-9C17-1E3322AC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759E-7C3C-4D14-AA9E-79838018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7334-221D-4D76-BCA6-B55A2B54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156C-02C2-4AFA-A0F6-35CF47D7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BFBE-4520-41A1-9B66-048775EA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0F4A2-11B7-4244-A29B-1098FA59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F7FD7-36E0-45E5-A590-D10C0D2A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A99E7-DC08-430F-B434-C4C2DA38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A2BDC-C61E-4B7C-9F80-41EA4C1F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58CBD-F798-404D-84B7-93DDF254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3803-D7A4-4FB3-8027-4EEB44F4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D1418-4BCF-4D42-806F-79537562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AB417-CE84-4156-B763-A9AA74EC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FC0EF-A331-47C5-89C8-A57F9307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6B28F-A80D-4E4F-B776-8A3CAD5F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BFC5B-0A26-461E-82F5-BFEACFC2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AFA33-2E76-431D-939A-3FC534C4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01348-5AFD-4841-A1D1-DFB24595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AA031-CEAC-490A-9D0F-33614D6E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B028F-994B-42D4-88CA-AF6A1892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4BF5A-29FA-4A3D-BE41-DA081A04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CDB-450C-4D9D-9FAA-36CD9A0F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129E6-7E41-4B38-9D6F-C2995C78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93565-C907-44A8-BDD8-587EF718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C2BD0-2D17-46F9-B6B2-488BF326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0F8CD-F645-4F02-932A-10F2FE3B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D1A82-07BB-4095-A4C7-89453371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F47F6-AF7C-4CE3-BFED-879A70EB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CA3C9-3899-4908-BD0D-2DDF2118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66FE0-2107-412B-BA9D-A7739229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C6FFA-293E-4D6B-BAFE-214CDC5F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F76-81CF-4FC8-B20E-AE131645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6C9-3B1A-4226-A81E-CA58DBAD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053F-D8FD-4957-80C4-3FB4E1D0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D0F8-DA9D-4DCE-B103-CB5062B9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933E-A45D-4687-BC09-4EA1AB08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315C-D854-43C6-9A68-1CBB3E7599A0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Serbest Form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7 Serbest Form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B8FA-529B-4EFF-B0C3-9CD9C428F9AC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Serbest Form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7 Serbest Form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F3F9-0A47-4B11-BF62-B3F4294CAE52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14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15 Serbest Form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16 Serbest Form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B8F6-6CF4-4ED7-B72E-33B5E917C477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244440" y="109440"/>
            <a:ext cx="8802720" cy="6540480"/>
          </a:xfrm>
          <a:prstGeom prst="rect">
            <a:avLst/>
          </a:prstGeom>
          <a:ln w="0">
            <a:noFill/>
          </a:ln>
        </p:spPr>
      </p:pic>
      <p:sp>
        <p:nvSpPr>
          <p:cNvPr id="203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642E-59A4-4662-819D-93EBF3C87592}" type="slidenum">
              <a:rPr b="0" lang="tr-TR" sz="1200" spc="-1" strike="noStrike">
                <a:solidFill>
                  <a:srgbClr val="d1eaee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Ünlem işareti cümlenin sonunda yer aldığında ünlem bildiren sözcükten sonra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Vah vah, zavallı ne kadar da zayıflamış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Yaşasın, Türkçe testinden en az 38 net gelir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Arasözlerin başında ve sonunda kullanılır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Köyüme, çocukluğumun o cennet diyarına, elbe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ir gün döneceği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u işi iki güne kalmaz, hele baban bir gelsin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hallederiz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D633-077A-4324-9CA5-52AA1B4E02A7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OT: Bu cümlelerde virgülün yerine kısa çizgi de kullanılabil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çen hafta perşembe günü, seninle görüştüğümüz gün, epey yorgun görünüyordu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OT: Tamlamalarda, tamlayanla tamlanan arasına virgül girmemelid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tın, zarif boynu seyisleri adeta büyülemişt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OT: İle, ve gibi bağlaçların olduğu yerde virgül kullanılmaz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3AC5-95A0-47FF-9C6B-232A5EC162FE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OT:Zarf fiil (eklerinden)lerden sonra istisnalar hariç- virgül gelmez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ısa yol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arak, -erek, -ıp, -ip, -up, -üp eklerinden sonra virgül gelmez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BD73-5B94-4272-8003-4538F21602A7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oktalı Virgül ( ;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Ögeleri arasında virgül kullanılmış sıralı cümleleri ayırmak için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Para cüzdanını açtı, cüzdanın içinden bir yüzlük çıkardı; parayı yüzünü buruşturarak çocuğa verdi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7958-CC88-4DE1-AE4E-C9D144A6CDFC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Aralarında çeşitli ilgiler bulunan “ama, fakat, lakin, çünkü, yoksa, öyle ki, ayrıca, zaten” gibi bağlaçlarla birbirlerine bağlanan bağlı cümlelerde, bu bağlaçlardan önce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Her zaman insanlara saygı göstermeliyiz; fakat hak ettiklerinden fazlasını deği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ze karşı hep gizli bir saldırganlık besledi;çünkü biz onu bazen destekledi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erslerine çok çalıştı; ama başarılı olamadı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lecekti; fakat otobüse yetişemed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DF35-E514-4A2F-A31B-5548131C6514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OT:Bazen bu bağlaçlar kullanılmaz; noktalı virgül bu bağlaçların yerine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ok iyi çalıştı; başaramadı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u konular üzerinde fazla durmayalım;zamanımız yo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85CA-E44A-4AFA-A9C9-2F859EE3BDCE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İçerisinde virgül bulunan cümlelerde özneyi belirtmek için kullanılır. (Bu kullanım bazen anlam karışıklığını da giderir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Ahmet; Yunus, Mustafa,  Ali’ye göre oldukç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çalışkan bir öğrencidi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Ahmet Haşim;  birçok Divan şairine rahme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okutacak kıvamda kapalı, soyut, müzikal bir dil kullan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Üniversite, ilkokul, lise eğitimi vermez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5146-D4A9-4DC7-8F92-8D2C4CE5B179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İçerisinde virgülle ayrılmış unsurlar bulunan tür ve takımları ayırmak için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aradeniz kıyılarında en çok çay, fındık, mısır;Akdeniz kıyılarında ise üzüm, pamuk, narenciye üretimi yapılı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Gül, aşkın; karanfil, dağınıklığın; menekşe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yetimliğin sembolüd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emal Tahir’in Devlet Ana, Yorgun Savaşçı;Yaşar   Kemal’in İnce Memed, Teneke romanlarını okudu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7994-E498-4E1C-AE0D-AC3334C26D93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68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İki Nokta ( :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Yapılacak açıklama ve verilecek örneklerden önce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u durumun birkaç sakıncası var: Metinlerin yanlış okunabilmesi, hatalı yorumlamalara yol açılması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Dilimizdeki bazı ekler üç seslidir: -gın, sız, tır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Ad: Varlıkları veya kavramları karşılayan sözcüklere ad deni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Ek halindeki iki zamirimiz şunlardır: İlg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zamiri, iyelik zamiri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4C13-181D-4A7F-A6D9-2DA50B2B4D46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Tırnak içinde verilen alıntı cümlelerden önce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Ünlü filozof: “Bir yerde bir şey olma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stiyorsan çok yerde çok şey olmalısın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emişt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fşar Timuçin bir yazısında şöyle d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Nerede insan varsa, orada umut vardır.“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Konuşma metinlerinden önce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dam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—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aya kaç kişi geldi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li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—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Üç kişiyiz efendi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DA46-47E1-4325-97C8-32E6CB091FDD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Kısaltmalarda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r. Alb. Prof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of.  (profesör),   Alm. (Almanca), Mat. (Matematik),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İng. (İngilizce), Hv. Kuv. (Hava Kuvvetleri)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3F49-569F-4F1C-9069-3C76F7A4B609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OT: İki noktadan sonra gelen kısım bir cümleyse, bu cümle her zaman büyük harfle başlar;ancak iki noktadan sonraki bölüm cümle değerinde değilse, iki durum ortaya çıka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örnekler sınırlandırılmışsa, iki noktadan sonraki bölüm büyük harfle başlatılır ve sonuna nokta konu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ürkçedeki iki kelime birden çok anlam taşır: Sıyırmak,asılma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İki şeyden nefret ediyorum: İkiyüzlülük, yalancılı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F902-992D-44F9-B074-5F04EE526FB6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Verilen örnekler sınırlandırılmamışsa, iki noktadan sonraki bölüm küçük harfle başlar ve sonuna üç nokta kon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u konuda önemli bazı kavramlar var:ihanet,  hurafe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098B-DB31-4CD5-A3F7-B7714BFDECEC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Üç Nokta ( …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Örneklerin devam ettirilebileceğin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ifade etme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Yanında pek çok öğrenci vardı: Ali,Veli,Ece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Toplantıda her meslekten adam vardı: öğretmen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mühendis, hemşire, polis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C423-8CA5-4920-82BA-172767E0FC6D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Eksiltili (yüklemi olmayan) cümlelerin sonuna konu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Şimdi ben sana desem ki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Ya anahtarı evde unutmuşsa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Cümle içerisinde yazılmak istenmeyen (kaba) ifadelerin yerine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Her şeye…  sebep olmuş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u paketi… almış olabili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Devletin malı deniz, yemeyen d…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u… adamı bir daha gözüm görmesin, diyo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Kılavuzu karga olanın burnu ………. çıkmaz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E784-D94B-4A7A-B17D-5670E0E5E016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Bir sözün başında ortasında veya sonunda atlanan yer olduğunu göstermek amacıyla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…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ntep kalesi şehrin ortasında bakımsızlıktan köhneleşmiş. Hüzünlü bir baykuş gibi şehri seyretmekten yorgun düşmüşt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Hayata mal olmuş tren, vapur, otobüs gibi sözcükler, bin yıl çalışılsa da dilden çıkarılamaz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ydınlık sınıfla halkın zihniyet ve amacı arasında (…) tabii bir uygunluk gerek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FB47-FEBF-488B-A4B6-4C22C7CD75BC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oru İşareti ( ?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Soru anlamı taşıyan sözcük ve cümlelerden sonra konu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Nasılsın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Yıllardır bu davayı kazanmanın peşinde olduğumu biliyor musun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Dikkat: İçerisinde soru eki ya da sözcükler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kullanılsa bile soru anlamı taşımaya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cümlelerin sonuna soru işareti konmaz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Senden neden bu kadar nefret ettiğini anlayamıyoru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u işi kime yaptırdıklarını mutlaka bulmalıyız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ana niçin kızmış, bir gün mutlaka öğreniri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2CB1-D1FC-4DAE-AD6A-1C00658B5903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Cevap gerektirmeyen sözde soru cümlelerinden sonra kon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 adamı tanımaz olur muyum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ndan iyi soru mu olu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ar ağacı narsız olur mu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öyle tembel tembel oturmaktan çalışma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ha iyi değil mi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Bilinmeyen yer, tarih ve benzeri durumlar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unus Emre (? – 1329)   (Doğum yeri: ?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ehi Bey (? – 1548), Anadolu’da ilk şairler tezkiresini yazdı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1268-DFF3-4219-866C-7D2E2566818A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Verilen bilgilerin kesin olmadığını ifade etme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vliya Çelebi’nin Mısır’da  (?) öldüğü sanılıy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öroğlu, 17. yüzyılda (?) yaşamış bir ozanımızd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asrettin Hoca’nın ölümü, 1208 (?) yılına rast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FCAF-16E5-4464-86F4-3462B31A1E01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Ünlem İşareti ( ! 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Sevinç, acı, korku, kıvanç, coşku, şaşma gibi duyguları anlatan cümlelerin sonuna konu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Yazıklar olsun sana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Hey, bu tarafa baksana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Ak tolgalı beylerbeyi haykırdı: İlerle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Söylenen sözün tam tersini kastetmek veya alay etmek (küçümsemek) amacıyla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Dün gece yine onun muhteşem(!) yemeklerini yedi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u şair (!), ne güzel (!) şiirler yazarmış meğe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Sizin ne kadar zeki (!) olduğunuzu herkes biliyo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D1A8-EAF5-4F15-B05B-9A8ACE6EA9E0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Tırnak İşareti ( “ ”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Alıntı cümleler tırnak içinde yaz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onfüçyüs: “Olgun insan sözlerinde ağır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vranışlarında aceleci değildir.” demiş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atasözümüz şöyle der: “Körle yatan şaşı kalkar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B8A4-296A-410C-9F86-5C794942F958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aat ve dakikaların yazımında ve tarihlerde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20.08.197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arın 20.30’da geliri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5. 01. 2005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Tırnak içinde verilen alıntı cümlelerde tırnak kapanmadan önce gerekiyorsa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evlana: “Odun bin bahar görse yeşermez.” demiş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4818-5E39-41DA-8694-7E912A4CF5B3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Cümle içindeki yapıt adları veya başlıklar tırnak içine alın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iz de Orhan Veli’nin “İstanbul’u Dinliyorum”unu okudu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Yazarın “Bakmak ve Görmek” adlı makalesini ben de okudu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Fazıl Hüsnü Dağlarca’nın yayımladığı ilk şiir kitabı “Havaya Çizilen Dünya”d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0CC6-9005-4269-BCC6-770FDC8C59E3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Bir cümlede özel olarak belirtilmek istenen sözcükler tırnak içine alınabil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arış planına “Kıbrıs” temkinli yaklaşıy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Tırnak içine alınmış bir cümlede aktarılan bir söz kullanılıyorsa, bu söz tek tırnak içinde gösteril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Edebiyat öğretmeni: “Şiirler içinde ‘Zindandan Mehmet’e Mektup’ gibisi var mı?” dedi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A7C9-DDFE-4983-A066-4FA314F65A96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Kesme İşareti ( ’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Özel isimlerin köklerine getirilen çekim eklerini ve sayılara getirilen ekleri ayırmak için kullanılı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Malatya’nın kayısısı, Antep’in fıstığı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u kitabı Ayla’dan aldı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Aydın’da bir sonbahar yaşamıştı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Yarın akşam Adıyaman’a gideceğiz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ana 5’inci boyuttan bahs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Not: Özel isimlere gelen yapım ekleri kesmeyle ayrılmaz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Antepliyim, Anteplisin, Antepl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Türkçe, kullanan kişi sayısı bakımından dünyanın dördüncü büyük dilid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Müslümanlık nedir, şekil mi öz mü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B36D-DEB7-4DA7-8388-48447BF1CB1D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Kısaltmalara getirilen çekim eklerini ayırmak için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ÖSYM’den     AB’ye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Sözcükte ünlü düşmesini göstermek için kullanılabili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N’oldu             N’eylersin           Karac’oğlan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Cümle içinde söylenen harflerden sonra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A’dan Z’ye her şeyi anlattık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523E-45F7-4354-8141-87DDF5A52A29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Yazılışları aynı olan sözcüklerde anlam karışıklığını gidermek için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Çocuğun elmasını aldı.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Çocuğun elmas’ını aldı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Kovan’ın içinde bir arı va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Kova’nın içinde bir arı va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u işe kadının aklı ermedi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Tava’nı iyice temizle.    Tavan’ı iyice temizle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Not: Bu kurala giren kelime sayısı çok değildir. Ancak farklı ve dikkat gerektiren sorular sormak için uygun bir konudu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5F67-8A37-4F9C-9AB0-B56D2A148EC4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Özel isimlere gelen –ler eki,  ve benzerleri anlamı ile gruptan seçme anlamı taşıyorsa kesmeyle ayrılır, diğer durumlarda ayrılmaz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iz daha nice Fatih’ler yetiştireceğiz.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Ne Mevlana’lar ne Yunus’lar gördü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Ahmet’ler yanıma gelsi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Mustafalara gitti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Enginler bu akşam bize gelecekmiş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Tarihlerden ve sayılardan sonra gelen çekim eklerini ayırmak için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1973’ün kışında doğmuşu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7.30’da burada o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50A6-EE8C-4B14-B459-8385DEDD7092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Parantez (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özcük veya sözcük gruplarının eş veya yakın anlamları parantez içinde gösteril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ervet-i Fünun  (Edebiyat-ı Cedide) edebiyatı ismini aynı adlı dergiden almış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Bir sözcük ya da cümleden sonra yapılan açıklamalar parantez içinde gösteril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nzimat şairleri, Divan şiirinin nazım şekillerini (gazel, kaside, mesnevi, terkib-i bent…) çok kullanmışlard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E594-B3BA-4613-8584-5A41DE49EF8E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Yabancı sözcüklerin okunuşu parantez içinde gösteril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hakespeare (Şekspir)okumadan tiyatro hakkında karar vermeyi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ndre Gide (Andre Jid), “Dar Kapı” adlı romanıyla meşhur olmuşt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0610-63CB-4542-85BA-E9ED824C80DF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Kısa Çizgi (-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Satır sonlarında hece bölmede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………………………………</a:t>
            </a: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..…gele-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ceğini bilmiyordu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İki ulus, iki tarih ya da iki şey arasındaki ilgiyi belirtmek için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II. Dünya Savaşı 1939-1945 arasında yapılmışt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Türk- Yunan dostluğuna gölge düşt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Gaziantep - Ankara karayolu trafiğe kapanmış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Neden - sonuç ilişkisi açısından inceleyiniz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BD4D-5EBC-40D0-9550-C92235FBA730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Arasözlerin, aracümlelerin başında ve sonunda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Şu adam - yere bakan ihtiyar - onun dedesid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 romanı - siz de hatırlarsınız - geçen gün aldı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Dilbilgisi incelemelerinde köklerin ve gövdelerin sonuna, eklerin başına kon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l- , git- , ol- kökler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üzelleş- , alın- , gizlen- gövdeler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lı , -sız , -la , -mek   ekleri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F2E2-8FD8-4FAE-9CAC-73F32FEB6AB5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ıncı,-inci eki yerine kullanılı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7. sınıfa bu yıl başladı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 apartmanın 8. katında oturuyor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I. Murat, III. Selim, 13. madde, 8. yıl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ayı basamaklarında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0.000.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3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0063-9BA3-4163-9DA4-6C6BAF3633E9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5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NECİP YAĞC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SABAHATTİN ZAİM SOSYAL BİLİMLER LİSESİ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TÜRK DİLİ VE EDEBİYATI ÖĞRETMENİ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C576-F0DB-460C-BD3C-977E6A9A4DD4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Rakamlar arasında çarpı işaret yerine konu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12.5= 60,   62.4= 248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Constantia"/>
              </a:rPr>
              <a:t>NOT: Kısaltmalarda nokta kullanılmaz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ODTÜ (Orta Doğu Teknik Üniversitesi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PT (Devlet Planlama Teşkilatı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TBMM (Türkiye Büyük Millet Meclisi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Not: Cümle sonunda yer alan noktad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onra büyük harf kullanılı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0682-FCC4-498E-9ED0-11CCEBB1629E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Virgül (,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Yüklemden uzak kalmış özneden sonra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Yazar, her şeyden önce kendisine verilen yeteneği kamu yararına kullanmak sorumluluğunda olduğunu unutmamalıd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Eş görevli sözcükler, söz öbekleri ya da ögeler arasına konu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u toplantıda eski borçları, gelecek yılın planlarını, yönetici seçimlerini konuşmalıyız.( Nesneleri ayırmak içi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Sessiz, sakin, kararlı bir insan olması herkes tarafından takdir ediliyordu.  (Tamlayanların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u evler, araziler, bağlar, bahçeler bir zamanlar bizimdi.(Tamlananları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E3B3-9926-410D-BC1F-7E0ECE53AAF2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ıralı cümleleri ayır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Herkes derin bir uykudaydı, ben sabah iç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hazırlık yapıyordu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Yağmur durdu, burnumuza ıslak toprağı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kokusu geliyordu, bu kokuyu hiçbirimiz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kaçırmak istemedik, derin derin içimize çekti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Ders çalışmaktan yorulunca dışarı çıkar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ahçede dinlenirdi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FCB2-34B4-47C3-A995-645A139CDBCF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Özellikle vurgulanmak istenen ögelerden sonra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Kendimi, sana asla ezdirme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Anlam karışıklığını gidermek için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İhtiyar adamın elindeki tespihi çok beğendi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O arabaya yavaş yavaş ilerledi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Genç adama bir şeyler söylemek gereki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Yaşlı  kadını güçlükle yatıştırdı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6E0F-A20B-4F8B-8B96-04CB97271F1E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Tırnak içine alınmamış alıntı cümlelerden sonra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ir şey sizi öldürmüyorsa güçlendirir, dedi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Onlarla bir arada bulunmak bize keyif veriyor, dedi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Bu arkadaşı hiç görmedim, diye mırıldandı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nstantia"/>
              </a:rPr>
              <a:t>Onaylama, reddetme, cevap verme, hitap ifadelerinden sonra kullanılı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Evet, ben de o filmi hatırlıyoru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Hayır, kendisi bana bunu söylemedi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Yok, bundan sonra seninle iş yapma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Tamam, sana inandık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onstantia"/>
              </a:rPr>
              <a:t>Ahmet, şimdi anlat bakalım bana derdini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2 Veri Yer Tutucusu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İP YAĞ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3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7C84-CBD1-4A96-B4D0-457FAB162DFF}" type="slidenum">
              <a:rPr b="0" lang="tr-TR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4 Altbilgi Yer Tutucusu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Comic Sans MS"/>
              </a:rPr>
              <a:t>necibyagci@hotmail.com            necip2744@gmail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8:55:16Z</dcterms:created>
  <dc:creator>Computers</dc:creator>
  <dc:description/>
  <dc:language>en-US</dc:language>
  <cp:lastModifiedBy>yusuf</cp:lastModifiedBy>
  <dcterms:modified xsi:type="dcterms:W3CDTF">2012-12-04T21:49:31Z</dcterms:modified>
  <cp:revision>7</cp:revision>
  <dc:subject/>
  <dc:title>NOKTA (.) Bitmiş cümlelerin sonuna konur. İnsanın bilgisi, kullandığı kelimelerin toplamından ibarettir. Aldığımız ilk nefes, vereceğimiz son nefesin erken ödemesidir.</dc:title>
</cp:coreProperties>
</file>