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ED3EA2-F439-4022-8B35-B02E464E84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AE909-F95E-45ED-90D4-3686FC32F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9C868A-BEAA-4875-98F4-504BD1C6EB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5E885-4004-444D-AE6B-075858F7A6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745290-371D-4628-8735-5554FA3064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009E74-0448-4C66-92F3-C809744DC1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000C34-308D-41CA-82EB-C835C937D8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11DA3B-13FA-43C0-BE2A-AB185CAF19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C43FEA-B1A8-46C0-ABD7-65B2D71BC5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5A209C-FE85-4A8F-870A-04E73AC105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D34CC-F757-4A15-9CF3-ED5870AF1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9B683-9958-42D6-A168-B78B6CF8F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82E75-F09D-420E-922C-38B76062E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14879-1D87-4967-9732-3E7C2D21D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C30177-FA12-4CC1-919F-11E3EE4E32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F98312-B1A6-4BB6-B15E-2C8536BE65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CAB23C-A9B8-4A7D-A3D6-23B3230546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096A2-76FF-4A9A-9DFF-69C750D83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05E3B-FF04-46B9-BA07-89E5B6920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87D96-1FE8-456A-98E4-270C13907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89F7C-82A7-472B-A038-EDCD56151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21E87-7EDA-4959-9257-D400DA91E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9D8BA-8FFA-4B7E-A848-C6D44DD20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B1A3D-8FC0-47DF-87C4-662D130B61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0" name=""/>
          <p:cNvGrpSpPr/>
          <p:nvPr/>
        </p:nvGrpSpPr>
        <p:grpSpPr>
          <a:xfrm>
            <a:off x="0" y="0"/>
            <a:ext cx="9140760" cy="6851520"/>
            <a:chOff x="0" y="0"/>
            <a:chExt cx="9140760" cy="6851520"/>
          </a:xfrm>
        </p:grpSpPr>
        <p:sp>
          <p:nvSpPr>
            <p:cNvPr id="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13" name=""/>
            <p:cNvGrpSpPr/>
            <p:nvPr/>
          </p:nvGrpSpPr>
          <p:grpSpPr>
            <a:xfrm>
              <a:off x="304920" y="3625920"/>
              <a:ext cx="1990440" cy="1465200"/>
              <a:chOff x="304920" y="3625920"/>
              <a:chExt cx="1990440" cy="1465200"/>
            </a:xfrm>
          </p:grpSpPr>
          <p:sp>
            <p:nvSpPr>
              <p:cNvPr id="1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465FF-2799-45F0-978A-B18CFF01B3B3}" type="slidenum">
              <a:rPr b="0" lang="tr-TR"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80" name=""/>
          <p:cNvGrpSpPr/>
          <p:nvPr/>
        </p:nvGrpSpPr>
        <p:grpSpPr>
          <a:xfrm>
            <a:off x="0" y="0"/>
            <a:ext cx="9140760" cy="6851520"/>
            <a:chOff x="0" y="0"/>
            <a:chExt cx="9140760" cy="6851520"/>
          </a:xfrm>
        </p:grpSpPr>
        <p:sp>
          <p:nvSpPr>
            <p:cNvPr id="8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93" name=""/>
            <p:cNvGrpSpPr/>
            <p:nvPr/>
          </p:nvGrpSpPr>
          <p:grpSpPr>
            <a:xfrm>
              <a:off x="304920" y="3625920"/>
              <a:ext cx="1990440" cy="1465200"/>
              <a:chOff x="304920" y="3625920"/>
              <a:chExt cx="1990440" cy="1465200"/>
            </a:xfrm>
          </p:grpSpPr>
          <p:sp>
            <p:nvSpPr>
              <p:cNvPr id="9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12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12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A3784-7C6F-46FA-824E-5FC268307F61}" type="slidenum">
              <a:rPr b="0" lang="tr-TR"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12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ffff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ff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ogretmenlerforumu.com/" TargetMode="External"/><Relationship Id="rId3" Type="http://schemas.openxmlformats.org/officeDocument/2006/relationships/hyperlink" Target="http://www.edebiyatogretmeni.net/gul_resimleri.htm" TargetMode="External"/><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447560"/>
            <a:ext cx="7772400" cy="4933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99"/>
                </a:solidFill>
                <a:latin typeface="Arial"/>
              </a:rPr>
              <a:t>Abanın kadri yağmurda bilinir.</a:t>
            </a:r>
            <a:br>
              <a:rPr sz="2800"/>
            </a:br>
            <a:r>
              <a:rPr b="0" lang="en-US" sz="2800" spc="-1" strike="noStrike">
                <a:solidFill>
                  <a:srgbClr val="ffff99"/>
                </a:solidFill>
                <a:latin typeface="Arial"/>
              </a:rPr>
              <a:t>Her şeyin bir değeri vardır. Bir şeyin gerçek değeri (kadri) ise, ona gerçekten ihtiyaç duyulduğu zaman ortaya çıkar.</a:t>
            </a:r>
            <a:br>
              <a:rPr sz="2800"/>
            </a:br>
            <a:br>
              <a:rPr sz="2800"/>
            </a:br>
            <a:r>
              <a:rPr b="1" lang="en-US" sz="2800" spc="-1" strike="noStrike">
                <a:solidFill>
                  <a:srgbClr val="ffff99"/>
                </a:solidFill>
                <a:latin typeface="Arial"/>
              </a:rPr>
              <a:t>Abdala “kar yağıyor” demişler, “titremeye hazırım” demiş.</a:t>
            </a:r>
            <a:br>
              <a:rPr sz="2800"/>
            </a:br>
            <a:r>
              <a:rPr b="0" lang="en-US" sz="2800" spc="-1" strike="noStrike">
                <a:solidFill>
                  <a:srgbClr val="ffff99"/>
                </a:solidFill>
                <a:latin typeface="Arial"/>
              </a:rPr>
              <a:t>Yoksulluk ve sıkıntı içinde yaşayıp eziyet çekmekte olan kimseler, karşılaşacakları zor şartlardan endişe duymazlar. Çünkü onlar bu şekilde yaşamaya alışıktırlar.</a:t>
            </a:r>
            <a:br>
              <a:rPr sz="2800"/>
            </a:br>
            <a:endParaRPr b="0" lang="en-US" sz="2800" spc="-1" strike="noStrike">
              <a:solidFill>
                <a:srgbClr val="ffff99"/>
              </a:solidFill>
              <a:latin typeface="Arial"/>
            </a:endParaRPr>
          </a:p>
        </p:txBody>
      </p:sp>
      <p:sp>
        <p:nvSpPr>
          <p:cNvPr id="161" name="PlaceHolder 2"/>
          <p:cNvSpPr>
            <a:spLocks noGrp="1"/>
          </p:cNvSpPr>
          <p:nvPr>
            <p:ph type="subTitle"/>
          </p:nvPr>
        </p:nvSpPr>
        <p:spPr>
          <a:xfrm>
            <a:off x="971640" y="188640"/>
            <a:ext cx="6400800" cy="3095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Göğe direk, denize kapak olmaz.</a:t>
            </a:r>
            <a:endParaRPr b="0" lang="en-US" sz="4000" spc="-1" strike="noStrike">
              <a:solidFill>
                <a:srgbClr val="ffff99"/>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Verdana"/>
              </a:rPr>
              <a:t>Öyle işler vardır ki, insanın gücünü ve imkânlarını aşar; gerçekleştirilmesi mümkün değildir. Dolayısıyla bu tür işlerle uğraşmak, bu yolda hayallere kapılmak boşunadır.</a:t>
            </a:r>
            <a:br>
              <a:rPr sz="3200"/>
            </a:br>
            <a:br>
              <a:rPr sz="3200"/>
            </a:b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8760"/>
            <a:ext cx="8229600" cy="1757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Gözü tanede olan kuşun ayağı tuzaktan kurtulamaz.</a:t>
            </a:r>
            <a:br>
              <a:rPr sz="4000"/>
            </a:br>
            <a:endParaRPr b="0" lang="en-US" sz="4000" spc="-1" strike="noStrike">
              <a:solidFill>
                <a:srgbClr val="ffff99"/>
              </a:solidFill>
              <a:latin typeface="Arial"/>
            </a:endParaRPr>
          </a:p>
        </p:txBody>
      </p:sp>
      <p:sp>
        <p:nvSpPr>
          <p:cNvPr id="181" name="PlaceHolder 2"/>
          <p:cNvSpPr>
            <a:spLocks noGrp="1"/>
          </p:cNvSpPr>
          <p:nvPr>
            <p:ph/>
          </p:nvPr>
        </p:nvSpPr>
        <p:spPr>
          <a:xfrm>
            <a:off x="457200" y="1988640"/>
            <a:ext cx="8229600" cy="4141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özü bir türlü doymayan, sürekli çıkarını düşünen, onun peşinde koşan ve bu uğurda her türlü işe kalkışan kimse, yakasını tehlikelerden kurtaramaz; başına türlü belâlar gelir.</a:t>
            </a:r>
            <a:br>
              <a:rPr sz="3200"/>
            </a:b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8760"/>
            <a:ext cx="8229600" cy="2046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Hay`dan gelen, Hu`ya gider (Selden gelen, suya gider).</a:t>
            </a:r>
            <a:br>
              <a:rPr sz="4000"/>
            </a:br>
            <a:endParaRPr b="0" lang="en-US" sz="4000" spc="-1" strike="noStrike">
              <a:solidFill>
                <a:srgbClr val="ffff99"/>
              </a:solidFill>
              <a:latin typeface="Arial"/>
            </a:endParaRPr>
          </a:p>
        </p:txBody>
      </p:sp>
      <p:sp>
        <p:nvSpPr>
          <p:cNvPr id="183" name="PlaceHolder 2"/>
          <p:cNvSpPr>
            <a:spLocks noGrp="1"/>
          </p:cNvSpPr>
          <p:nvPr>
            <p:ph/>
          </p:nvPr>
        </p:nvSpPr>
        <p:spPr>
          <a:xfrm>
            <a:off x="457200" y="2349360"/>
            <a:ext cx="8229600" cy="37814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özün gerçek anlamında “Hay” ve “Hû” Allah demektir. Yani Allah`tan gelen, yine Allah`a gider anlamındadır bu söz. Ancak halk arasında mecazî bir anlam kazanmıştır. Kolay ve emeksiz kazanılan şeyler elden kolay çıkar. Elde kalıcı olanlar, emek sarf edip alın teri dökerek kazanılan şeylerdir.</a:t>
            </a:r>
            <a:br>
              <a:rPr sz="2800"/>
            </a:br>
            <a:r>
              <a:rPr b="0" lang="en-U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Irmaktan geçerken at değiştirilmez.</a:t>
            </a:r>
            <a:br>
              <a:rPr sz="4000"/>
            </a:br>
            <a:endParaRPr b="0" lang="en-US" sz="4000" spc="-1" strike="noStrike">
              <a:solidFill>
                <a:srgbClr val="ffff99"/>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Yürütülmekte olan bir işin tam ortasında, işi tehlikeye düşürebilecek bir yöntem, bir araç-gereç değişikliği girişiminden kaçınılmalıdır. Yoksa işimizi büsbütün bozup büyük bir zararla karşılaşabiliriz. Bu tür girişimler için en uygun zaman kollanmalı, değişiklik zamanında ve yerinde yapılmalıdır.</a:t>
            </a:r>
            <a:br>
              <a:rPr sz="3200"/>
            </a:b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Kalıp kıyafetle adam, adam olmaz.</a:t>
            </a:r>
            <a:br>
              <a:rPr sz="4000"/>
            </a:br>
            <a:endParaRPr b="0" lang="en-US" sz="4000" spc="-1" strike="noStrike">
              <a:solidFill>
                <a:srgbClr val="ffff99"/>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e kadar güçlü, gösterişli, sağlıklı bir vücuda sahip olursa olsun; bu vücudu ne kadar iyi, güzel ve çekici giyim, kuşamla donatırsa donatsın, bütün bunlar kişiyi değerli kılmaz. Kişiyi değerli kılan güzel ahlâkı, becerisi, üretkenliği, bilgisi ve çalışkanlığıdır.</a:t>
            </a:r>
            <a:br>
              <a:rPr sz="3200"/>
            </a:b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8760"/>
            <a:ext cx="8229600" cy="1757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Karga, kekliği taklit edeyim demiş; kendi yürüyüşünü şaşırmış.</a:t>
            </a:r>
            <a:br>
              <a:rPr sz="4000"/>
            </a:br>
            <a:endParaRPr b="0" lang="en-US" sz="4000" spc="-1" strike="noStrike">
              <a:solidFill>
                <a:srgbClr val="ffff99"/>
              </a:solidFill>
              <a:latin typeface="Arial"/>
            </a:endParaRPr>
          </a:p>
        </p:txBody>
      </p:sp>
      <p:sp>
        <p:nvSpPr>
          <p:cNvPr id="189" name="PlaceHolder 2"/>
          <p:cNvSpPr>
            <a:spLocks noGrp="1"/>
          </p:cNvSpPr>
          <p:nvPr>
            <p:ph/>
          </p:nvPr>
        </p:nvSpPr>
        <p:spPr>
          <a:xfrm>
            <a:off x="457200" y="2276640"/>
            <a:ext cx="8229600" cy="385416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sanlar yetiştikleri çevrenin </a:t>
            </a:r>
            <a:r>
              <a:rPr b="0" lang="en-US" sz="2800" spc="-1" strike="noStrike" u="sng">
                <a:solidFill>
                  <a:srgbClr val="ffff99"/>
                </a:solidFill>
                <a:uFillTx/>
                <a:latin typeface="Verdana"/>
                <a:hlinkClick r:id="rId2"/>
              </a:rPr>
              <a:t>eğitim</a:t>
            </a:r>
            <a:r>
              <a:rPr b="0" lang="en-US" sz="2800" spc="-1" strike="noStrike" u="sng">
                <a:solidFill>
                  <a:srgbClr val="ffffff"/>
                </a:solidFill>
                <a:uFillTx/>
                <a:latin typeface="Verdana"/>
              </a:rPr>
              <a:t>ini alırlar. Bu bakımdan gör</a:t>
            </a:r>
            <a:r>
              <a:rPr b="0" lang="en-US" sz="2800" spc="-1" strike="noStrike" u="sng">
                <a:solidFill>
                  <a:srgbClr val="ffff99"/>
                </a:solidFill>
                <a:uFillTx/>
                <a:latin typeface="Verdana"/>
                <a:hlinkClick r:id="rId3"/>
              </a:rPr>
              <a:t>gül</a:t>
            </a:r>
            <a:r>
              <a:rPr b="0" lang="en-US" sz="2800" spc="-1" strike="noStrike" u="sng">
                <a:solidFill>
                  <a:srgbClr val="ffffff"/>
                </a:solidFill>
                <a:uFillTx/>
                <a:latin typeface="Verdana"/>
              </a:rPr>
              <a:t>eri, beceri ve bilgileri, davranışları, yol ve yöntemleri birbirinden farklıdır. Buna rağmen kimi kişiler özenti hastalığına yakalanırlar ve onu bunu taklit etmeye başlarlar. Ancak bunu beceremezler, bunu beceremedikleri gibi tabiî davranışlarını da yitirir, gülünç duruma düşerler.</a:t>
            </a:r>
            <a:br>
              <a:rPr sz="2800"/>
            </a:br>
            <a:r>
              <a:rPr b="0" lang="en-US" sz="2800" spc="-1" strike="noStrike" u="sng">
                <a:solidFill>
                  <a:srgbClr val="ffffff"/>
                </a:solidFill>
                <a:uFillTx/>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Mühür kimde ise Süleyman odur.</a:t>
            </a:r>
            <a:endParaRPr b="0" lang="en-US" sz="4000" spc="-1" strike="noStrike">
              <a:solidFill>
                <a:srgbClr val="ffff99"/>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tr-TR" sz="3200" spc="-1" strike="noStrike">
                <a:solidFill>
                  <a:srgbClr val="ffffff"/>
                </a:solidFill>
                <a:latin typeface="Verdana"/>
              </a:rPr>
              <a:t>Hz. Süleyman`ın peygamber ve hükümdar olduğunu belirten bir mührü vardı. Bu yetki gücünün işareti olarak görülmüş, burdan hareketle söze şu anlam verilmiştir: Bir işte yetki kimde ise kuvvet ondadır, onun buyrukları geçer.</a:t>
            </a:r>
            <a:br>
              <a:rPr sz="3200"/>
            </a:br>
            <a:r>
              <a:rPr b="0" lang="tr-T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Ne verirsen elinle, o gider seninle.</a:t>
            </a:r>
            <a:endParaRPr b="0" lang="en-US" sz="4000" spc="-1" strike="noStrike">
              <a:solidFill>
                <a:srgbClr val="ffff99"/>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Verdana"/>
              </a:rPr>
              <a:t>Yaşadığı sürece yoksula, yetime, yolda kalmışa yardım eden, onları doyurup giydiren ve gözeten kimse, bunların karşılığını öbür dünyada alacaktır. Hatta Yüce Allah, ona kat kat fazlasıyla verecektir.</a:t>
            </a:r>
            <a:br>
              <a:rPr sz="3200"/>
            </a:b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8400"/>
            <a:ext cx="8229600" cy="1901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Olan dört bağlar, olmayan dert bağlar.</a:t>
            </a:r>
            <a:br>
              <a:rPr sz="4000"/>
            </a:br>
            <a:endParaRPr b="0" lang="en-US" sz="4000" spc="-1" strike="noStrike">
              <a:solidFill>
                <a:srgbClr val="ffff99"/>
              </a:solidFill>
              <a:latin typeface="Arial"/>
            </a:endParaRPr>
          </a:p>
        </p:txBody>
      </p:sp>
      <p:sp>
        <p:nvSpPr>
          <p:cNvPr id="195" name="PlaceHolder 2"/>
          <p:cNvSpPr>
            <a:spLocks noGrp="1"/>
          </p:cNvSpPr>
          <p:nvPr>
            <p:ph/>
          </p:nvPr>
        </p:nvSpPr>
        <p:spPr>
          <a:xfrm>
            <a:off x="457200" y="2276640"/>
            <a:ext cx="8229600" cy="38541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Zengin, varlıklı kişi dilediği gibi yaşar; istediği gibi yer, içer; giyinir, kuşanır; rahatına rahat katar. Ama yoksul kişi değil rahatına bakmak, geçimini temin edemediği için içten içe üzülür; acı çeker.</a:t>
            </a:r>
            <a:br>
              <a:rPr sz="3200"/>
            </a:b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Ölmüş eşek, kurttan korkmaz.</a:t>
            </a:r>
            <a:br>
              <a:rPr sz="4000"/>
            </a:br>
            <a:endParaRPr b="0" lang="en-US" sz="4000" spc="-1" strike="noStrike">
              <a:solidFill>
                <a:srgbClr val="ffff99"/>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azı sebeplerden ötürü çok sıkıntı ve acı çeken, felâket üstüne felâket görüp zarara uğrayan, kaybedecek bir şeyi kalmayan kimse, artık hiçbir şeyden korkmaz; ne tehlikeye aldırır, ne de tehdide.</a:t>
            </a:r>
            <a:br>
              <a:rPr sz="3200"/>
            </a:b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99"/>
                </a:solidFill>
                <a:latin typeface="Arial"/>
              </a:rPr>
              <a:t>Açın gözü ekmek teknesindedir (olur).</a:t>
            </a:r>
            <a:endParaRPr b="0" lang="en-US" sz="4800" spc="-1" strike="noStrike">
              <a:solidFill>
                <a:srgbClr val="ffff99"/>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Verdana"/>
              </a:rPr>
              <a:t>İnsanın tek amacı, öncelikle kendisi için gerekli, yaşaması için zorunlu olan, yokluğunu çektiği şeyi elde etmektir</a:t>
            </a:r>
            <a:r>
              <a:rPr b="0" lang="en-US" sz="3200" spc="-1" strike="noStrike">
                <a:solidFill>
                  <a:srgbClr val="ffffff"/>
                </a:solidFill>
                <a:latin typeface="Verdana"/>
              </a:rPr>
              <a:t>.</a:t>
            </a:r>
            <a:br>
              <a:rPr sz="3200"/>
            </a:b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Rüzgâra tüküren kendi yüzüne tükürür.</a:t>
            </a:r>
            <a:endParaRPr b="0" lang="en-US" sz="4000" spc="-1" strike="noStrike">
              <a:solidFill>
                <a:srgbClr val="ffff99"/>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ff"/>
                </a:solidFill>
                <a:latin typeface="Verdana"/>
              </a:rPr>
              <a:t>İnsan kimle, ne ile mücadele edeceğini bilmelidir. Karşı koyacağı şeyin gücü ne? Onunla ne kadar baş edebilir? Sonuç ne olabilir? Bütün bunları iyice tartmalıdır. Eğer kişi gücünün üstünde bir güce saldırmaya, onunla boy ölçüşmeye kalkışırsa, sonuç alamaz; sonuç alamadığı gibi zararlı da çıkar, yıpranır.</a:t>
            </a:r>
            <a:br>
              <a:rPr sz="2800"/>
            </a:br>
            <a:r>
              <a:rPr b="0" lang="en-U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8400"/>
            <a:ext cx="8229600" cy="1901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Sarımsağı gelin etmişler, kırk gün kokusu çıkmamış.</a:t>
            </a:r>
            <a:br>
              <a:rPr sz="4000"/>
            </a:br>
            <a:endParaRPr b="0" lang="en-US" sz="4000" spc="-1" strike="noStrike">
              <a:solidFill>
                <a:srgbClr val="ffff99"/>
              </a:solidFill>
              <a:latin typeface="Arial"/>
            </a:endParaRPr>
          </a:p>
        </p:txBody>
      </p:sp>
      <p:sp>
        <p:nvSpPr>
          <p:cNvPr id="201" name="PlaceHolder 2"/>
          <p:cNvSpPr>
            <a:spLocks noGrp="1"/>
          </p:cNvSpPr>
          <p:nvPr>
            <p:ph/>
          </p:nvPr>
        </p:nvSpPr>
        <p:spPr>
          <a:xfrm>
            <a:off x="457200" y="2349360"/>
            <a:ext cx="8229600" cy="3781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sanlar kötü yanlarını kolay kolay belli etmezler. Bunun için haklarında yargıda bulunmakta acele etmemek gerekir.</a:t>
            </a:r>
            <a:br>
              <a:rPr sz="3200"/>
            </a:b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Sayılı koyunu kurt kapmaz.</a:t>
            </a:r>
            <a:br>
              <a:rPr sz="4000"/>
            </a:br>
            <a:endParaRPr b="0" lang="en-US" sz="4000" spc="-1" strike="noStrike">
              <a:solidFill>
                <a:srgbClr val="ffff99"/>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Verdana"/>
              </a:rPr>
              <a:t>Birine teslim edeceğiniz bir şeyi eğer sayarak, ölçerek ya da tartarak verirseniz, emanet alan kişi onu daha iyi korur; içinde bir kötülük varsa bile, sayılı olduğunu bildiğinden ötürü bundan vaz geçer; dikkatli olur.</a:t>
            </a:r>
            <a:br>
              <a:rPr sz="3200"/>
            </a:br>
            <a:r>
              <a:rPr b="0" lang="tr-T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8400"/>
            <a:ext cx="8229600" cy="1901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Soğanın acısını yiyen bilmez doğrayan bilir.</a:t>
            </a:r>
            <a:br>
              <a:rPr sz="4000"/>
            </a:br>
            <a:endParaRPr b="0" lang="en-US" sz="4000" spc="-1" strike="noStrike">
              <a:solidFill>
                <a:srgbClr val="ffff99"/>
              </a:solidFill>
              <a:latin typeface="Arial"/>
            </a:endParaRPr>
          </a:p>
        </p:txBody>
      </p:sp>
      <p:sp>
        <p:nvSpPr>
          <p:cNvPr id="205" name="PlaceHolder 2"/>
          <p:cNvSpPr>
            <a:spLocks noGrp="1"/>
          </p:cNvSpPr>
          <p:nvPr>
            <p:ph/>
          </p:nvPr>
        </p:nvSpPr>
        <p:spPr>
          <a:xfrm>
            <a:off x="457200" y="2349360"/>
            <a:ext cx="8229600" cy="3781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ir işteki güçlüğü, çekilen sıkıntıyı, o işin içinde olanlar, o işi başarmaya çalışanlar bilir; işin sadece sonucundan yararlananlar ise bundan habersizdirler.</a:t>
            </a:r>
            <a:br>
              <a:rPr sz="3200"/>
            </a:b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Şahin, sinek avlamaz.</a:t>
            </a:r>
            <a:br>
              <a:rPr sz="4000"/>
            </a:br>
            <a:endParaRPr b="0" lang="en-US" sz="4000" spc="-1" strike="noStrike">
              <a:solidFill>
                <a:srgbClr val="ffff99"/>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Yüce amaçlar peşinde koşan ve kendini ona lâyık gören kimseler küçük, önemsiz, değersiz şeylerin ardına düşüp de vakit geçirmezler.</a:t>
            </a:r>
            <a:br>
              <a:rPr sz="3200"/>
            </a:b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Tırnağın varsa başını kaşı.</a:t>
            </a:r>
            <a:br>
              <a:rPr sz="4000"/>
            </a:br>
            <a:endParaRPr b="0" lang="en-US" sz="4000" spc="-1" strike="noStrike">
              <a:solidFill>
                <a:srgbClr val="ffff99"/>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Verdana"/>
              </a:rPr>
              <a:t>Kendi bilgi, beceri ve imkânın varsa, bunlara da güveniyorsan bir işe giriş; yoksa vaz geç. Bil ki, kimseden kimseye hayır yoktur; başkalarından kolay kolay yardım da gelmez, gelse de pek bir işe yaramaz.</a:t>
            </a:r>
            <a:br>
              <a:rPr sz="3200"/>
            </a:br>
            <a:r>
              <a:rPr b="0" lang="tr-T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58760"/>
            <a:ext cx="8229600" cy="1830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Ucuz alan pahalı alır (pahalı alan aldanmaz).</a:t>
            </a:r>
            <a:br>
              <a:rPr sz="4000"/>
            </a:br>
            <a:endParaRPr b="0" lang="en-US" sz="4000" spc="-1" strike="noStrike">
              <a:solidFill>
                <a:srgbClr val="ffff99"/>
              </a:solidFill>
              <a:latin typeface="Arial"/>
            </a:endParaRPr>
          </a:p>
        </p:txBody>
      </p:sp>
      <p:sp>
        <p:nvSpPr>
          <p:cNvPr id="211" name="PlaceHolder 2"/>
          <p:cNvSpPr>
            <a:spLocks noGrp="1"/>
          </p:cNvSpPr>
          <p:nvPr>
            <p:ph/>
          </p:nvPr>
        </p:nvSpPr>
        <p:spPr>
          <a:xfrm>
            <a:off x="457200" y="2276640"/>
            <a:ext cx="8229600" cy="38541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cuz alınan mal genellikle kötü, dayanıksız ve çürük maldır. Kolay yıpranır, eskir ve çabuk atılır. İster istemez yerine yenisinin alınması zorunlu olur, tekrar masrafa girilir. Dolayısıyla pahalıya alınmış gibi olur.</a:t>
            </a:r>
            <a:br>
              <a:rPr sz="3200"/>
            </a:b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8760"/>
            <a:ext cx="8229600" cy="1830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Zengin arabasını dağdan aşırır, züğürt düz ovada yolunu şaşırır.</a:t>
            </a:r>
            <a:br>
              <a:rPr sz="4000"/>
            </a:br>
            <a:endParaRPr b="0" lang="en-US" sz="4000" spc="-1" strike="noStrike">
              <a:solidFill>
                <a:srgbClr val="ffff99"/>
              </a:solidFill>
              <a:latin typeface="Arial"/>
            </a:endParaRPr>
          </a:p>
        </p:txBody>
      </p:sp>
      <p:sp>
        <p:nvSpPr>
          <p:cNvPr id="213" name="PlaceHolder 2"/>
          <p:cNvSpPr>
            <a:spLocks noGrp="1"/>
          </p:cNvSpPr>
          <p:nvPr>
            <p:ph/>
          </p:nvPr>
        </p:nvSpPr>
        <p:spPr>
          <a:xfrm>
            <a:off x="457200" y="2060640"/>
            <a:ext cx="8229600" cy="40701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Zengin, varlıklı kişi para ve mal gücüyle pek çok güçlüğü yenip aşar. Yoksul ise, parasızlık ve imkânsızlık yüzünden en kolay işleri bile başaramaz; en ufak engel karşısında bile şaşırıp kalır.</a:t>
            </a:r>
            <a:br>
              <a:rPr sz="3200"/>
            </a:br>
            <a:br>
              <a:rPr sz="3200"/>
            </a:b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RHAN YAZICIOĞLU</a:t>
            </a:r>
            <a:endParaRPr b="0" lang="en-US" sz="4400" spc="-1" strike="noStrike">
              <a:solidFill>
                <a:srgbClr val="ffff99"/>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ASAN ALİ YÜCEL LİSESİ </a:t>
            </a:r>
            <a:endParaRPr b="0" lang="en-US" sz="3200" spc="-1" strike="noStrike">
              <a:solidFill>
                <a:srgbClr val="ffffff"/>
              </a:solidFill>
              <a:latin typeface="Verdana"/>
            </a:endParaRPr>
          </a:p>
          <a:p>
            <a:pPr marL="343080" indent="-343080" algn="ct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AZİANTEP</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8760"/>
            <a:ext cx="8229600" cy="1757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99"/>
                </a:solidFill>
                <a:latin typeface="Arial"/>
              </a:rPr>
              <a:t>Baca eğri de olsa duman doğru çıkar.</a:t>
            </a:r>
            <a:endParaRPr b="0" lang="en-US" sz="5400" spc="-1" strike="noStrike">
              <a:solidFill>
                <a:srgbClr val="ffff99"/>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ct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Verdana"/>
              </a:rPr>
              <a:t>Dürüst, doğru, iyi ve güzel vasıflarını doğuştan getiren insan, ne denli bozuk, elverişsiz ortamlarda bulunursa bulunsun niteliklerini kaybetmeyip korur. Bu durum nesneler için de geçerlidir.</a:t>
            </a:r>
            <a:br>
              <a:rPr sz="3200"/>
            </a:b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549000"/>
            <a:ext cx="8229600" cy="1942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99"/>
                </a:solidFill>
                <a:latin typeface="Arial"/>
              </a:rPr>
              <a:t>Bir mıh bir nal kurtarır, bir nal bir at kurtarır.</a:t>
            </a:r>
            <a:br>
              <a:rPr sz="4800"/>
            </a:br>
            <a:endParaRPr b="0" lang="en-US" sz="4800" spc="-1" strike="noStrike">
              <a:solidFill>
                <a:srgbClr val="ffff99"/>
              </a:solidFill>
              <a:latin typeface="Arial"/>
            </a:endParaRPr>
          </a:p>
        </p:txBody>
      </p:sp>
      <p:sp>
        <p:nvSpPr>
          <p:cNvPr id="167" name="PlaceHolder 2"/>
          <p:cNvSpPr>
            <a:spLocks noGrp="1"/>
          </p:cNvSpPr>
          <p:nvPr>
            <p:ph/>
          </p:nvPr>
        </p:nvSpPr>
        <p:spPr>
          <a:xfrm>
            <a:off x="457200" y="2491920"/>
            <a:ext cx="8229600" cy="36385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üçük ve kıymetsiz gördüğümüz şeyler zaman gelir çok önem kazanır ve büyük iş görebilir. Küçük bir somun parçası yüzünden bir dikiş makinesinin çalışmaması, işlerin yatması mümkündür. Bu sebeple herhangi bir nesne, iş ya da olayı küçük görmeyip önemle ele almak gereklidir.</a:t>
            </a:r>
            <a:br>
              <a:rPr sz="2800"/>
            </a:br>
            <a:br>
              <a:rPr sz="2800"/>
            </a:br>
            <a:r>
              <a:rPr b="0" lang="en-U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8400"/>
            <a:ext cx="8229600" cy="211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99"/>
                </a:solidFill>
                <a:latin typeface="Arial"/>
              </a:rPr>
              <a:t>Çanakta balın olsun, arı Bağdat`tan gelir.</a:t>
            </a:r>
            <a:br>
              <a:rPr sz="4800"/>
            </a:br>
            <a:endParaRPr b="0" lang="en-US" sz="4800" spc="-1" strike="noStrike">
              <a:solidFill>
                <a:srgbClr val="ffff99"/>
              </a:solidFill>
              <a:latin typeface="Arial"/>
            </a:endParaRPr>
          </a:p>
        </p:txBody>
      </p:sp>
      <p:sp>
        <p:nvSpPr>
          <p:cNvPr id="169" name="PlaceHolder 2"/>
          <p:cNvSpPr>
            <a:spLocks noGrp="1"/>
          </p:cNvSpPr>
          <p:nvPr>
            <p:ph/>
          </p:nvPr>
        </p:nvSpPr>
        <p:spPr>
          <a:xfrm>
            <a:off x="457200" y="2636640"/>
            <a:ext cx="8229600" cy="3493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lindeki malın iyi ve değerli ise müşteri bulmakta güçlük çekmezsin. Öyle ki nerede olursan ol, alıcılar çok uzakta da olsa gelip seni bulurlar.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Deveden büyük fil var.</a:t>
            </a:r>
            <a:endParaRPr b="0" lang="en-US" sz="5400" spc="-1" strike="noStrike">
              <a:solidFill>
                <a:srgbClr val="ffff99"/>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ctr">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Verdana"/>
              </a:rPr>
              <a:t>Hiçbir insan sahip olduğu makamın büyüklüğü, elindeki yetki ve imkânların genişliği ile övünmemeli, bunlara sırtını dayayarak büyüklenmemeli, kimseyi hor görmemelidir. Çünkü ondan büyüğü ve üstünü her zaman vardır.</a:t>
            </a:r>
            <a:br>
              <a:rPr sz="3200"/>
            </a:b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99"/>
                </a:solidFill>
                <a:latin typeface="Arial"/>
              </a:rPr>
              <a:t>Erteye kalan, arkaya kalır.</a:t>
            </a:r>
            <a:endParaRPr b="0" lang="en-US" sz="4800" spc="-1" strike="noStrike">
              <a:solidFill>
                <a:srgbClr val="ffff99"/>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Verdana"/>
              </a:rPr>
              <a:t>Bir iş zamanında yapılmalı, başka bir zamana bırakılmamalıdır. Yoksa başarılı bir sonuç alınamaz. Geç kalan, sırasını geçiren, erken davranmayan fırsatı kaçırdığı için o şeyden fayda temin edemez.</a:t>
            </a:r>
            <a:br>
              <a:rPr sz="3200"/>
            </a:br>
            <a:br>
              <a:rPr sz="3200"/>
            </a:b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Evi ev eden avrat, yurdu şen eden devlet.</a:t>
            </a:r>
            <a:endParaRPr b="0" lang="en-US" sz="4000" spc="-1" strike="noStrike">
              <a:solidFill>
                <a:srgbClr val="ffff99"/>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ff"/>
                </a:solidFill>
                <a:latin typeface="Verdana"/>
              </a:rPr>
              <a:t>Mutluluk havası ancak düzenli, temiz, güzel ve ekonomik açıdan rahat bir evde eser. Bunu sağlayan da kadındır. Eğer kadın becerikli, tertipli ve nazik değilse, yuva yaşanılır bir yer olmaktan çıkar. Benzer bir şekilde, içinde yaşanılan yurdu şen eden de devlettir. Eğer devletin başında bulunanlar beceriksiz, zalim, hain ve kendi çıkarlarını düşünen insanlarsa, bunların ülke insanını mutlu etmesi düşünülemez.</a:t>
            </a:r>
            <a:br>
              <a:rPr sz="2800"/>
            </a:br>
            <a:r>
              <a:rPr b="0" lang="en-U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76280"/>
            <a:ext cx="8229600" cy="20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Fare (sıçan) deliğe sığmamış, bir de kuyruğuna (kıçına) kabak bağlamış.</a:t>
            </a:r>
            <a:br>
              <a:rPr sz="4000"/>
            </a:br>
            <a:endParaRPr b="0" lang="en-US" sz="4000" spc="-1" strike="noStrike">
              <a:solidFill>
                <a:srgbClr val="ffff99"/>
              </a:solidFill>
              <a:latin typeface="Arial"/>
            </a:endParaRPr>
          </a:p>
        </p:txBody>
      </p:sp>
      <p:sp>
        <p:nvSpPr>
          <p:cNvPr id="177" name="PlaceHolder 2"/>
          <p:cNvSpPr>
            <a:spLocks noGrp="1"/>
          </p:cNvSpPr>
          <p:nvPr>
            <p:ph/>
          </p:nvPr>
        </p:nvSpPr>
        <p:spPr>
          <a:xfrm>
            <a:off x="457200" y="2491920"/>
            <a:ext cx="8229600" cy="36385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 Yapamayacağı kadar ağır bir iş varken başka bir iş daha yüklenmek son derece sakıncalıdır. İnsan önce kendi işini yapıp düzlüğe çıkmalı, daha sonra başkalarının yükünü omuzlamayı düşünmelidir. 2. Kendisi sığıntı durumunda iken yanına bir kişi daha almak yanlış ve tutarsız bir davranıştır.</a:t>
            </a:r>
            <a:br>
              <a:rPr sz="2800"/>
            </a:br>
            <a:r>
              <a:rPr b="0" lang="en-U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2T16:58:50Z</dcterms:created>
  <dc:creator>ERHAN YAZICIOĞLU</dc:creator>
  <dc:description/>
  <dc:language>en-US</dc:language>
  <cp:lastModifiedBy>yusuf</cp:lastModifiedBy>
  <dcterms:modified xsi:type="dcterms:W3CDTF">2010-11-06T18:10:06Z</dcterms:modified>
  <cp:revision>3</cp:revision>
  <dc:subject/>
  <dc:title>Abanın kadri yağmurda bilinir. Her şeyin bir değeri vardır. Bir şeyin gerçek değeri (kadri) ise, ona gerçekten ihtiyaç duyulduğu zaman ortaya çıkar.  Abdala “kar yağıyor” demişler, “titremeye hazırım” demiş. Yoksulluk ve sıkıntı içinde yaşayıp eziyet çekmekte olan kimseler, karşılaşacakları zor şartlardan endişe duymazlar. Çünkü onlar bu şekilde yaşamaya alışıktırlar. </dc:title>
</cp:coreProperties>
</file>