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72BB9-8B18-4CFD-A678-A5B38105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3EA0B-DD72-4CDF-874D-F1B7AEB6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8BCDE-794B-4BBC-8B91-C827C2B2C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B6AE1-1CC2-4DD3-BF9E-694C2F020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B35E-265F-4E80-8636-609B946A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0D79-CBA5-46B7-8353-79E7B70C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97CF-15DF-42B0-B5C8-9CB53D04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25A7-61AB-470C-8A7B-2F189B7F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EC79-F8E4-4C25-9C83-F1AE492A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5C5B-37F6-4360-B88C-0E589550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7D4C-8285-4949-B7F1-24BB743F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CB6D6-BEAB-41BF-A1D6-B99FBEC0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9DA5-ED0B-4056-BF65-2C5A2201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0943-1044-464F-8D3A-8654C682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5359-364D-48FD-B3FA-3ECD416B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54F0-0095-4827-B31C-DF777CE18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6377-D260-4BA4-AE3F-07CAB4CA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94E2B-57D6-4561-83DD-E141DBD7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54D7A-4F2D-487C-8CCF-E6472584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2E80A-55F6-4A6F-B113-D685C9A1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AEA93-94F2-4C4A-9FE7-ABF08567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2C326-2C21-4746-B30F-9883369B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A0438-9AF5-49B4-93A4-3FF1D491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04799-349C-4DFD-BC90-575AFACB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F674-D462-441E-9BD3-B5A61ACF156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84D0-0F23-4CD4-B3DF-45DF3D2E0C8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ffffcc"/>
                </a:solidFill>
                <a:latin typeface="Tahoma"/>
              </a:rPr>
              <a:t>Tanzimat Edebiyatı</a:t>
            </a:r>
            <a:br>
              <a:rPr sz="4800"/>
            </a:br>
            <a:r>
              <a:rPr b="0" lang="tr-TR" sz="4800" spc="-1" strike="noStrike">
                <a:solidFill>
                  <a:srgbClr val="ffffcc"/>
                </a:solidFill>
                <a:latin typeface="Tahoma"/>
              </a:rPr>
              <a:t>1860-1896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tr-TR" sz="1800" spc="-1" strike="noStrike">
                <a:solidFill>
                  <a:srgbClr val="ffffcc"/>
                </a:solidFill>
                <a:latin typeface="Tahoma"/>
              </a:rPr>
              <a:t>Mehmet Gültop</a:t>
            </a:r>
            <a:br>
              <a:rPr sz="1800"/>
            </a:br>
            <a:r>
              <a:rPr b="0" lang="tr-TR" sz="1800" spc="-1" strike="noStrike">
                <a:solidFill>
                  <a:srgbClr val="ffffcc"/>
                </a:solidFill>
                <a:latin typeface="Tahoma"/>
              </a:rPr>
              <a:t>Bucak Mehmet Cadıl Anadolu Öğretmen Lisesi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ffcc"/>
                </a:solidFill>
                <a:latin typeface="Tahoma"/>
              </a:rPr>
              <a:t>2010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ANZİMAT ŞİİRİNİN ÖZELLİKLERİ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Şiir halka ulaşmada bir araç olarak görülmüştü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İlk dönemde toplumsal ve felsefi,ikinci dönemde bireysel konular iş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Şiirin konusu genişletilmişti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zım birimi çoğunlukla beyit iken ikinci dönemde bu anlayış kaybolmaya başlamıştı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nu bütünlüğü ve birliği vardı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alıplaşmış düşsel imgeler yerine gerçekçilik şiire hakimdi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Üsluptan çok içerik önemlidi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lasisizme bağlı Şinasi dışında çoğu sanatçı Romantizmden etkilenmişti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lde sadeleşme amacı tam olarak başarılamamış,ikinci dönemde dil ağırlaşmıştı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irinci dönemde divan şiiri nazım biçimleri ile yeni konular işlenmişken ikinci dönemde nazım şekillerinde de yenilikler denend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irinci dönemde kafiye göz için yapılırken ikinci dönemde kulak içindi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İkinci dönemde A.H.Hamit kafiyesiz şiirler yazmıştı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Tanzimat Hikaye ve Romanının Önemli Özellikleri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Sosyal ve tarihi konulu roman ve hikayeler yazılmışt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Sosyal romanlarda Doğu-Batı çatışması,kölelik,cariyelik,görücü usulü evlenme,alafrangalık özentisi,kadın-erkek ilişkileri işlenmişt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Tarih konula eserlerde devletin içinde bulunduğu durumdan esinlenerek geçmişteki başarı dolu yıllar işlenmişt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Tarih konulu eserlerde mekan genelde İstanbul dışı(Kırım,İran vb.),sosyal konulu eserlerde İstanbul(Beyoğlu,Çamlıca vb.),bazı romanlarda da farklı mekanlar kullanılmıştır.(Karabibik-Antalya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İlk dönemde Romantizm,ikinci dönemde Realizm etkilid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İlk dönemde teknik zayıftır.Rastlantılar fazladır.N.Kemal ve A.Mithat olayın akışını keserek okuyucuya bilgi vermişler ve kişiliklerini  gizlememişlerd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Halka seslenen eserlerde dil sade,aydınlara seslenen eserlerde ağırd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Eserlerde karakterden ziyade belli tipler vardır.Kötüler cezalandırılırken iyiler ödüllendirilmişt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İlk öykülerde meddah geleneğinin etkisi vard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İkinci dönem ilkine göre daha başarılı eserler verilmişt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Tanzimat Döneminde Gazetecilik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Başta Şinasi olmak üzere bir çok yazar gazetecilik ile ilgilenmişt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Bu dönemde 60 civarında gazete çıkarılmışt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Gazete halka ulaşmada önemli bir araç olmuştu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Takvim-i Vakayi 1831’de Saray tarafından çıkarılan ilk Resmi Türkçe gazeted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Ceride-i Havadis 1840’ta İngiliz ortakları bulunan yarı resmi gazeted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Tercüman-ı Ahval 1860’ta Şinasi ve Agah Efendi tara.. Çıkartılmışt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Tasvir-i Efkar 1862’de Şinasi tarafından başlatılmış,1865’ten sonra da Namık Kemal tarafından devam ettirilmiştir.Sayfa düzenine getirdiği yenilikler ile bu gazete döneminin önemli gazetelerindend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Hürriyet 1868’de Ziya Paşa ve Namık Kemal tarafından,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İbret 1871’de Namık Kemal tarafından,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Devir,Bedir,Tercüman-ı Hakikat Ahmet Mithat tarafından,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Sabah, Semseddin Sami tarafından çıkarılmıştır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anzimat Edebiyatında Tiyatro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Tanzimat dönemine kadar tiyatro faaliyetleri geleneksel tiyatrolar aracılığı ile sürdürülmekteydi.(Orta Oyunu-Meddah-Karagöz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Ceride-i Havadis gazetesinde yayımlanan tiyatro eserleri olumlu etkiler getirmişt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Mihail Naum ve Güllü Agop adlı kişiler yarı resmi nitelikli Osmanlı Tiyatrosu’nu kurarak(1867) tiyatromuza katkı sağlamışlard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Hayrullah Efendi’nin Hikaye-i İbrahim Paşa be-İbrahim-i Gülşeni adlı oyunu 1842’de yazılmıştır.Oyun 1859’dan sonra basıldığı için batılı tekniklerde yazılan ilk tiyatro oyunumuz 1859 tarihli Şair Evlenmesi adlı oyundu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Sahnelenen ilk eser ise Vatan Yahut Silistre adlı eserdir.(1873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Ahmet Vefik Paşa yazar ve çevirmen olarak o dönemde oldukça etkilid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Recaizade’nin Afife Anjelik,Atala,Vuslat adlı eserleri dikkat çeke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Dönemin bir başka önemli ismi de A.H.Hamit’tir.Nesteren,Eşber,Finten önemli tiyatrolarıdır.Ayrıca Eşber aruzla yazılmış ilk manzum oyundu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Tiyatro şiirden sonroki en etkili türdü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İkinci Dönem sanatçıları oynanmak için değil okunmak için eserler vermişt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Toplumsal aksaklıklar,tarihi konular,aile,gelenek,görenek,vatan sevgisi vb.konular işlenmişt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Hamit dışındaki sanatçılar üç birlik kuralına uymuşlard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Kişiler tek yönlüdür.İyiler iyi,kötüler ise kötüdü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. Dönem Tanzimat Sanatçılar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Şinasi,Namık Kemal,Ziya Paşa,Ahmet Mithat Efendi,Şemsettin Sami,Ahmet Vefik Paşa’dır,Direktör Ali Be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I. Dönem Tanzimat Sanatçılar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Recaizade Mahmut Ekrem,Abdülhak Hamit Tarhan,Sami Paşazade Sezai,Muallim Naci,Nabizade Nazı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İBRAHİM ŞİNASİ(1826-1871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Çalışkanlığı ve zekası ile M.Reşit Paşa’nın dikkatini çelmiş ve Maliye eğitimi alması için Paris’e gönderilmişt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cc"/>
                </a:solidFill>
                <a:latin typeface="Tahoma"/>
              </a:rPr>
              <a:t>İlk batılı tiyatro,ilk özel gazete,ilk kez noktalama işareti kullanma,Tercüman-ı Ahval Mukaddimesi ile ilk makaleyi yazma,ilk atasözleri kitabı olan Durub-u Emsal-i Osmani’yi yazma,ilk şiir tercümeleri yapma gibi  edebiyatımızda belli başlı ilklere imza atmışt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Seci ve cinas gibi söz oyunlarından arındırılmış sade nesrin kurucusudu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Cümleleri kısaltmış ve paragraf birimini ilk kez o kullanmışt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Halk,adalet,millet gibi kavramları ilk kez o kullanmışt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Sanat toplum için anlayışına sahipt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Klasisizm akımından etkilenmişt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Şair Evlenmesi oyunu tek perdelik bir komedidir.Oyunda görücü usulü ile evlenmenin sakıncaları ve alafrangalık işlenmiştir.Müştak Bey ve Kumru Hanım oyunun başkahramanlarıd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Tiyatro:Şair Evlenmesi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Şiir:Müntehabat-ı Eşar,Tercüme-i Manzume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Derleme:Durub-u Emsal-i Osmaniye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Sözlük:Kamus-ı Osmani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Gazete:Tercüman-ı Ahval,Tasvir-i Efkar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ZİYA PAŞA (1825-1880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Namık Kemal ile birlikte Hürriyet gazetesini çıkarmışlard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Düşünce olarak yenilikçi olmasına rağmen eserlerinde eskiyi sürdürmüştü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Eski-yeni arasında hep ikilemde kalmışt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Divan şiiri geleneğini devam ettirmişt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Gazel,kaside,terkib-i bent ve terci-i bent biçimlerinde insan,yaşam,kainat,yolsuzluk,rüşvet,adaletsizlik konularını işlemişt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Birçok dizesi halk arasında atasözü gibi kullanılmaktad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Tercümeleriyle yeni edebiyata katkı sağlamışt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Molliere’nin Tartüffe adlı komedisini hece ölçüsü ile çevirmişt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Eleştiri türünde önemli eserleri vard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Şiir ve İnşa’da halk edeb.,Harabat’ta divan şiirini savunması nedeniyle N.Kemal tarafından eleştirilmişt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Sağlam ve sade bir dili vardır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Toplumsal sorunları başarıyla işlemişt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Şiir:Eş’ar-ı Ziya,Zafername,Terci-i Bent,Terkib-i Bent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Mülakat:Rüya (Edeb.mülakat türünün ilk örneğidir.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Antoloji:Harabat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Düzyazı:Şiir ve İnşa,Arz-ı Hal,Makaleler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NAMIK KEMAL (1840-1888)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Vatan Yahut Silistre adlı oyunu nedeniyle Mogosa’ya sürgün edilmişt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Fikir hayatında Şinasi’nin etkisi büyüktü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Keskin bir eski edebiyat düşmanı,yeni edebiyat savunucusudu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Ziya Paşa’nın Divan edeb. öven yazısından sonra eleştiri türünde Tahrib-i Harabat ve Takip adlı eserleri yazmışt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Sanat toplum içindir anlayışına sahiptir.Dilin sadeleşmesini savunmuştu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Nesri şiirinden üstün olan sanatçı Romantizmden etkilenmişt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Hürriyet kavramını ilk kullanan kişidir.Vatan,hukuk,eğitim kon.işlemişt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Hürriyet Kasidesi oldukça meşhurdu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Tiyatroyu faydalı bir eğlence olarak nitelendirmişt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İlk edebi roman olan İntibah,ilk tarihi roman olan Cezmi,sahnelenen ilk oyun olan Vatan Yahut Silistre önemlid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Roman:İntibah,Cezmi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Tiyatro.Vatan Yahut Silistre,Celaleddin Harzemşah,Gülnihal,Akif Bey,Zavallı Çocuk,Kara Bela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Eleştiri:Tahrib-i Harabat,Takip,Renan Müdafaanamesi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Tarih:Osmanlı Tarihi,İslam Tarihi,Kanije Muhasarası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Düz Yazı:Evrak-ı Perişan,Devr-i İstila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AHMET MİTHAT EFENDİ (1844-1912)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Evinde matbaa kurarak kendi eserlerini yayımlamışt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Dekadanlar diyerek Servet-i Fünûncuları eleştirmişt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Halkı aydınlatması nedeniyle Hace-i Evvel denmektedir.(İlk Öğretmen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Halka okuma zevki aşılamaya çalışmıştır.Yeni edebiyat taraftarıd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Eserlerinin dili oldukça sadedir.Halkı eğlendirerek eğitmeyi amaçlamışt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Yazı makinesi olarak bilin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Batı’nın üstünlüğünü kabul etmekle birlikte körü körüne bağlanmaya karşıd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Kölelik,Batı taklitçiliği,evlilik,kızların eğitimi,töre,macera başlıca temalard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Yeniçeriler adlı romanı ilk tarihi roman denemesi sayıl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Letaif-i Rivayat adlı hikaye serisi hikayenin ilk örnekleri sayıl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Anlatımı keserek okuyucuya ansiklopedik bilgiler aktarmışt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Edebi kişiliği ile Ahmet Rasim,H.Rahmi,Muallim Naci gibi isimleri etkilemişt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Roman:Hasan Mellah,Hüseyin Fellah,Felatun Beyle Rakım Efendi,Pariste Bir Türk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Henüz On Yedi Yaşında,Dürdane Hanım,Jön Türk…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Hikaye:Kıssadan Hisse,Letaif-i Rivayat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Gezi:Avrupa’da Bir Cevelen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Tiyatro:Açıkbaş,Çerkez Özdenler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Gazete:Bedir,Devir,Tercüman-ı Hakikat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ŞEMSEDDİN SAMİ (1850-1904)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Edebi yaşamına gazetecilikle başlamışt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Zamanının en büyük dil bilgini kabul edilen yazar,sözlük,ansiklopedi ve dil alanındaki çalışmaları ile tanın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İlk yerli romanımız olan Taaşşuk-u Talat ve Fıtnat’ı yazmışt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İlk sözlük çalışması Fransızca-Türkçe bir sözlük olan Kamus-ı Fransevi’d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Bugüne dek hazırlanmış en kapsamlı Arapça-Türkçe sözlük olan Kamus-u Arabi’nin yazarıd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Modern biçimde hazırlanmış Türkçeden-Türkçeye ilk sözlük olan Kamus-ı Türki’yi yazmışt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Orhun Abideleri’nin ve Kutadgu Bilig adlı eserin izahlı çevirilerini hazırlamışt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Roman:Taaşşuk-u Talat ve Fıtnat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Çeviri:Robenson Kruzo,Sefiller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Tiyatro:Besa yahut Ahde Vefa,Gave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ürklerin tarih içinde karşılaştıkları üç farklı medeniyetin son halkası Batı medeniyetidi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özlü dönem-İslami Dönem-Modern Dön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nzimat Edebiyatı Modern dönemin neticesinde edebiyatımızda etkili olmuştu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smanlı devlet yapısının son yüzyıllarda Batı devlet yapısı ve düşünce sistemi karşısında  güç kaybetmesi devlet politikalarında yenileşmelere neden olmuştu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enileşme askeri alanda başlamıştır ve askeri çeşitli yenilikler yapılmıştı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smanlı topraklarında yaşayan azınlıklar da dış güçler tarafından sahiplenilmeye başlanmış ve neticesinde Osmanlı Devleti azınlıklara çeşitli haklar ve imtiyazlar vermeye başlamıştı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let yapısında değişiklikler yapılmıştı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AHMET VEFİK PAŞA (1823-1891)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1879’da Bursa Valisi iken burada bir tiyatro kurmuştu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Önemli bir devlet adamıdır.Elçilik binalarına bayrak asma âdetini o başlatmışt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Edebiyat yaşamı çeviriler ile başlamışt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Kimi tiyatro çevirileri uyarlamadır.Molliere’nin Zor Nikah ve Zoraki Tabip oyunlarını uyarlamışt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Türk tiyatrosunun gelişmesine çok büyük katkılar sağlamışt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MEB iken öğretmen okullarını açtırmış ve kız ve erkek çocuklara belli yaşlara kadar zorunlu eğitimi getirmişt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Benim evime Türk malından başka bir şey giremez.”diyebilen bir yapıdad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Milliyetçilik ve Türkçülük akımlarının dönemindeki en büyük temsilcisid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Anadolu Türk Lehçesine ait ilk sözlük olan Lehçe-i Osmani’yi yazmışt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Çağatayca yazılmış Ebulgazi Bahadır Han’a ait Şecere-i Türk adlı eseri çevirmişt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Sözlük:Lehçe-i Osmani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Atasözü ve Deyimler:Müntehabat-ı Durub-ı Emsal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Çeviri:Kocalar Mektebi,Tartüffe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Adapte:Zoraki Tabip,Zor Nikar, Azarya , Tabib-i Aşk 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Direktör Ali Bey (1844-1899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Teodor Kasap tarafından çıkarılan ilk mizah dergisinde mizahi yazılar yazmıştı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Mizah edebiyatımızın kuruluşunda etkili olmuştu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Günlük türünün ilk örneği olan Seyahat Jurnali’ni yazmıştı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İlk mizahi sözlük olan Lehçet’ül-Hakayık’ı yazmıştı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Kokona Yatıyor,Ayyar Hamza adında tiyatro adapteleri vardı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NZİMAT İKİNCİ DÖNEM SANATÇILA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RECAİZADE MAHMUT EKREM (1847-1914)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Tanzimat Döneminin öder,rehber,öğretmen nitelikteki yazarıd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Servet-i Fünun’un kuruluşunda etkili olmuştu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Sanat için sanat anlayışına sahiptir.İnsan,sevgi ve ölüm konularını bolca işlemişt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Süslü ve sanatlı bir üslubu vard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Muallim Naci ile eski-yeni çatışmasına girmiştir.Kulak için kafiyeyi savunmuştu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Zemzeme ve Takdir-i Elhan’da yeni edebiyatı ve bu görüşleri savunmuştur.Muallim Naci de ona Demdeme adlı eseri ile cevap vermişt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Zerreden güneşe kadar her şey şiirin konusu olabilir.”görüşünü savunmuştu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Edebiyatımızdaki ilk Realist roman olan Araba Sevdası’nı yazmıştır.Şiirlerinde Romantizm’den etkilenmişt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Üç çocuğunun ölümünden –özellikle oğlu Nijad’ın ölümünden-oldukça sarsılmıştır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İlk edebi bilgiler kitabı olan Talim-i Edebiyat’ı yazmışt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Başarılı bir tiyatro yazarıd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Hikaye :Şemsa,Saime</a:t>
            </a: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Eleştiri:Takdir-i Elhan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Tiyatro:Afife Anjelik,Çok Bilen Çok Yanılır,Atala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Şiir:Nağme-i Seher,Yadigar-ı Şebap,Zemzeme,Nijat Ekrem (Şiir-anı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Düz yazı:Talim-i Edebiyat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ABDÜLHAK HAMİT TARHAN (1852-1937)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Tanzimat Dönemi’nin Şair-i Azam ünvanlı en büyük şairird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Ölüm,fizikötesi,sevinç,ümit,isyan,aşk,vatan,millet,günlük yaşam ve feryat gibi temalarda epik-lirik-felsefi şiirler yazmışt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Şiirlerinde aruzu esas almakla birlikte heceyi de kullanmışt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Süslü ve sanatlı bir dili vard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Sanat için sanat anlayışına sahipt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Divan ed. nazım biçimlerinde önemli değişiklikler yapmıştır.Eski kalıpları yıkarak yeni nazım biçimleri kullanmışt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Tiyatrolarını okunmak için yazmışt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Romantizmin etkisinded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Validem adlı şiir kitabında ilk kez uyaksız şiirler denemişt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Sahra adlı şiir türü eserinde ilk pastoral şiire yer vermişt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Roman ve hikaye türü eseri yoktu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Eşber aruz ölçüsüyle yazılmış ilk oyun,Nesteren hece ölçüsüyle yazılmış ilk oyundu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Tiyatrolarında kullandığı ağır dil oyunların sahnelenmesine engellemişt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Eşi Fatıma Hanım’ın ölmü üzerine unutulmaz Makber şiirini yazmışt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Şiir:Sahra,Makber,Ölü,Hacle,Bala’dan Bir Ses,Validem,Kürsi-i İstiğrak,Divanelik…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Tiyatro:İçli Kız,Sabr u Sebat,Duhter-i Hindu,Eşber,Nesteren,Finten,Maceray-ı Aşk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SAMİPAŞAZADE SEZAİ (1860-1936)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Tanzimat döneminin Realist yazarlarındand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Sergüzeşt adlı eseri ile tanınmıştır.Eser Romantizm’den Realizme geçişin örneği sayıl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Edebiyatımızda Batılı anlamda ilk öykü sayılan Küçük Şeyler adlı eserin yazarıd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Kısa hikaye yazma türünün kurucusu sayıl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Sanat için sanat anlayışına sahipt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Bazı makale,hikaye ve sohbetlerini Rumuz’ul Edep adlı eserinde toplamışt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Çok sevdiği yeğeni İclal’in ölümünden duyduğu acıyı mensur bir mersiye biçiminde bazı nesir ve hatıralarıyla birlikte anlatmışt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Sergüzeşt macera demektir.Kafkaslardan gelen Dilber adlı bir esir kızın acı dolu hayatı anlatılmıştır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MUALLİM NACİ (1850-1893)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Asıl adı Ömer olan sanatçı Tanzimat Dönemi’nde Divan edebiyatı alışkanlıklarını sürdüren isimlerin başında gelir.(A.Mithat’ın damadıdır.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Uyak göz içindir diyerek R.M.Ekrem’in karşısında durmuş ve dolaylı yönden Servet-i Fünun’un doğmasında rol oynamıştır.Bu tartışmaları neticesinde Zemzeme’ye karşılık vererek eleştiri türündeki Demdeme’yi yazmışt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Eski şiire bağlı olsa da dilin sadeleşmesine katkısı olmuş ve hece ile de  şiirler yazmıştır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Devrinde önemli bir edebiyat adamı olarak takdir görmüştür.Edebiyat tarihi ve sözlük sahasında önemli çalışmalar yapmışt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Aruzu Türkçeye uydurmadaki başarısı Fikret ve Akif’i  etkilemişti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Şiir:Ateşpare,Şerare,Fürüzan,Sümbüle…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Eleştiri:Demdeme,Yazmış Bulundum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Tiyatro:Heder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Anı:Ömer’in Çocukluğu,Medrese Hatıraları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Edebiyat Tarihi:Osmanlı Şairleri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Edebiyat Bilgileri:Islahat-ı Edebiyye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Sözlük:Lügat-i Naci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NABİZADE NAZIM (1862-1893)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Edebiyatımızda köy yaşamını anlatan ilk roman olan Karabibik ve Naturalist ilk roman sayılan Zehra adlı romanların yazarıd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Romantizm’in izlerini taşıyan şiirler yazmışt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Zehra adlı roman ayrıca edebiyatımızdaki ilk tezli roman kabul edilmektedir.(Bazı kaynaklarda ilk tezli roman olarak Yaban da geçmektedir.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Karabibik mekan olarak Antalya’nın Demre ilçesine bağlı Beymelek köyünde geçer.Eser romandan çok uzun öykü niteliğinde bir yapıdad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Tanzimat edebiyatının yönü Batı’ya en fazla dönük yazarlarındandı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Roman:Karabibik,Zehra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Şiir:Heves Ettim,Hâlâ Güzel…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ffff"/>
                </a:solidFill>
                <a:latin typeface="Tahoma"/>
              </a:rPr>
              <a:t>Öykü:Yadigarlarım (Otobiyografik özellik gözterir),Zavallı Kız,Sevda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Sadrazam Mustafa Reşit Paşa tarafından 3 Kasım 1839’da Gülhane Parkı’nda duyurulan Gülhane Hatt-ı Hümayunu (Tanzimat Fermanı),1856’da ilan edilen Islahat Fermanı ve devamındaki çalışmalar devleti kurtarmak,kişi haklarını düzenlemek,yeni kurumlar kurmak için yapılan önemli çalışmalar id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Tanzimat Fermanı il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-Vatandaşların can ve mal güvenliğinin devlet güvences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alınacağı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-Herkesten gelirine göre vergi alınacağı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-Askerlik işlerinin düzene konacağı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-Yargılanmadan kimsenin suçlanamayacağı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-Kanun gücünün padişahın gücünden üstün olacağı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-Mülkiyet edinme hakkının verileceği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-Rüşvet ve kayırmacılığın yasaklanacağı duyurulmuştu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anzimat Edebiyatının Oluşumu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Devletin Batılılaşma arzusu neticesinde Avrupa’ya Türk aydınları gönderild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Osmanlıların Fransa Elçisi Yirmisekiz Mehmet Çelebi Efendi’nin Sefaretnamesi,İbrahim Müteferrika’nı 1726’da kurduğu matbaa Batı’ya açılan ilk önemli percerelerdi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1832’de kurulan Tercüme Odası’nda bulunan gençler Fransızca öğrendi ve bir çok eser tercüme edildi.Yusuf Kamil Paşa’nın Fenelon’dan çevirdiği Telemak adlı roman bu döneme aitti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Bu dönemde Takvim-i Vakayi(1831) ve Ceride-i Havadis(1840) gazeteleri Tanzimat Edebiyatı’nın oluşumuna önemli katkı sağladı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İtalyan ve Fransız tiyatro kumpanyaları oyunlar sergilediler.Tiyatroya ilgi artar.Şinasi Şair Evlenmesi adlı ilk Batılı Tiyatro örneğini 1859’da yaz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Dilimize Fransızca sözcükler girmeye başlar ve sıkı sıkıya bağlanılan Divan Edebiyatı’na ilgi azalı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Bu süreç neticesinde Fransız kültürüyle yetişen bir nesil ortaya çıktı.Böylece Tanzimat Edebiyatı’nın alt yapısı atılmış old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anzimat Edebiyatı’nın Başlaması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1860 tarihinde Tercüman-ı Ahval gazetesinin yayımlanması ile birlikte Tanzimat Dönemi Edebiyatı başl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Amaç Batı örneğine benzer bir edebiyat ortaya çıkarmaktı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Hemen her türde eser vermişleridi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Böylece roman,hikaye,tiyatro,eleştiri,makale vb.bir çok yeni tür edebiyatımıza girmişti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Bu edebiyat eski edebiyata tepki olarak doğmuştur.Bu nedenle geçmişe değil geleceğe yönelikti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Doğu’ya değil,Batı’ya bağlıdı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Ancak eski-yeni,Doğu-Batı arasında bocalama yaşanmış ve bu durum dönemin edebiyatına da yansımıştı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Birinci dönem ve ikinci dönem sanat anlayışlarının farklı olması bu durumun bir göstergesidi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TANZİMAT DÖNEMİ’NDE GÖRÜLEN BAZI İLKLER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İlk roman çevirisi: Telemak (Fenelon) - Yusuf Kamil Paş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İlk Roman: Taaşşuk-ı Talat ve Fitnat - Şemsettin Sam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İlk edebi roman: İntibah - Namık Kem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İlk tarihi roman: Cezmi - Namık Kem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İlk realist roman: Araba Sevdası - R. Mahmut Ekr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İlk köy romanı: Karabibik - Nabizade Nazı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İlk Naturalist Özellikler Taşıyan Roman:Zehra-Nabizade Nazı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İlk hikaye denemesi:Müsameretname-Emin Nih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İlk hikâye: Letaif-i Rivayat - Ahmet Mithat Efend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İlk hikâye kitabı(Batılı anlamda): Küçük Şeyler - Samipaşazade Seza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İlk tiyatro: Şair Evlenmesi - Şina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Sahnelenen ilk tiyatro: Vatan yahut Silistre - Namık Kem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İlk tiyatro çevirisi: Zor Nikâh (Moliere) - A. Vefik Paş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İlk eleştiri: Tahrib-i Harabat - Namık Kem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İlk antoloji:Harabat-Ziya Paş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İlk makale: Tercüman-ı Ahval Mukaddimesi - Şina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İlk pastoral şiir: Sahra - Abdülhak Hamit Tarh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İlk noktalama işaretleri: Şair Evlenmesi – Şina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İlk şiir çevirisi:Tercüme-i Manzume-Şina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İlk resmi gazete: Takvim-i Vekayi(183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İlk özel gazete: Tercüman-ı Ahval (1860)- Şinasi ve Agah Efend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ANZİMAT EDEBİYATI -I.DÖNEM GENEL ÖZELLİKLERİ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1860-1876 arasına kapsayan dönemdi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Sanat toplum için anlayışıyla toplum eğitilmeye çalışılmıştı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Divan edebiyatı eleştirilmiş ancak yine de etkisinde kalınmıştı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Divan şiirinde görülen söz oyunları ve söz sanatları büyük ölçüde terk edilmişti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Şiirde parça güzelliği yerine bütün güzelliği benimsenmişti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İlk defa şiirlere bağımsız adlar verilmiştir.(Şinasi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Dilde sadeleşme savunulmuş ancak tam başarı sağlanamamıştı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Hece ölçüsünün ulusal nazım ölçüsü olduğu kabul edilmiş ancak daha çok aruz ölçülü şiirler yazılmıştı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Yazarların çoğu devlet görevlerinde çalışmaktadırl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Tema olarak vatan,millet,hak,eşitlik,devlet vb. temalar ilk kez kullanılmıştı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Batılı edebi akımların izleri ilk kez bu dönemde görülmüştür.Şinasi ve Ahmet Vefik Paşa Klasisizm’den,Namık Kemal ve Ahmet Mithat ise Romantizm’den etkilenmişlerdi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İlk örnekleri bu dönemde görülen roman, teknik yönden zayıf ve kusurludur. Romanlarda Batılılaşmanın yanlış anlaşılması, aile sarsıntıları, köle ticareti gibi konular işlenmiştir.</a:t>
            </a:r>
            <a:br>
              <a:rPr sz="2000"/>
            </a:b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Tanzimat tiyatrosu, sahne dili ve tekniği açısından başarılıdır. Tiyatro, halkı eğitmek için bir okul gibi düşünülmüştür.</a:t>
            </a:r>
            <a:br>
              <a:rPr sz="2000"/>
            </a:b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Tanzimat edebiyatı, batı etkisindeki Türk Edebiyatı’nın ilk durağı olmasından ötürü, Batı edebiyatı türlerinin ilk örnekleri bu dönemde verilmiştir. Bu dönem edebiyatı bir “ilk”ler edebiyatıdı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II.DÖNEM TANZİMAT EDEBİYATI-GENEL ÖZELLİKLERİ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u dönemin, 1.Meşrutiyet Meclisi’nin 1877’de, Osmanlı- Rus savaşı gerekçe gösterilerek kapatılmasıyla başlayan baskıcı yönetimi vardır. Bu durum sanat ve edebiyatı da etkilemişti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u dönemde toplum sorunlarından uzaklaşılmış, ‘sanat için sanat’ ilkesi benimsenmişti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lde sadeleşme çabası bırakılmıştır. Dil oldukça ağırlaştırılmıştı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tı edebiyatı türlerinde ürünler verilmiş, sanatçılar daha da ustalaşmıştı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Şiirin konusu genişletilmiş, bireysel konulara dönülmüştür. Ayrıca biçimsel yenilikler getirilmişti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omanda realizmin etkisi görülmüş, ilk realist roman bu dönemde yazılmıştır. Realizm ve natüralizm baskın akımlar olarak göze çarp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yatro önemini yitirmiş, sahne dil ve tekniği açısından başarısız eserler yazılmış. Tiyatro eserleri oynanmak için değil okunmak için yazılmıştı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suf</cp:lastModifiedBy>
  <dcterms:modified xsi:type="dcterms:W3CDTF">2011-03-08T20:37:30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