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0A1-3126-450A-8192-71338A47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97F-8D74-456E-8376-DDAA4B1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F9A-7897-4330-9A00-7981810A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EC7-3C40-4E1E-A40D-72935C66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4CC-A653-47EF-92C0-DF5138A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1C39-7C0A-482A-B737-36BAB9E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AA39-5790-47E3-9D94-A753C653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D2C-A4F1-4AEC-95E1-025065A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CD7F-AB8B-4542-8896-C1555A28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C4B-92B2-4A29-B565-C3EBC849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4099-EC39-4840-9EB1-3B8D8A2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599-E6FF-4C88-8053-6B5A2DE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7E2-AB29-4E1D-9BA3-CF92F4D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F57-D012-43DA-AFA9-07C603B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D20B-1592-42A3-936C-C1495AB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9AB9-F064-40A4-A9C1-C6AD39C5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8848-01C3-4986-B8BE-73AC9174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AF3-7DB8-4EDA-9108-339D430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FFE-10D6-4178-ACD9-C21CE9F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F16-D1E7-4381-BC27-92B4BC1A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217-9C14-49D0-9FFF-D4B386F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940-662D-4EC5-BD0F-EC052DB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13C-7065-4350-BB41-9CA0038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EF6-5AEC-4ACD-8889-73FB315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AB1-AB0D-4B81-BA1A-55E283B229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DD5B-4C6C-4944-86B3-33AA11634A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ebiyatogretmeni.net/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debiyatogretmeni.ne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AD AKTARMASI (MECAZ-I MÜRSE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600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İR KELİMENİN BENZETME AMACI OLMADAN İLGİLİ OLDUĞU BAŞKA BİR KELİMENİN YERİNE KULLANILMASIDI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ÜTÜN-PARÇ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ÇATMA KURBAN OLAYIM ÇEHRENİ EY NAZLI HİL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Mİ KUŞADASI’NA YANAŞ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Impact"/>
              </a:rPr>
              <a:t>YER-İÇİNDEKİ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ÜRKİYE BU MAÇI İZLİY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CLİS BU YIL ÇOK ÇALIŞT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AV SONUÇLARINI OKULA SORALI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IF DIŞARI ÇIK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ULUMUZ ÇOK BAŞARIL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ER-SANATÇI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ÖMER SEYFETTİN’İ OKUDUN M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ZEN AKSU’YU DİNLİYORU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-İÇİNDEK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BA YANIY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İR TABAK YEDİ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 ŞİŞEYİ SEN Mİ İÇTİ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İĞER İLGİLE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İR KİŞİ ALIR MISIN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APIDA BEKLİY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GÜN OKUL YO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YAĞINI ÇIK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686120" cy="1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95280" y="1125360"/>
            <a:ext cx="4686480" cy="1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763640" y="5877000"/>
            <a:ext cx="4686480" cy="1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43280" y="3962520"/>
          <a:ext cx="3924360" cy="20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3962520"/>
                    <a:ext cx="3924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26:54Z</dcterms:created>
  <dc:creator>KIZILAY</dc:creator>
  <dc:description/>
  <dc:language>en-US</dc:language>
  <cp:lastModifiedBy>Yusuf</cp:lastModifiedBy>
  <dcterms:modified xsi:type="dcterms:W3CDTF">2006-10-28T20:47:04Z</dcterms:modified>
  <cp:revision>5</cp:revision>
  <dc:subject/>
  <dc:title>AD AKTARMASI (MECAZ-I MÜRSEL)</dc:title>
</cp:coreProperties>
</file>