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4567-0CE9-446E-9433-CB560FC9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B23F-142B-4B39-B69C-31F9BD21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AEDE-C42F-4F8F-93C6-8A298E02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1C57-A4DA-4014-95E4-0B2FE19FB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AF1D-A2C5-4CA3-B667-6F818B75B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3543-EE3A-4D59-BFC3-A19F0CE4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54C7-181C-483C-8073-A8D3322B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9587-2FD8-4D4B-9AA9-75065CF8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306E-3CB7-4A7F-BAA9-606731EF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737F-568B-4AC8-A233-A6B6D4CF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8BE0-F73C-4F7C-A4FC-90993CCF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BE24-5F46-4FD1-A3FA-B123EBD2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9176-F229-41AC-878D-AFD5A858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EF93-CD47-4918-BF7E-5454F4D6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7318-AA1D-405E-A77B-EAA47C3F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C894-C3FA-4F8B-B9A2-1C5CC0802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9F13-F125-419C-99C4-965EBD157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F86A-0E83-4533-8A43-312F8DE0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7A8A-E553-4728-9D08-32679E8C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8F3B-D1FA-471D-A02A-145E1E62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FBC8-0B37-401A-9791-3EC7ABC0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88B0-850B-4B12-94BC-8EB282FF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CEFD-E716-484F-8291-DF674554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FDB0-875C-4E0A-AC02-238828DF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1A19-F083-4CCD-98F0-92BC292D598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8262-C2AE-407A-B0A6-CF7475A21BB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debiyatogretmeni.net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371600" y="1341000"/>
            <a:ext cx="6400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NLATMAYA BAĞLI EDEBİ METİNLERDE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DİL VE ANLATIM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Mustafa KARLI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ürk Edebiyatı Öğretmeni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nadolu Ticaret ve Ticaret Meslek Lisesi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URGUTLU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www.edebiyatogretmeni.net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4247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ANLATMAYA BAĞLI EDEBİ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METİNLERDE ANLATIM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   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nlatım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, düşüncenin duygunun kısacası sözle, davranışla jest ve mimiklerle alıcıya ulaştırılmasıdır. İnsan iletişimi sağlamak için anlatır ve anla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debi eserde anlatma bir olay çevresinde gelişir. Farklı durumların ve ruh halinin dile getirilmesi çevresinde metinde ifadesini bulu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3516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nlatmaya bağlı edebi metinlerde yazar anlatma görevini bir anlatıcıya yükler.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     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kuyucu bütün olup biteni bu anlatıcı aracılığı ile öğrenir.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u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kurmaca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bir kişidir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latmaya bağlı edebi metinlerd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İlahi bakış açısı,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Kahraman anlatıcının bakış açısı,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Gözlemci anlatıcı bakış açısı,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lmak üzere üç tip anlatıcı ve bakış açısı vardı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Bakış açısını bulabilmek için “</a:t>
            </a:r>
            <a:r>
              <a:rPr b="0" lang="en-US" sz="2800" spc="-1" strike="noStrike">
                <a:solidFill>
                  <a:srgbClr val="ff8b17"/>
                </a:solidFill>
                <a:latin typeface="Arial Black"/>
              </a:rPr>
              <a:t>Olan biten kimin gözünden ve kime göre anlatılıyor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?” sorusunu sormalıyız.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86421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1- İLAHİ BAKIŞ AÇISI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nlatıcı olayların içerisinde yer almaz.   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er şeyi bilen bir anlatıcının bakış açısıdır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nlatıcı kişilerin zihinlerinden geçenleri, geçmişte yaşadıklarını bütün ayrıntısı ile bilir.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nlatıcı, olayları anlatır, istediği yerleri özetler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Bu durumda anlatıcı, kahramanlardan daha fazlasını bilir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Üçüncü ağızdan anlatım vardır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2- GÖZLEMCİ BAKIŞ AÇISI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nlatıcı olayların içerisinde yer almaz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layları bir kamera tarafsızlığı ile anlatır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nlatıcı, olayları sadece dışarıdan gözlemleyen bir şahit konumundadır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örünüşte tarafsız olan bir şahit gibi olup biteni anlatır. 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Bu durumda anlatıcı, kahramandan daha az şey bilir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Üçüncü ağızdan bir anlatım vardır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 Black"/>
              </a:rPr>
              <a:t>3- KAHRAMAN ANLATICI BAKIŞ AÇISI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nlatıcı, hikâyenin bir kahramanıdır.   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Hikâyeyi bize kendi bakış açısından anlatır.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nlatıcı gördüğünü, duyduğunu, bildiğini anlatır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Bu durumda anlatıcı ve kahraman eşit bilgiye sahiptir.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   Birinci ağızdan anlatım vardır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496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Bu bakış açıları, anlatıcının kahramanları karşısında farklı tavırlar almasını sağlar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İlahi bakış açısında, anlatıcı her şeyin bilgisine ve görüşüne sahiptir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özlemcide  ise sadece bir gözlemcidir. Birinci hal, ikinci hale göre  anlatıcıya kahramanlarını daha çok yargılama imkânı verir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Bakış açıları, okuyucunun olay karşısındaki tavrını da etkiler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Bakış açısı değiştikçe okuyucunun olaya katılım tarzı değişir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ANLATMAYA BAĞLI EDEBİ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 METİNLERDE Dİ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nlatmaya bağlı edebi metinlerde dil, bilinen bütün özellikleri ile karşımıza çıkar.    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Kullanılan edebi dilin metnin yazıldığı dönem, sosyal hayat, edebi zevke göre değişiklik gösterir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il, tema ve verilen mesajla ilgilidir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il şiirsel işlevi ile kullanılır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İletişim aracı metindir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1T13:49:25Z</dcterms:created>
  <dc:creator>mustikarli</dc:creator>
  <dc:description/>
  <dc:language>en-US</dc:language>
  <cp:lastModifiedBy>Yusuf</cp:lastModifiedBy>
  <dcterms:modified xsi:type="dcterms:W3CDTF">2008-03-04T18:39:38Z</dcterms:modified>
  <cp:revision>6</cp:revision>
  <dc:subject/>
  <dc:title>Slayt 1</dc:title>
</cp:coreProperties>
</file>