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0C9-C012-4294-9727-5D7491AC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4C9-892F-4861-8F4D-6264C278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CF7-5476-471B-8852-9A087035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782-82FB-452D-84D4-948D605B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B6DA-4578-4CBE-A33F-7F5C17D2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992B-5D9C-4A29-9E7B-6DCDF2F5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0470-E6FA-444A-971C-B661AEEF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AB2D-01C2-4D67-8703-20C8A068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FF4D-05E2-47A2-A178-1FC034B4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7C68-C0C0-41DD-A95E-5188B2D7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603A-8858-4C4F-B8C6-5A48B500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295-CDC1-4148-9C94-BC27D1D7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3527-CE53-4F4C-A4CE-CBBAB10C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9FE2-53D2-4086-A91B-262CE974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3BD6-5913-4BBE-8910-DF092CD1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E51D-0A81-4663-8581-20D80C9A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70D8-3D32-42B5-91A2-42AF4938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42D-3CD3-42A0-8F5B-F7C2BAEE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EC9-202A-44A4-828D-5FA914C2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B81-041D-4759-BC22-80D21AC5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3E0-06E1-4475-B3F6-A5D9CA66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887-B753-4DE7-85CD-F88300D0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666-4367-4213-AA44-7296B0F8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17C-4504-442A-90AF-7EED78F6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536B-944A-4834-B7C7-8C18E04035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37EA-A631-477B-98DC-1A944994F1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debiyatogretmeni.net/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şağıdaki cümlelerin hangisinde anlatım bozukluğu vardı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 Giydiği sarı ceketten aynısı bende de v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- İyi bir deneme yazarı en yakın dostumuzdu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- Kış boyu küskün duran ağaçlar, yazın neşelend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- Menekşelerin hoş kokusu her yanı kaplamışt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  <p:sndAc>
      <p:stSnd>
        <p:snd r:embed="rId1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remove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Rot by="10800000">
                                      <p:cBhvr>
                                        <p:cTn id="4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ed4e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şağıdaki cümlelerin hangisinde bir anlatım bozukluğu vardı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- İyiliği yalnız iyiler anlar, kötülüğü herk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- Her şeyden önce iyi olalım; daha sonra mutlu oluru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ötüye karşın iyilik yapan insan, düşmanını ye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D- İyilik, hiçbir zaman boşa gitmeyen tek yatırımd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tr-TR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edebiyatogretmeni.net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  <p:sndAc>
      <p:stSnd>
        <p:snd r:embed="rId2" name="whoosh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autoRev="1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93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e5b4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Aşağıdaki cümlelerin hangisinde gereksiz sözcük kullanımından kaynaklanan anlatım bozukluğu vardır?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 Babası başkalarının öğütlerine kulak asmıyord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- Bu çocuk, adeta büyümüş de küçülmüş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- Ama eninde sonunda aklı başına gelecek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- Ödün vermeyen, tavizsiz bir kişiliği vard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autoRev="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10800000">
                                      <p:cBhvr>
                                        <p:cTn id="70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1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şağıdaki cümlelerin hangisinde bir anlatım bozukluğu vardı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 Bazı gazeteciler ülkedeki değişimin farkına varamıyor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- Herkes, genç ve başarılı ressamı kutlamışt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- Kimse sizin söylemek istediğinizi değil, söylediğinizi an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- Türkiye, Avrupa’ya çoktan kapılarını açmış bir ülkedi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  <p:sndAc>
      <p:stSnd>
        <p:snd r:embed="rId1" name="whoosh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autoRev="1" nodeType="click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Rot by="10800000">
                                      <p:cBhvr>
                                        <p:cTn id="112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şağıdaki cümlelerin hangisinde bir anlatım bozukluğu vardı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 Trafik kazaları, ölümlere; hatta yaralanmalara yol açıy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- Bu ses, sizin iyi bir şarkıcı olabileceğinizi gösteriy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- Otoyol ücretlerine önceki gün yine zam yapılmış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- Üniversite öğrenimini Avrupa’da tamamlamayı düşünüy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  <p:sndAc>
      <p:stSnd>
        <p:snd r:embed="rId1" name="whoosh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autoRev="1" nodeType="click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Rot by="10800000">
                                      <p:cBhvr>
                                        <p:cTn id="146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9" dur="1" fill="hold"/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5b4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e5b4e"/>
                </a:solidFill>
                <a:latin typeface="Arial"/>
              </a:rPr>
              <a:t>Her gece kızına masal anlatır, uyutmaya çalışırdı.”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Bu cümledeki anlatım bozukluğunun nedeni aşağıdakilerden hangisidir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 Tümleç eksikliğ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- Nesne eksikliğ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- Yüklem eksikliğ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- Özne eksikliğ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  <p:sndAc>
      <p:stSnd>
        <p:snd r:embed="rId1" name="whoosh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autoRev="1" nodeType="click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Rot by="10800000">
                                      <p:cBhvr>
                                        <p:cTn id="190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3" dur="1" fill="hold"/>
                                  <p:tgtEl>
                                    <p:spTgt spid="1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şağıdaki cümlelerin hangisinde özne - yüklem uygunluğu </a:t>
            </a:r>
            <a:r>
              <a:rPr b="0" lang="en-US" sz="4000" spc="-1" strike="noStrike" u="sng">
                <a:solidFill>
                  <a:srgbClr val="dbbd71"/>
                </a:solidFill>
                <a:uFillTx/>
                <a:latin typeface="Arial"/>
              </a:rPr>
              <a:t>yoktu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 İki kaptan bu konuda görüş bildirmiş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- Yirmi milyon çocuk kızamık aşısı oldu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- Avukatlar akşamleyin baroda buluştu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- Sen ve bu doktor yaralılara birlikte gideceksini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  <p:sndAc>
      <p:stSnd>
        <p:snd r:embed="rId1" name="whoosh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autoRev="1" nodeType="click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7" dur="1" fill="hold"/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ed4e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şağıdaki cümlelerin hangisinde kişi zamiri eksikliğinden kaynaklanan bir anlam belirsizliği vardır?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 Bugünkü düşünceler, yarınları hazırlıy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- Öğleden sonra size uğrayacağı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- Böyle davranacağını önceden bilemezdi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- Gazeteyi okuyunca bir an donup kaldı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  <p:sndAc>
      <p:stSnd>
        <p:snd r:embed="rId1" name="whoosh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autoRev="1" nodeType="clickEffect" fill="remove" presetClass="emph" presetID="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58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1" dur="1" fill="hold"/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ed4e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şağıdaki cümlelerin hangisinde bir anlatım bozukluğu vardı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 Duvardaki fotoğrafa uzun uzun bakıp iç geçird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- Kar tutmamıştı;kim bilir kaç çocuğun sevinci yarım kalmışt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- Bu heykellere özel ve kamu alanlarında rastlayabilirsini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- Onun yüzünden tatlı bir gülümseme hiç eksik olmazd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  <p:sndAc>
      <p:stSnd>
        <p:snd r:embed="rId1" name="whoosh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autoRev="1" nodeType="click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92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5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c24a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şağıdaki cümlelerin hangisinde bir anlatım bozukluğu vardı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 Bu ilaçlar bir süre sonra şişmanlamamızı sağlayabil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- Bu konu daha önceki sınavlarda da soruld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- Şu ana kadar onlardan bir cevap almış değili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- Galiba bu işte yolun sonu görünmeye başlad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  <p:sndAc>
      <p:stSnd>
        <p:snd r:embed="rId1" name="whoosh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36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9" dur="1" fill="hold"/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4:00:06Z</dcterms:created>
  <dc:creator>selmaturan</dc:creator>
  <dc:description/>
  <dc:language>en-US</dc:language>
  <cp:lastModifiedBy>Yusuf</cp:lastModifiedBy>
  <dcterms:modified xsi:type="dcterms:W3CDTF">2007-04-29T09:50:44Z</dcterms:modified>
  <cp:revision>12</cp:revision>
  <dc:subject/>
  <dc:title>Aşağıdaki cümlelerin hangisinde anlatım bozukluğu vardır?</dc:title>
</cp:coreProperties>
</file>