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3D493-2AF3-4C89-8394-0BE0BE387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6C89C-CC5A-473E-9F32-4464AB617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121D9-AAD7-4BCA-A082-9E834D571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6AA8B-BA02-461D-99F7-D2224C39F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17171E-BDDF-466F-88DE-89C211DC044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BA102E-3909-414F-A64F-5679B028BEB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D3DBAF-97B1-4717-8B1B-022F69983E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15D49D-91C8-4FF3-BF28-ACF1CACE10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95417E-CA70-4224-833A-B1D03C330A5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9F8388-8711-41A1-AB93-F3A7296120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3DFC99-7A85-40F2-9C06-2DB12A43C2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82908-C72C-4C45-866A-299256C76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F8F387-8EC9-4396-B151-699F64F5B4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E643FC-802C-4E21-A4F8-9817CF3DFC4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6D3AF8-F841-4632-BD40-AF8B2EA4EC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BCBB50-3065-48FC-AA5B-4C10C4F8A16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CE4E3F-2A99-400B-9AFA-B3984F4E293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97D10-CEC3-4374-BB85-2EDF68D54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6BAC8-D775-4130-8BD2-62F63A03D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68E98-FD71-4D2B-8B82-905E85599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993DA-386E-472A-9DD9-3996CB98A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7ED62-D613-4F36-BAFE-83891F2E6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75E07-7843-43E1-8FE6-51DEBA6CD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06803-B881-4843-88E6-34204EFCF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43F0-D16B-4322-812C-4D44812A78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B105-C628-4A88-8D61-5D6B771C93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r.wikipedia.org/wiki/G&#246;kt&#252;rkler" TargetMode="External"/><Relationship Id="rId3" Type="http://schemas.openxmlformats.org/officeDocument/2006/relationships/hyperlink" Target="http://tr.wikipedia.org/w/index.php?title=T&#252;rk_destanlar&#305;&amp;action=edit"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996560"/>
            <a:ext cx="8458200" cy="431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DESTAN DÖNEMİ TÜRK EDEBİYATI</a:t>
            </a:r>
            <a:br>
              <a:rPr sz="4400"/>
            </a:br>
            <a:br>
              <a:rPr sz="4400"/>
            </a:br>
            <a:r>
              <a:rPr b="1" i="1" lang="en-US" sz="4400" spc="-1" strike="noStrike">
                <a:solidFill>
                  <a:srgbClr val="ffffff"/>
                </a:solidFill>
                <a:latin typeface="Tahoma"/>
              </a:rPr>
              <a:t>www.edebiyatogretmeni.net</a:t>
            </a:r>
            <a:br>
              <a:rPr sz="4400"/>
            </a:b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Tahoma"/>
              </a:rPr>
              <a:t>Ergenekon destanı</a:t>
            </a:r>
            <a:r>
              <a:rPr b="0" lang="tr-TR" sz="4400" spc="-1" strike="noStrike">
                <a:solidFill>
                  <a:srgbClr val="ffffff"/>
                </a:solidFill>
                <a:latin typeface="Tahoma"/>
              </a:rPr>
              <a:t>,</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cc00"/>
                </a:solidFill>
                <a:uFillTx/>
                <a:latin typeface="Tahoma"/>
                <a:hlinkClick r:id="rId2"/>
              </a:rPr>
              <a:t>Göktürkler</a:t>
            </a:r>
            <a:r>
              <a:rPr b="0" lang="tr-TR" sz="3200" spc="-1" strike="noStrike">
                <a:solidFill>
                  <a:srgbClr val="ffffff"/>
                </a:solidFill>
                <a:latin typeface="Tahoma"/>
              </a:rPr>
              <a:t>'in türeyişini anlatan bir </a:t>
            </a:r>
            <a:r>
              <a:rPr b="0" lang="tr-TR" sz="3200" spc="-1" strike="noStrike" u="sng">
                <a:solidFill>
                  <a:srgbClr val="ffcc00"/>
                </a:solidFill>
                <a:uFillTx/>
                <a:latin typeface="Tahoma"/>
                <a:hlinkClick r:id="rId3"/>
              </a:rPr>
              <a:t>Türk destanıd</a:t>
            </a:r>
            <a:r>
              <a:rPr b="0" lang="tr-TR" sz="3200" spc="-1" strike="noStrike">
                <a:solidFill>
                  <a:srgbClr val="ffffff"/>
                </a:solidFill>
                <a:latin typeface="Tahoma"/>
              </a:rPr>
              <a:t>ır. Genel olarak, düşman tarafından hile ile yenilgiye uğratılan Türklerin, Ergenekon Ovası'nda yeniden türeyip tekrar eski yurtlarına dönerek düşmanlarıyla çarpışmalarını anlatı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san </a:t>
            </a:r>
            <a:r>
              <a:rPr b="0" i="1" lang="en-US" sz="4400" spc="-1" strike="noStrike">
                <a:solidFill>
                  <a:srgbClr val="ffffff"/>
                </a:solidFill>
                <a:latin typeface="Tahoma"/>
              </a:rPr>
              <a:t>balçıktan yaratılmıştı</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Altay efsanelerinde, büyük bir okyanusun ve suyun esas olmasına rağmen, onlara göre insanoğlu, sudan yaratılmamıştı: </a:t>
            </a:r>
            <a:r>
              <a:rPr b="0" i="1" lang="tr-TR" sz="1800" spc="-1" strike="noStrike">
                <a:solidFill>
                  <a:srgbClr val="ffffff"/>
                </a:solidFill>
                <a:latin typeface="Tahoma"/>
              </a:rPr>
              <a:t>İnsanoğlu aslı yine topraktı</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ran mitolojisinde de ilk insan, </a:t>
            </a:r>
            <a:r>
              <a:rPr b="0" i="1" lang="tr-TR" sz="1800" spc="-1" strike="noStrike">
                <a:solidFill>
                  <a:srgbClr val="ffffff"/>
                </a:solidFill>
                <a:latin typeface="Tahoma"/>
              </a:rPr>
              <a:t>kil</a:t>
            </a:r>
            <a:r>
              <a:rPr b="0" lang="tr-TR" sz="1800" spc="-1" strike="noStrike">
                <a:solidFill>
                  <a:srgbClr val="ffffff"/>
                </a:solidFill>
                <a:latin typeface="Tahoma"/>
              </a:rPr>
              <a:t> dediğimiz yapışkan topraktan yapılmıştı. Onun için İran'lılar ilk insana </a:t>
            </a:r>
            <a:r>
              <a:rPr b="0" i="1" lang="tr-TR" sz="1800" spc="-1" strike="noStrike">
                <a:solidFill>
                  <a:srgbClr val="ffffff"/>
                </a:solidFill>
                <a:latin typeface="Tahoma"/>
              </a:rPr>
              <a:t>Kil Şah</a:t>
            </a:r>
            <a:r>
              <a:rPr b="0" lang="tr-TR" sz="1800" spc="-1" strike="noStrike">
                <a:solidFill>
                  <a:srgbClr val="ffffff"/>
                </a:solidFill>
                <a:latin typeface="Tahoma"/>
              </a:rPr>
              <a:t> adını veriyorlardı. Türkler ise daha çok, </a:t>
            </a:r>
            <a:r>
              <a:rPr b="0" i="1" lang="tr-TR" sz="1800" spc="-1" strike="noStrike">
                <a:solidFill>
                  <a:srgbClr val="ffffff"/>
                </a:solidFill>
                <a:latin typeface="Tahoma"/>
              </a:rPr>
              <a:t>balçık</a:t>
            </a:r>
            <a:r>
              <a:rPr b="0" lang="tr-TR" sz="1800" spc="-1" strike="noStrike">
                <a:solidFill>
                  <a:srgbClr val="ffffff"/>
                </a:solidFill>
                <a:latin typeface="Tahoma"/>
              </a:rPr>
              <a:t> üzerinde durmuşlardı.</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Yine günlerden bir gün, Tanrı Ülgen denize,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Bakarak duruyordu, şaşırdı birdenbire.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Bir toprak parçacığı, sularda yüzüyordu,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Toprağın üzerinde, bir kil görünüyordu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Toprak üzerinde, bir kil görünüyordu.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İnsanoğlu bu olsun, insana olsun baba".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Görünmeye başladı, insan gibi bir şekil,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Birden insan olmuştu, toprak üstündeki kil.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İnsanoğlu bu olsun, insana olsun baba</a:t>
            </a:r>
            <a:r>
              <a:rPr b="0" lang="tr-TR" sz="1600" spc="-1" strike="noStrike">
                <a:solidFill>
                  <a:srgbClr val="ffffff"/>
                </a:solidFill>
                <a:latin typeface="Tahoma"/>
              </a:rPr>
              <a:t>.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Bu iki insanın ise, adı olmuştu Erlik.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özlü Edebiyat</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    </a:t>
            </a:r>
            <a:r>
              <a:rPr b="0" lang="tr-TR" sz="1600" spc="-1" strike="noStrike">
                <a:solidFill>
                  <a:srgbClr val="ffffff"/>
                </a:solidFill>
                <a:latin typeface="Tahoma"/>
              </a:rPr>
              <a:t>Her toplumda olduğu gibi Türklerde de kendine özgü sözlü edebiyat ürünleri vardır. Bu ürünler eski Türk topluluklarının sığır,şölen ve yuğ adını verdikleri törenlerden doğan ürünlerdir. </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Sığır: Av törenlerine denir. </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Şölen: Kurban törenlerine denir. </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Yuğ: Yas,ölüm törenlerine denir. </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     </a:t>
            </a:r>
            <a:r>
              <a:rPr b="0" lang="tr-TR" sz="1600" spc="-1" strike="noStrike">
                <a:solidFill>
                  <a:srgbClr val="ffffff"/>
                </a:solidFill>
                <a:latin typeface="Tahoma"/>
              </a:rPr>
              <a:t>Bu törenler şaman,kam,baksı ve ozan adını alan kişiler tarafından yönetilir.Bunlar sazlarıyla bu törenlerde bazı destan parçalarını veya koşuk,sagu adı verilen şiirleri söylerlerdi. </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ffffff"/>
                </a:solidFill>
                <a:uFillTx/>
                <a:latin typeface="Tahoma"/>
              </a:rPr>
              <a:t>İslamiyet Öncesi Türk Şiirinin Özellikleri:</a:t>
            </a:r>
            <a:r>
              <a:rPr b="0" lang="tr-TR"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Hece ölçüsüyle söylenmiştir.(7’li,8’li,12’li) </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Yarım kafiye kullanılmıştır.</a:t>
            </a:r>
            <a:r>
              <a:rPr b="1" lang="tr-TR"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Nazım birimi dörtlüktür. </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Dildeki kelime sayısı sınırlı kalmıştır.,yabancı dillerin etkisi yoktur </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Tabiatla iç içe oldukları için sanatçılar benzetmelerde tabiattan yararlanmışlardır. </a:t>
            </a:r>
            <a:endParaRPr b="0" lang="en-US" sz="16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Şiirlerde işlenen konular:kahramanlık,yiğitlik,ölüm,savaş ve aşktır.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SÖZLÜ ÜRÜNLER</a:t>
            </a:r>
            <a:r>
              <a:rPr b="0" lang="en-US" sz="4000" spc="-1" strike="noStrike">
                <a:solidFill>
                  <a:srgbClr val="ffffff"/>
                </a:solidFill>
                <a:latin typeface="Tahoma"/>
              </a:rPr>
              <a:t> </a:t>
            </a:r>
            <a:br>
              <a:rPr sz="4000"/>
            </a:br>
            <a:r>
              <a:rPr b="1" lang="en-US" sz="4000" spc="-1" strike="noStrike" u="sng">
                <a:solidFill>
                  <a:srgbClr val="ffffff"/>
                </a:solidFill>
                <a:uFillTx/>
                <a:latin typeface="Tahoma"/>
              </a:rPr>
              <a:t>KOŞUK</a:t>
            </a:r>
            <a:endParaRPr b="0" lang="en-US" sz="40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Dörtlüklerle söylenilir. </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Hece vezni kullanılmıştır.Yiğitlik,aşk,tabiat gibi konular işlenir. </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Halk edebiyatındaki karşılığı ‘’koşma’’,Divan edebiyatındaki karşılığı ‘’gazel’’dir. </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Kafiye düzeni aaab,cccb,dddb şeklindedi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SAGU</a:t>
            </a:r>
            <a:br>
              <a:rPr sz="4000"/>
            </a:br>
            <a:endParaRPr b="0" lang="en-US" sz="40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let büyüklerinin ölümü üzerine duyulan acıyı dile getirmek için söylenen şiirlerdir.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fiye düzeni koşuktaki gibidir.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lk edebiyatındaki karşılığı "ağıt", Divan edebiyatındaki karşılığı "mersiye"di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SAV</a:t>
            </a:r>
            <a:br>
              <a:rPr sz="4000"/>
            </a:br>
            <a:endParaRPr b="0" lang="en-US" sz="40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Kısa ve özlü sözlerdir.Atasözünün yerine kullanılmıştı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ÖRNEKLER</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Erdi aşın taturgan</a:t>
            </a:r>
            <a:br>
              <a:rPr sz="3200"/>
            </a:br>
            <a:r>
              <a:rPr b="0" lang="tr-TR" sz="3200" spc="-1" strike="noStrike">
                <a:solidFill>
                  <a:srgbClr val="ffffff"/>
                </a:solidFill>
                <a:latin typeface="Tahoma"/>
              </a:rPr>
              <a:t>Yavlak yağığ kaçurgan</a:t>
            </a:r>
            <a:br>
              <a:rPr sz="3200"/>
            </a:br>
            <a:r>
              <a:rPr b="0" lang="tr-TR" sz="3200" spc="-1" strike="noStrike">
                <a:solidFill>
                  <a:srgbClr val="ffffff"/>
                </a:solidFill>
                <a:latin typeface="Tahoma"/>
              </a:rPr>
              <a:t>Oğrak süsin kaytargan </a:t>
            </a:r>
            <a:br>
              <a:rPr sz="3200"/>
            </a:br>
            <a:r>
              <a:rPr b="0" lang="tr-TR" sz="3200" spc="-1" strike="noStrike">
                <a:solidFill>
                  <a:srgbClr val="ffffff"/>
                </a:solidFill>
                <a:latin typeface="Tahoma"/>
              </a:rPr>
              <a:t>bastı ölüm ahtaru</a:t>
            </a:r>
            <a:br>
              <a:rPr sz="3200"/>
            </a:br>
            <a:br>
              <a:rPr sz="3200"/>
            </a:br>
            <a:r>
              <a:rPr b="0" lang="tr-T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pasız at koşamaz/ Arkasız kahraman çeriyi bozamaz</a:t>
            </a:r>
            <a:br>
              <a:rPr sz="3200"/>
            </a:br>
            <a:r>
              <a:rPr b="0" lang="en-US" sz="3200" spc="-1" strike="noStrike">
                <a:solidFill>
                  <a:srgbClr val="ffffff"/>
                </a:solidFill>
                <a:latin typeface="Tahoma"/>
              </a:rPr>
              <a:t>Alplarla vuruşma/Beylerle duruşm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uş, kurt hepsi canlandı</a:t>
            </a:r>
            <a:br>
              <a:rPr sz="3200"/>
            </a:br>
            <a:r>
              <a:rPr b="0" lang="en-US" sz="3200" spc="-1" strike="noStrike">
                <a:solidFill>
                  <a:srgbClr val="ffffff"/>
                </a:solidFill>
                <a:latin typeface="Tahoma"/>
              </a:rPr>
              <a:t>Dişi, erkek hep toplandı</a:t>
            </a:r>
            <a:br>
              <a:rPr sz="3200"/>
            </a:br>
            <a:r>
              <a:rPr b="0" lang="en-US" sz="3200" spc="-1" strike="noStrike">
                <a:solidFill>
                  <a:srgbClr val="ffffff"/>
                </a:solidFill>
                <a:latin typeface="Tahoma"/>
              </a:rPr>
              <a:t>Bölük olup dağıldılar</a:t>
            </a:r>
            <a:br>
              <a:rPr sz="3200"/>
            </a:br>
            <a:r>
              <a:rPr b="0" lang="en-US" sz="3200" spc="-1" strike="noStrike">
                <a:solidFill>
                  <a:srgbClr val="ffffff"/>
                </a:solidFill>
                <a:latin typeface="Tahoma"/>
              </a:rPr>
              <a:t>Artık ine girecek değill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DESTAN</a:t>
            </a:r>
            <a:br>
              <a:rPr sz="4000"/>
            </a:b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illetlerin zihinlerinde derin etki bırakan savaş,göç,afet,kıtlık gibi olayların etkisiyle söylenmiş,uzun manzum hikayelerdir.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ayların toplumda derin izler bırakmış olması.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ay ve kişilerin olağanüstü nitelikler göstermesi.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nrıların olaylara karışması.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lli dil ve nazım şekilleriyle söylenmes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Destan</a:t>
            </a:r>
            <a:r>
              <a:rPr b="0" lang="en-US" sz="4000" spc="-1" strike="noStrike">
                <a:solidFill>
                  <a:srgbClr val="ffffff"/>
                </a:solidFill>
                <a:latin typeface="Tahoma"/>
              </a:rPr>
              <a:t> </a:t>
            </a:r>
            <a:br>
              <a:rPr sz="4000"/>
            </a:br>
            <a:br>
              <a:rPr sz="4000"/>
            </a:br>
            <a:endParaRPr b="0" lang="en-US" sz="40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Kahramanlarının olağanüstü eylemlerini coşkulu, törensel bir üslupla anlatan ve genellikle birkaç bölümden oluşan manzum yapıtlardır. Bilinen en eski edebiyat türlerinden biridir. Yunanca "espos" sözcüğünden gelmektedir. Mitoloji, efsane, folklor ve tarihi öğeler içerir. Destanlar ve destansı öyküler ilkçağlardan beri dünyanın her yerinde gelenekleri sonraki kuşaklara aktarmak için kollektif olarak yaratılmış edebi biçimlerdir. </a:t>
            </a:r>
            <a:br>
              <a:rPr sz="2800"/>
            </a:br>
            <a:r>
              <a:rPr b="0" lang="tr-T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ÜRK DESTANLARI </a:t>
            </a:r>
            <a:br>
              <a:rPr sz="4000"/>
            </a:br>
            <a:endParaRPr b="0" lang="en-US" sz="40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AKA TÜRKLERİNİN DESTANLARI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Alp Er Tunga Destanı: Türk-İran savaşlarıyla Alp Er Tunga’nın yiğitliklerinin anlatıldığı destanlardır.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Şu Destanı:İskender ile Türkler arasındaki savaşların ve Hükümdar Şu’nun destanıdır.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HUN TÜRKLERİNİN DESTANI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Oğuz Kağan Destanı: Hun Hükümdarı Mete’nin yiğitliklerini,ülkesini genişletip oğulları arasında nasıl bölüştürdüğünü anlatan destandır.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GÖKTÜRK DESTAN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1" lang="en-US" sz="2400" spc="-1" strike="noStrike">
                <a:solidFill>
                  <a:srgbClr val="ffffff"/>
                </a:solidFill>
                <a:latin typeface="Tahoma"/>
              </a:rPr>
              <a:t>Altın Elbiseli Adamın mezarından çıkan süs eşyaları</a:t>
            </a:r>
            <a:r>
              <a:rPr b="0" lang="en-US" sz="2400" spc="-1" strike="noStrike">
                <a:solidFill>
                  <a:srgbClr val="ffffff"/>
                </a:solidFill>
                <a:latin typeface="Tahoma"/>
              </a:rPr>
              <a:t>        </a:t>
            </a:r>
            <a:r>
              <a:rPr b="0" lang="en-US" sz="2000" spc="-1" strike="noStrike">
                <a:solidFill>
                  <a:srgbClr val="ffffff"/>
                </a:solidFill>
                <a:latin typeface="Tahoma"/>
              </a:rPr>
              <a:t>      </a:t>
            </a:r>
            <a:br>
              <a:rPr sz="2000"/>
            </a:br>
            <a:br>
              <a:rPr sz="2000"/>
            </a:br>
            <a:endParaRPr b="0" lang="en-US" sz="20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22" name="" descr=""/>
          <p:cNvPicPr/>
          <p:nvPr/>
        </p:nvPicPr>
        <p:blipFill>
          <a:blip r:embed="rId2"/>
          <a:stretch/>
        </p:blipFill>
        <p:spPr>
          <a:xfrm>
            <a:off x="611280" y="2060640"/>
            <a:ext cx="1590480" cy="1143000"/>
          </a:xfrm>
          <a:prstGeom prst="rect">
            <a:avLst/>
          </a:prstGeom>
          <a:ln w="0">
            <a:noFill/>
          </a:ln>
        </p:spPr>
      </p:pic>
      <p:pic>
        <p:nvPicPr>
          <p:cNvPr id="123" name="" descr=""/>
          <p:cNvPicPr/>
          <p:nvPr/>
        </p:nvPicPr>
        <p:blipFill>
          <a:blip r:embed="rId3"/>
          <a:stretch/>
        </p:blipFill>
        <p:spPr>
          <a:xfrm>
            <a:off x="2987640" y="2060640"/>
            <a:ext cx="1800360" cy="1143000"/>
          </a:xfrm>
          <a:prstGeom prst="rect">
            <a:avLst/>
          </a:prstGeom>
          <a:ln w="0">
            <a:noFill/>
          </a:ln>
        </p:spPr>
      </p:pic>
      <p:pic>
        <p:nvPicPr>
          <p:cNvPr id="124" name="" descr=""/>
          <p:cNvPicPr/>
          <p:nvPr/>
        </p:nvPicPr>
        <p:blipFill>
          <a:blip r:embed="rId4"/>
          <a:stretch/>
        </p:blipFill>
        <p:spPr>
          <a:xfrm>
            <a:off x="6012000" y="2060640"/>
            <a:ext cx="1247760" cy="1143000"/>
          </a:xfrm>
          <a:prstGeom prst="rect">
            <a:avLst/>
          </a:prstGeom>
          <a:ln w="0">
            <a:noFill/>
          </a:ln>
        </p:spPr>
      </p:pic>
      <p:pic>
        <p:nvPicPr>
          <p:cNvPr id="125" name="" descr=""/>
          <p:cNvPicPr/>
          <p:nvPr/>
        </p:nvPicPr>
        <p:blipFill>
          <a:blip r:embed="rId5"/>
          <a:stretch/>
        </p:blipFill>
        <p:spPr>
          <a:xfrm>
            <a:off x="1116000" y="3716280"/>
            <a:ext cx="1400040" cy="14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OĞUZ KAĞAN</a:t>
            </a:r>
            <a:br>
              <a:rPr sz="4000"/>
            </a:b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Madem ki ben kağanınız oldum, </a:t>
            </a:r>
            <a:br>
              <a:rPr sz="2000"/>
            </a:br>
            <a:r>
              <a:rPr b="1" lang="tr-TR" sz="2000" spc="-1" strike="noStrike">
                <a:solidFill>
                  <a:srgbClr val="ffffff"/>
                </a:solidFill>
                <a:latin typeface="Tahoma"/>
              </a:rPr>
              <a:t>ordumuzun kargıları demirden bir orman, </a:t>
            </a:r>
            <a:br>
              <a:rPr sz="2000"/>
            </a:br>
            <a:r>
              <a:rPr b="1" lang="tr-TR" sz="2000" spc="-1" strike="noStrike">
                <a:solidFill>
                  <a:srgbClr val="ffffff"/>
                </a:solidFill>
                <a:latin typeface="Tahoma"/>
              </a:rPr>
              <a:t>gökyüzü otağımız ve güneş tuğumuz olacaktır...</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Oğuz Kağan Destanı, Hun Türklerinin destanıdır. Fakat bu destanın bugün elimizde bulunan parçası, İslâmiyet'ten sonra, 13. yüzyılda, Uygur Türkçe'siyle yazıya geçirilmiştir. Aslında destan çok uzundu. Bugün "Dede Korkut Hikâyeleri" diye bildiğimiz yazılar, o destanın İslâmi geleneğe adapte edilmiş bölümlerinden başka bir şey değildir. Aşağıda bugünkü Türkçe ile sunacağımız ve apayrı bir bölüm olarak yazıya geçmiş parça, İslâmiyet'ten sonra yazılmış olmasına rağmen, orijinalliğini oldukça korumuştur. Oğuz Destanı'nın bu ayrı bölümünün bugün tek bir yazma nüshası vardır, o da Paris'teki "Bibliothegue Naionale"dedir. Bu kütüphanenin "Türkçe Eserler" seksiyonunda 1001 numara ile kayıtlı bulunuyor.</a:t>
            </a:r>
            <a:br>
              <a:rPr sz="2000"/>
            </a:br>
            <a:br>
              <a:rPr sz="2000"/>
            </a:br>
            <a:r>
              <a:rPr b="0" lang="tr-T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324000" y="189000"/>
            <a:ext cx="8820000" cy="6669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Bu yazma günümüz Türkçesine Reşid Rahmeti Arat tarafından çevrildi ve 1936'da yayınlandı. Daha sonra 1970 yılında Millî Eğitim Bakanlığı'nın "1000 Temel Eser" dizisinde, Muharrem Ergin'in açıklayıcı önsözü ile, Uygurca metin de eklenerek tekrar yayınlandı.</a:t>
            </a:r>
            <a:br>
              <a:rPr sz="1800"/>
            </a:br>
            <a:endParaRPr b="0" lang="en-US" sz="18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ffffff"/>
                </a:solidFill>
                <a:latin typeface="Tahoma"/>
              </a:rPr>
              <a:t>Destanın kahramanı Oğuz Kağan'ın, Asya Hunlarının en büyük, en ünlü kağanı olan Mete (Motun) olduğunda birçok tarihçi birleşiyor. Belki bu destan Mete'den evvel de vardı. Mete'nin ünü, kahramanlıkları ve hayatının Oğuz Kağan'ın hayatına benzemesi, Oğuz Kağan'ın aslında Mete olacağını düşündürmüştür.</a:t>
            </a:r>
            <a:br>
              <a:rPr sz="2000"/>
            </a:br>
            <a:br>
              <a:rPr sz="2000"/>
            </a:br>
            <a:r>
              <a:rPr b="0" lang="tr-TR" sz="2000" spc="-1" strike="noStrike">
                <a:solidFill>
                  <a:srgbClr val="ffffff"/>
                </a:solidFill>
                <a:latin typeface="Tahoma"/>
              </a:rPr>
              <a:t>Türkler, İslâmiyet'ten önce de, sonra da Oğuz Kağan'ı ata saymışlardır. Tarih, Hunlar'dan Osmanlılara kadar bütün Türklerin, Horasan, Azerbaycan, Irak, Anadolu, Balkanlar, Kırım, Ukrayna, Kuzey Afrika'da devlet kurmuş Türk topluluklarının hep aynı Hun-Oğuz birliğinin torunları olduğunu gösteriyor.</a:t>
            </a:r>
            <a:br>
              <a:rPr sz="2000"/>
            </a:br>
            <a:r>
              <a:rPr b="0" lang="tr-TR"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ğuz Kağan'ın annesi Ay Kağan idi. Destan, Ay Kağan'ın Oğuz'u doğurduğu günden başlıyor ve Oğuz Kağan'ın yaşlanıp büyük Türk ilini oğullarına paylaştırması ile sona eriyor. Fakat tekrar edelim: Bu destanın sadece bir bölümüdür. Başından, ortasından ve sonundan eksiklikler çoktur. Umarız bir gün tam metin bulunu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Mete Kağan ve Oğuz Destanı</a:t>
            </a:r>
            <a:br>
              <a:rPr sz="4000"/>
            </a:br>
            <a:endParaRPr b="0" lang="en-US" sz="4000" spc="-1" strike="noStrike">
              <a:solidFill>
                <a:srgbClr val="ffffff"/>
              </a:solidFill>
              <a:latin typeface="Tahoma"/>
            </a:endParaRPr>
          </a:p>
        </p:txBody>
      </p:sp>
      <p:sp>
        <p:nvSpPr>
          <p:cNvPr id="133" name="PlaceHolder 2"/>
          <p:cNvSpPr>
            <a:spLocks noGrp="1"/>
          </p:cNvSpPr>
          <p:nvPr>
            <p:ph/>
          </p:nvPr>
        </p:nvSpPr>
        <p:spPr>
          <a:xfrm>
            <a:off x="395280" y="1341360"/>
            <a:ext cx="8229600" cy="4114800"/>
          </a:xfrm>
          <a:prstGeom prst="rect">
            <a:avLst/>
          </a:prstGeom>
          <a:noFill/>
          <a:ln w="0">
            <a:noFill/>
          </a:ln>
        </p:spPr>
        <p:txBody>
          <a:bodyPr lIns="90000" rIns="90000" tIns="46800" bIns="46800" anchor="t">
            <a:normAutofit fontScale="86000"/>
          </a:bodyPr>
          <a:p>
            <a:pPr marL="294840" indent="-2948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Mete, Teoman Yabgu'nun oğlu ve veliahdi (kendisinden sonra hükümdar olacak kimse) idi. Ama Teoman Yabgu'nun başka bir eğinden de bir oğlu olmuştu ve bu kadın Teoman'dan sonra Mete yerine kendi oğlunun hükümdar olmasını istiyordu. Sonunda Teoman'ı kandırdı. Ama Mete Buna razı olmadı ve derhâl bir ordu toplayarak Hun tahtını ele geçirmek üzere yola çıktı. Böylece Türk târihinde ilk defa bu şehzade (prens), devlet uğruna babasıyla taht kavgasına girişiyordu. Osmanlı İmparatorluğu zamanında da ilk defa Birinci Murâd'ın oğullarından Savcı (Yıldırım Bâyezîd'in ağabeyisi) babasına karşı çıktı; sonra İkinci Bâyezîd'in oğlu Selim (Yavuz) babasıyla taht kavgasına girdi. Kanûnî'nin çok sevdiği eşi Hurrem Sultân kendi oğlu Selîm'i (İkinci Selim) velîahd yapmak isteyince, pâdişâhın öbür oğulları (Mustafa ve Bâyezîd) da babalarına isyan ettiler.</a:t>
            </a:r>
            <a:endParaRPr b="0" lang="en-US" sz="1600" spc="-1" strike="noStrike">
              <a:solidFill>
                <a:srgbClr val="ffffff"/>
              </a:solidFill>
              <a:latin typeface="Tahoma"/>
            </a:endParaRPr>
          </a:p>
          <a:p>
            <a:pPr marL="294840" indent="-2948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Mete çok yüksek kaabiliyetli bir komutandı. Topladığı ordu ile babasını yendi ve Hun tahtına oturdu. Çin târihleri onun üstün meziyetlerini ve yaptığı büyük işleri uzun uzun anlatırlar. Devletinin ve milletinin işleri için kendi çıkarlarını hiçe sayardı. </a:t>
            </a:r>
            <a:endParaRPr b="0" lang="en-US" sz="1600" spc="-1" strike="noStrike">
              <a:solidFill>
                <a:srgbClr val="ffffff"/>
              </a:solidFill>
              <a:latin typeface="Tahoma"/>
            </a:endParaRPr>
          </a:p>
          <a:p>
            <a:pPr marL="294840" indent="-2948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Anlatılanlara göre bir defasında Hunlar zor durumda kalmışlar ve Çinliler'den barış istemişlerdi. Çinliler barış için Mete'nin en sevdiği atını istediler, hemen verdi. Ama Çin hükümdarı bununla yetinmedi, başka şeyler de istedi. Mete kendine ait nesi varsa hepsini birer birer veriyordu. Sonra Çinliler sınırda küçük bir arazî istediler. Burası hiçbir ise yaramayan kurak, kumlu bir topraktı. Ama Mete buna çok sinirlendi ve şöyle dedi:</a:t>
            </a:r>
            <a:endParaRPr b="0" lang="en-US" sz="1600" spc="-1" strike="noStrike">
              <a:solidFill>
                <a:srgbClr val="ffffff"/>
              </a:solidFill>
              <a:latin typeface="Tahoma"/>
            </a:endParaRPr>
          </a:p>
          <a:p>
            <a:pPr marL="294840" indent="-2948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ahoma"/>
              </a:rPr>
              <a:t>"Benden ne istedinizse verdim, çünkü onlar benim maltındı. Ama bu toprak benim değil, milletimindir. O toprağı korumak için savaşır, canımı veririm."</a:t>
            </a:r>
            <a:endParaRPr b="0" lang="en-US" sz="1600" spc="-1" strike="noStrike">
              <a:solidFill>
                <a:srgbClr val="ffffff"/>
              </a:solidFill>
              <a:latin typeface="Tahoma"/>
            </a:endParaRPr>
          </a:p>
          <a:p>
            <a:pPr marL="294840" indent="-2948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Türklerin Oğuz Kağan Destanı'ndaki Oğuz Kağan'ın Mete olduğu söylenir. Oğuz Kağan'ın Şehnâme'de ve Divân-ı Lugati't Türk'de adı geçen Alp Er Tunga olduğunu söyleyenler de vardır. Oğuz Kağan Destanı şöyledir: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Günlerden bir gün Ay Kağan bîr erkek çocuk doğurdu. Çocuk kara saçlı, kara kaşlı, ela gözlü, kırmızı ağızlı idi. Perilerden daha güzeldi. Çocuk, anasından yalnız bir defa süt emdi. Bir daha emmedi. Konuşmaya başladı. Çiğ et ve şarap istedi. Kırk günden sonra büyüdü. Yürüdü. Oynadı. Ata bindi. Geyik avına bağladı. Günlerden sonra, gecelerden sonra bir yiğit oldu. Bahadır oldu.</a:t>
            </a:r>
            <a:br>
              <a:rPr sz="1400"/>
            </a:br>
            <a:r>
              <a:rPr b="0" lang="en-US" sz="1400" spc="-1" strike="noStrike">
                <a:solidFill>
                  <a:srgbClr val="ffffff"/>
                </a:solidFill>
                <a:latin typeface="Tahoma"/>
              </a:rPr>
              <a:t>Oğuz Kağan denen bu bahadır bir gün Tanrı'ya yakarmakta idi. Birdenbire etraf karanlık kesildi. Gökten bir ışık düştü. Bu ışık aydan da, güneşten de parlaktı. Oğuz Kağan gördü ki bu ışığın içinde bir kız var. Bu kız çok güzeldi. Yüzünde ateşli, ışık saçan bir beni vardı. Kutup Yıldızı gibi İdi. Gülse, mavi gök de gülerdi.</a:t>
            </a:r>
            <a:r>
              <a:rPr b="0" lang="en-US" sz="1200" spc="-1" strike="noStrike">
                <a:solidFill>
                  <a:srgbClr val="ffffff"/>
                </a:solidFill>
                <a:latin typeface="Tahoma"/>
              </a:rPr>
              <a:t> </a:t>
            </a:r>
            <a:endParaRPr b="0" lang="en-US" sz="1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7000"/>
          </a:bodyPr>
          <a:p>
            <a:pPr marL="298440" indent="-2984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ğlasa, mavi gök de ağlardı.</a:t>
            </a:r>
            <a:br>
              <a:rPr sz="1800"/>
            </a:br>
            <a:r>
              <a:rPr b="0" lang="en-US" sz="1800" spc="-1" strike="noStrike">
                <a:solidFill>
                  <a:srgbClr val="ffffff"/>
                </a:solidFill>
                <a:latin typeface="Tahoma"/>
              </a:rPr>
              <a:t>Oğuz Kağan bu kızı görünce aklı başından gitti. Kızı sevdi, aldı. Kız, Oğuz Kağan'a üç erkek çocuk doğurdu. Birincisine "Gün", ikincisine "Ay", üçüncüsüne "Yıldız" adını</a:t>
            </a:r>
            <a:br>
              <a:rPr sz="1800"/>
            </a:br>
            <a:r>
              <a:rPr b="0" lang="en-US" sz="1800" spc="-1" strike="noStrike">
                <a:solidFill>
                  <a:srgbClr val="ffffff"/>
                </a:solidFill>
                <a:latin typeface="Tahoma"/>
              </a:rPr>
              <a:t>koydular.</a:t>
            </a:r>
            <a:endParaRPr b="0" lang="en-US" sz="1800" spc="-1" strike="noStrike">
              <a:solidFill>
                <a:srgbClr val="ffffff"/>
              </a:solidFill>
              <a:latin typeface="Tahoma"/>
            </a:endParaRPr>
          </a:p>
          <a:p>
            <a:pPr marL="298440" indent="-2984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ğuz Kağan gene bir gün ava gitti. Gördü ki gölün yanında bir ağaç var. Bu ağacın kovuğunda bir kız oturuyor. Çok güzel bir kız. Saçlar bir ırmağın akışı gibi. Dişleri inciye benziyor. Gözleri gökten de mavi.</a:t>
            </a:r>
            <a:endParaRPr b="0" lang="en-US" sz="1800" spc="-1" strike="noStrike">
              <a:solidFill>
                <a:srgbClr val="ffffff"/>
              </a:solidFill>
              <a:latin typeface="Tahoma"/>
            </a:endParaRPr>
          </a:p>
          <a:p>
            <a:pPr marL="298440" indent="-2984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ğuz Kağan'ın aklı başından gitti. Yüreğine ateş düştü. Onu sevdi, aldı. Bu kız da Oğuz Kağan'a üç erkek çocuk doğurdu. Birincisine "Gök", ikincisine "Dağ", üçüncüsüne de "Deniz" adını verdiler.</a:t>
            </a:r>
            <a:endParaRPr b="0" lang="en-US" sz="1800" spc="-1" strike="noStrike">
              <a:solidFill>
                <a:srgbClr val="ffffff"/>
              </a:solidFill>
              <a:latin typeface="Tahoma"/>
            </a:endParaRPr>
          </a:p>
          <a:p>
            <a:pPr marL="298440" indent="-2984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 çağda, sağ yönde Altın Kağan denen bir kağan vardı. Altın Kağan, Oğuz Kağan'a elçi gönderdi. Pek çok altın,gümüş, yolladı. Pek çok kız, yakut, inci gönderdi. Oğuz Kağan'a saygı gösterdi. İtaat etti. Oğuz Kağan, Altın Kağan'ın itaatini kabul etti. Sonra kırk gün yürüdü. Buz Dağı denen dağa geldi. Çek soğuktu. Çadırını kurdurdu.</a:t>
            </a:r>
            <a:endParaRPr b="0" lang="en-US" sz="1800" spc="-1" strike="noStrike">
              <a:solidFill>
                <a:srgbClr val="ffffff"/>
              </a:solidFill>
              <a:latin typeface="Tahoma"/>
            </a:endParaRPr>
          </a:p>
          <a:p>
            <a:pPr marL="298440" indent="-2984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n yeri ağardığı zaman Oğuz Kağan'ın çadırına güneş gibi bir ışık girdi. O ışıktan; gök tüylü, gök yeleli, büyük bir erkek kurt çıktı. Kurt, Oğuz Kağan'a dedi ki :</a:t>
            </a:r>
            <a:r>
              <a:rPr b="1" lang="en-US" sz="1800" spc="-1" strike="noStrike">
                <a:solidFill>
                  <a:srgbClr val="ffffff"/>
                </a:solidFill>
                <a:latin typeface="Tahoma"/>
              </a:rPr>
              <a:t> </a:t>
            </a:r>
            <a:endParaRPr b="0" lang="en-US" sz="1800" spc="-1" strike="noStrike">
              <a:solidFill>
                <a:srgbClr val="ffffff"/>
              </a:solidFill>
              <a:latin typeface="Tahoma"/>
            </a:endParaRPr>
          </a:p>
          <a:p>
            <a:pPr marL="298440" indent="-2984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Ey Oğuz, artık ben önünde yürüyeceğim."</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ndan sonra Oğuz Kağan çadırları toplattı. Yola koyuldu. Ordusunun önünde gök tüylü, gök yeleli, büyük erkek kurt yürüyordu. Ordu, kurdu takip ediyordu.</a:t>
            </a:r>
            <a:br>
              <a:rPr sz="2000"/>
            </a:br>
            <a:endParaRPr b="0" lang="en-US" sz="20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Nice günlerden sonra kurt durdu. Oğuz Kağan da ordusunu durdurdu. Burada İtil denen bir ırmak vardı. Oğuz Kağan düşmanla karşılaştı. Savaş çok çetin oldu. Okla, kılıçla vuruşuldu. İtil Suyu düşman kanından kıpkızıl oldu ve Oğuz Kağan üstün geldi.</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Gök tüylü, gök yeleli kurt gene öne düştü. Oğuz Kağan'ı Sind Ülkesi'ne götürdü. Oğuz Kağan burada da çok düşmanla vuruştu. Düşmanı yendi. Bu ülkeyi de yurduna ekledi. Geri döndü.</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Oğuz Kağan'ın yanında ak sakallı, boz saçlı, çok akıllı ihtiyar bir kişi vardı. Anlayışlı, doğru bir adamdı. Oğuz Kağan'ın veziri idi. Adı "Uluğ Türk" idi.</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Uluğ Türk günlerden bir gün uykuda bir altın yay ve üç gümüş ok gördü. Bu altın yay gün doğusundan gün batısına kadar uzanmıştı. Üç gümüş ok da kuzeye doğru gidiyordu. Uluğ Türk uyandıktan sonra, düşte gördüklerini Oğuz Kağan'a anlattı:</a:t>
            </a:r>
            <a:br>
              <a:rPr sz="1600"/>
            </a:br>
            <a:r>
              <a:rPr b="1" lang="tr-TR" sz="1600" spc="-1" strike="noStrike">
                <a:solidFill>
                  <a:srgbClr val="ffffff"/>
                </a:solidFill>
                <a:latin typeface="Tahoma"/>
              </a:rPr>
              <a:t>- "Ey Kağanım," dedi. "Hayat sana hayırlı olsun. Gök Tanrı, düşümde gördüğümü yerine getirsin. Dilediği yeri sana versin."</a:t>
            </a:r>
            <a:r>
              <a:rPr b="0" lang="tr-TR"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Oğuz Kağan, Uluğ Türk'ün sözlerini beğendi. Öğüdünü dinledi. Oğullarım topladı. Şöyle dedi:</a:t>
            </a:r>
            <a:r>
              <a:rPr b="1" lang="tr-TR"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ahoma"/>
              </a:rPr>
              <a:t>- Gönlüm av diliyor. Kocadım. Kuvvetim kalmadı. Gün, Ay ve Yıldız; siz Doğu tarafına varın. Gök, Dağ ve Deniz; siz Batı tarafına varı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nun üzerine Oğuz Kağanın oğullarının üçü Doğu tarafına, üçü de Batı tarafına gitti. Gün, Av ve Yıldız çok geyikler, çok kuşlar avladıktan sonra yolda bir altın yay buldular. Yayı aldılar. Babaları Oğuz Kağan'a verdiler. Oğuz Kağan sevindi. Yayı üç parça etti ve dedi ki :</a:t>
            </a:r>
            <a:r>
              <a:rPr b="1" lang="en-US" sz="2000" spc="-1" strike="noStrike">
                <a:solidFill>
                  <a:srgbClr val="ffffff"/>
                </a:solidFill>
                <a:latin typeface="Tahoma"/>
              </a:rPr>
              <a:t> </a:t>
            </a:r>
            <a:br>
              <a:rPr sz="2000"/>
            </a:br>
            <a:endParaRPr b="0" lang="en-US" sz="20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Ey büyük kardeşler, yay sizin olsu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ök. Dağ ve Deniz de çok geyikler, çok kuşlar avladıktan sonra yolda üç gümüş ok buldular. Okları aldılar. Babaları Oğuz Kağan'a verdiler. Oğuz Kağan sevindi. Okları küçük oğullarına pay etti ve dedi ki:</a:t>
            </a:r>
            <a:r>
              <a:rPr b="1"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Ey küçük kardeşler, bu oklar sizin olsu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ğuz Kağan bundan sonra ulu kurultayı toplantıya çağırdı. Halkı da davet etti. Büyük meşveret edildi. Oğuz Kağan yurdunu oğullarına pay etti. Onlara verdi. Dedi ki :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Ey oğullar ben çok yaşadım. Çok savaşlar gördüm. Çok ok attım. Çok ata bindim. Düşmanlarımı ağlattım . Dostlarımı güldürdüm. Gök Tanrı'ya borcumu eda ettim. Sizlere de yurdumu veriyorum..." </a:t>
            </a:r>
            <a:r>
              <a:rPr b="0" lang="en-US" sz="2000" spc="-1" strike="noStrike">
                <a:solidFill>
                  <a:srgbClr val="ffffff"/>
                </a:solidFill>
                <a:latin typeface="Tahoma"/>
              </a:rPr>
              <a:t>  </a:t>
            </a:r>
            <a:r>
              <a:rPr b="1" lang="en-US" sz="20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stanların ortak özellikleri: </a:t>
            </a:r>
            <a:br>
              <a:rPr sz="4000"/>
            </a:br>
            <a:endParaRPr b="0" lang="en-US" sz="40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Hepsinde yarı tanrısal nitelikler taşıyan bir ya da birçok kahramandan söz edili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Destan bu kahramanın eylemleri üzerine kurulmuştur. Olaylar çok geniş bir kozmik coğrafya üzerinde geçer. Bir destanın dünyası ortaya çıktığı zaman içinde düşünebilecek her şeyi barındıran bütünsel, çok yönlü bir dünyadır. Hemen bütün destanlarda uzun yolculuklar anlatılır. Çoğu destanda olaylara doğaüstü yaratıklar da katılır. Kişiler, olaylar, doğal varlıklar hep gerçek yaşamdaki boyutlarından daha büyük, daha zengindir. Özellikle sözlü destanlarda uzun anlatı, betimleme (tanımlama) ve konuşma bölümleri bulunur. Öykü içinde öyküye yer verilir.Törensel söyleyişler ve kamusal duyarlılık hakimdi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BUYUK HUN</a:t>
            </a:r>
            <a:br>
              <a:rPr sz="4000"/>
            </a:br>
            <a:r>
              <a:rPr b="1" lang="en-US" sz="4000" spc="-1" strike="noStrike">
                <a:solidFill>
                  <a:srgbClr val="ffffff"/>
                </a:solidFill>
                <a:latin typeface="Tahoma"/>
              </a:rPr>
              <a:t>İMPARATORLUĞU</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2" name="" descr=""/>
          <p:cNvPicPr/>
          <p:nvPr/>
        </p:nvPicPr>
        <p:blipFill>
          <a:blip r:embed="rId2"/>
          <a:stretch/>
        </p:blipFill>
        <p:spPr>
          <a:xfrm>
            <a:off x="1116000" y="2133720"/>
            <a:ext cx="6408720" cy="3456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GÖKTÜRK</a:t>
            </a:r>
            <a:br>
              <a:rPr sz="4000"/>
            </a:br>
            <a:r>
              <a:rPr b="1" lang="en-US" sz="4000" spc="-1" strike="noStrike">
                <a:solidFill>
                  <a:srgbClr val="ffffff"/>
                </a:solidFill>
                <a:latin typeface="Tahoma"/>
              </a:rPr>
              <a:t>İMPARATORLUĞU</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5" name="" descr=""/>
          <p:cNvPicPr/>
          <p:nvPr/>
        </p:nvPicPr>
        <p:blipFill>
          <a:blip r:embed="rId2"/>
          <a:stretch/>
        </p:blipFill>
        <p:spPr>
          <a:xfrm>
            <a:off x="826920" y="1989000"/>
            <a:ext cx="7417080" cy="388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KARAHANLILAR</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8" name="" descr=""/>
          <p:cNvPicPr/>
          <p:nvPr/>
        </p:nvPicPr>
        <p:blipFill>
          <a:blip r:embed="rId2"/>
          <a:stretch/>
        </p:blipFill>
        <p:spPr>
          <a:xfrm>
            <a:off x="1042920" y="1989000"/>
            <a:ext cx="6769080" cy="3745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Bozkurt Destanı: Savaşta yaralanan bir Türk’ün,dişi bir kurt tarafından kurtarılmasını,korunmasını ve Türklerin sözü edilen kurtla bu Türk’ten çoğaldığı anlatılır.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Ergenekon Destanı: Bir yenilgi sonunda Ergenekon’a çekilen Türklerin orada çoğalıp,bir demir dağı erittikten sonra öçlerini alışlarını anlatan destandır.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UYGUR TÜRKLERİNİN DESTAN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Türeyiş Destanı: Uygur hakanının,üç kızını insanoğluyla evlendirmeyi uygun bulmayarak tanrıya, kızlarıyla evlenmesi ve Uygur Türklerinin bu evlenmeden çoğaldığı anlatılır.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Göç Destanı: Türklerin,Kutsal taşı Çinlilere vermeleri üzerine, tanrı tarafından cezalandırılmaları kuraklığın başlaması nedeniyle de göç etmeleri anlatılır.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Diğer Milletlerin Destanları:</a:t>
            </a:r>
            <a:r>
              <a:rPr b="0" lang="en-US"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İran: Şehname </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lman: Nietbelungen Lied </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Hindistan: Mahabarata, Ramayana </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Japon: Şinto </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Rus: İgor </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Yunan: İlyada,Odyssa </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Fransı: Chasen de Rolland </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Fin: Kaleval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YAZILI EDEBİYAT</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İslam öncesi Türk edebiyatına ait, bilinen yazılı ürün çok azdır. İlk eserler mezar taşlarındaki yazılardır. Türkler bu dönemde Göktürk ve Uygur alfabesini kullanmışlardır. İslam öncesi Türk edebiyatının en önemli yazılı eseri Yenisey nehri kenarındaki Orhun Abideleri dir. </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ffffff"/>
                </a:solidFill>
                <a:latin typeface="Tahoma"/>
              </a:rPr>
              <a:t>Abidelerin ilki M.S. 720 yılında Bilge Tonyukuk tarafından yazılmış ve dikilmiştir. İkinci ve üçüncü abideler Yolluğ Tigin tarafından yazılmıştır. Birisi 732 yılında Kültigin adına diğeri ise 735 yılında Kültigin’in ağabeyi Bilge Kağan adına dikilmiştir.  </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Birinci taşın dili sadedir.İkinci ve üçüncü taşların dili ise süslü ve söylev dilidir. </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Bu abideler de Göktürklerin bağımsızlıkları için Çinlilerle yaptıkları savaşlar ve bu savaşlar sonucunda devleti yeniden nasıl kurdukları anlatılır. </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Çin entrikalarına karşı halk uyarılır.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azılı edebiyat ürünleri ise üç ayrı dönem içinde ele alınmaktadır. Bunlar:</a:t>
            </a:r>
            <a:br>
              <a:rPr sz="2400"/>
            </a:br>
            <a:endParaRPr b="0" lang="en-US" sz="24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tr-TR" sz="2000" spc="-1" strike="noStrike">
                <a:solidFill>
                  <a:srgbClr val="ffffff"/>
                </a:solidFill>
                <a:latin typeface="Tahoma"/>
              </a:rPr>
              <a:t>Göktürk Dönemi : (Göktürk Anıtları = Orhun Abideleri) </a:t>
            </a:r>
            <a:br>
              <a:rPr sz="2000"/>
            </a:br>
            <a:r>
              <a:rPr b="0" lang="tr-TR" sz="2000" spc="-1" strike="noStrike">
                <a:solidFill>
                  <a:srgbClr val="ffffff"/>
                </a:solidFill>
                <a:latin typeface="Tahoma"/>
              </a:rPr>
              <a:t>Uygur Dönemi : (Uygur Türkçesi ile yazılmış metinler) </a:t>
            </a:r>
            <a:br>
              <a:rPr sz="2000"/>
            </a:br>
            <a:r>
              <a:rPr b="0" lang="tr-TR" sz="2000" spc="-1" strike="noStrike">
                <a:solidFill>
                  <a:srgbClr val="ffffff"/>
                </a:solidFill>
                <a:latin typeface="Tahoma"/>
              </a:rPr>
              <a:t>Karahanlı Dönemi: (Kutadgu Bilig, Divan-ı Lugat’it Türk, Atebetü’l Hakayık) </a:t>
            </a:r>
            <a:br>
              <a:rPr sz="2000"/>
            </a:br>
            <a:r>
              <a:rPr b="0" lang="tr-TR" sz="2000" spc="-1" strike="noStrike">
                <a:solidFill>
                  <a:srgbClr val="ffffff"/>
                </a:solidFill>
                <a:latin typeface="Tahoma"/>
              </a:rPr>
              <a:t>Göktürk Dönemi içinde ele alınması gereken en önemli yazılı eser Göktürk Anıtları’dır. Bu anıtlar, M.S. 8. yüzyılda bugünkü Moğolistan toprakları üzerinde bulunan Orhun vadisinde dikilmiş yüzlerce mezar taşlarıdır. Bunların içinde Bilge Kağan, Kültigin ve Tonyukuk adına dikilmiş olanları en önemlileridir. “Türk” adının geçtiği ilk ve olgunlaşmış yazılı belgelerdir. Bu mezar taşlarında, milletin sosyal, siyasal, ticarî ve kültürel hayatı ile ilgili önemli bilgiler yansımaktadır. Yazarı, Yolug Tigin’dir. </a:t>
            </a:r>
            <a:br>
              <a:rPr sz="2000"/>
            </a:br>
            <a:br>
              <a:rPr sz="2000"/>
            </a:br>
            <a:r>
              <a:rPr b="0" lang="tr-T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Uygur Dönemi’ndeki</a:t>
            </a:r>
            <a:endParaRPr b="0" lang="en-US" sz="60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yazılı eserlerin büyük bir çoğunluğu Maniheizm dininin etkisiyle oluşturulmuş dinî metinlerdir. Bunların başında Altun Yaruk (Altın Işık), Sekiz Yükmek (Sekiz Yığın) ve Irk Bitig (Fal Kitabı) gelmektedir. Bu eserlerin tümü Uygur Türkçesi ve Uygur alfabesi ile yazılmıştır. </a:t>
            </a:r>
            <a:br>
              <a:rPr sz="3200"/>
            </a:br>
            <a:br>
              <a:rPr sz="3200"/>
            </a:br>
            <a:br>
              <a:rPr sz="2000"/>
            </a:br>
            <a:r>
              <a:rPr b="0" lang="tr-T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İSLÂM </a:t>
            </a:r>
            <a:br>
              <a:rPr sz="2400"/>
            </a:br>
            <a:r>
              <a:rPr b="1" i="1" lang="en-US" sz="2400" spc="-1" strike="noStrike">
                <a:solidFill>
                  <a:srgbClr val="ffffff"/>
                </a:solidFill>
                <a:latin typeface="Tahoma"/>
              </a:rPr>
              <a:t>UYGARLIĞI ÇEVRESİNDE GELİŞEN TÜRK EDEBİYATI</a:t>
            </a:r>
            <a:r>
              <a:rPr b="0" lang="en-US" sz="2400" spc="-1" strike="noStrike">
                <a:solidFill>
                  <a:srgbClr val="ffffff"/>
                </a:solidFill>
                <a:latin typeface="Tahoma"/>
              </a:rPr>
              <a:t> </a:t>
            </a:r>
            <a:br>
              <a:rPr sz="2400"/>
            </a:br>
            <a:endParaRPr b="0" lang="en-US" sz="2400" spc="-1" strike="noStrike">
              <a:solidFill>
                <a:srgbClr val="ffffff"/>
              </a:solidFill>
              <a:latin typeface="Tahoma"/>
            </a:endParaRPr>
          </a:p>
        </p:txBody>
      </p:sp>
      <p:sp>
        <p:nvSpPr>
          <p:cNvPr id="15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İslâmî Dönemde İlk Dil ve Edebiyat Ürünleri (XI.-XII. y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ffff"/>
                </a:solidFill>
                <a:latin typeface="Tahoma"/>
              </a:rPr>
              <a:t>Kutadgu Bili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ffff"/>
                </a:solidFill>
                <a:latin typeface="Tahoma"/>
              </a:rPr>
              <a:t>Atebetü’l-Hakayık</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ffff"/>
                </a:solidFill>
                <a:latin typeface="Tahoma"/>
              </a:rPr>
              <a:t>Divan-ı Hikme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ffff"/>
                </a:solidFill>
                <a:latin typeface="Tahoma"/>
              </a:rPr>
              <a:t>Divanü Lügâti’t-Tü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000" spc="-1" strike="noStrike">
                <a:solidFill>
                  <a:srgbClr val="ffffff"/>
                </a:solidFill>
                <a:latin typeface="Tahoma"/>
              </a:rPr>
              <a:t>Divan-ı Lugat’it Türk:</a:t>
            </a:r>
            <a:endParaRPr b="0" lang="en-US" sz="60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Kaşgarlı Mahmut tarafından yazılmıştır. Türkçe-Arapça sözlük çalışmasıdır. Araplara Türkçeyi öğretmek amacıyla kaleme alınmıştır. Bu nedenle Arapça olarak yazılmış olmasına rağmen 7500’den fazla Türkçe kelime mevcuttur. Sadece, 11. Yüzyılda değil, sonraki yüzyıllar için de dil itibariyle önemini kaybetmeyen, değeri tartışılmaz bir eserdir. </a:t>
            </a:r>
            <a:br>
              <a:rPr sz="3200"/>
            </a:br>
            <a:r>
              <a:rPr b="0" lang="tr-T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Destanlar temel olarak iki gruba ayrılır. </a:t>
            </a:r>
            <a:br>
              <a:rPr sz="4000"/>
            </a:br>
            <a:endParaRPr b="0" lang="en-US" sz="40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Tahoma"/>
              </a:rPr>
              <a:t>Sözlü destanlar</a:t>
            </a:r>
            <a:r>
              <a:rPr b="0" lang="tr-TR" sz="1200" spc="-1" strike="noStrike">
                <a:solidFill>
                  <a:srgbClr val="ffffff"/>
                </a:solidFill>
                <a:latin typeface="Tahoma"/>
              </a:rPr>
              <a:t> </a:t>
            </a:r>
            <a:br>
              <a:rPr sz="1200"/>
            </a:br>
            <a:r>
              <a:rPr b="0" lang="tr-TR"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ahoma"/>
              </a:rPr>
              <a:t>Yazının</a:t>
            </a:r>
            <a:r>
              <a:rPr b="0" lang="tr-TR" sz="1800" spc="-1" strike="noStrike">
                <a:solidFill>
                  <a:srgbClr val="ffffff"/>
                </a:solidFill>
                <a:latin typeface="Tahoma"/>
              </a:rPr>
              <a:t> </a:t>
            </a:r>
            <a:r>
              <a:rPr b="0" lang="tr-TR" sz="1200" spc="-1" strike="noStrike">
                <a:solidFill>
                  <a:srgbClr val="ffffff"/>
                </a:solidFill>
                <a:latin typeface="Tahoma"/>
              </a:rPr>
              <a:t>henüz bulunmadığı ve yaygınlaşmadığı bir kültürde doğan ve kuşaktan kuşağa sözlü olarak aktarıldıktan sonra yazıya geçirilen destanlardır. Ozan ve şarkıcıların değişik zamanlarda söylediği şarkı ve şiirlerin bütünleşmesi ve işlenmesiyle oluşturulurlar. Örnekler: </a:t>
            </a:r>
            <a:br>
              <a:rPr sz="1200"/>
            </a:br>
            <a:r>
              <a:rPr b="0" lang="tr-TR"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Tahoma"/>
              </a:rPr>
              <a:t>Gılgameş:</a:t>
            </a:r>
            <a:r>
              <a:rPr b="0" lang="tr-TR" sz="1200" spc="-1" strike="noStrike">
                <a:solidFill>
                  <a:srgbClr val="ffffff"/>
                </a:solidFill>
                <a:latin typeface="Tahoma"/>
              </a:rPr>
              <a:t> MÖ 3000 yıllarında Mezopotamya’da ortaya çıkmıştır. Bilinen en eski destandır. Babil ve Akad toplumlarınca da benimsenmiştir. Ama bugüne kalan en eksiksiz biçimi Sümer toplumunda ortaya çıkmıştır. Zalim Uruk kralı Gılgameş’in ölümsüzlük arayışını anlatır. Gılgameş ve arkadaşı Enkidu ile birlikte uzun arayışlardan sonra ölümsüzlük otunu bulur, ama bir yılana kaptırır. </a:t>
            </a:r>
            <a:br>
              <a:rPr sz="1200"/>
            </a:br>
            <a:r>
              <a:rPr b="0" lang="tr-TR"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Tahoma"/>
              </a:rPr>
              <a:t>Ilyada ve Odysseia:</a:t>
            </a:r>
            <a:r>
              <a:rPr b="0" lang="tr-TR" sz="1200" spc="-1" strike="noStrike">
                <a:solidFill>
                  <a:srgbClr val="ffffff"/>
                </a:solidFill>
                <a:latin typeface="Tahoma"/>
              </a:rPr>
              <a:t> MÖ 11-12’nci yüzyıllarda geçtiği sanılmaktadır. Homeros destanları olarak bilinirler. Yunan Yarımadası’ndaki Akhalar’ın, Anadolu’daki İon krallıklarına saldırısı ve Akha kral ve prenslerinin daha sonraki serüvenleri anlatılır. Özellikle Odysseia, Yunan Tragedyası ve Batı edebiyatının önemli bir kaynağıdır. </a:t>
            </a:r>
            <a:br>
              <a:rPr sz="1200"/>
            </a:br>
            <a:r>
              <a:rPr b="0" lang="tr-TR"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Tahoma"/>
              </a:rPr>
              <a:t>Diğerleri:</a:t>
            </a:r>
            <a:r>
              <a:rPr b="0" lang="tr-TR" sz="1200" spc="-1" strike="noStrike">
                <a:solidFill>
                  <a:srgbClr val="ffffff"/>
                </a:solidFill>
                <a:latin typeface="Tahoma"/>
              </a:rPr>
              <a:t> Eski İngilizce halk destanı Beowulf, Eski Almanca Heldenlieder (kahramanlık türküleri), Almanca Nibelungenlied , Kudrunlied, Fransa'da Chanson de Geste (kahramanlık şarkısı), Chanson de Roland (Frank kralı Charlemagne’ın savaşlarını anlatır), İspanya’da El Cantar de Mio Cid, Hindistan'da Mahabharata, Ramayana, Japonya’da Heike Monogatari. </a:t>
            </a:r>
            <a:br>
              <a:rPr sz="1200"/>
            </a:br>
            <a:br>
              <a:rPr sz="1200"/>
            </a:br>
            <a:r>
              <a:rPr b="0" lang="tr-TR"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Tahoma"/>
              </a:rPr>
              <a:t>Atebetü’l - Hakayık (Hakikatlerin Eşiği):</a:t>
            </a:r>
            <a:endParaRPr b="0" lang="en-US" sz="5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Kaşgar Türkçesi ile 12. yüzyılda Edip Ahmet tarafından yazılmıştır. Kutadgu Bilig gibi aruz vezniyle man-zum olarak meydana getirilmiştir. Eserin bütünü 14 bölümdür ve 40 beyit ve 101 dörtlükten oluşmuştur. Sanat inceliklerinden yoksun olmasına mukabil, dönemin Türkçesini yansıtması yönüyle oldukça önemli bir eserdir. Dinî ve ahlâkî bilgi vermek amacıyla yazılmıştır. </a:t>
            </a:r>
            <a:br>
              <a:rPr sz="2800"/>
            </a:br>
            <a:br>
              <a:rPr sz="2800"/>
            </a:br>
            <a:r>
              <a:rPr b="0" lang="tr-T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Kutadgu Bilig (Saadet Bilgisi = Devlet Olma Bilgisi): </a:t>
            </a:r>
            <a:endParaRPr b="0" lang="en-US" sz="40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1069 yılında Yusuf Hac Hacip tarafından mesnevi tarzında yazılan, 6645 beyit meydana gelen manzume bir eserdir. Site uygarlığına (İslam uygarlığına) geçiş döneminde yazılan eserlerden biridir ve dil itibariyle eski Türkçe özellikleri içermektedir. Bu nedenle İslamiyet’ten Önceki Türk Edebiyatı’ nın eseri olarak kabul edilmektedi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Hoca Ahmet Yesevi Türbesi</a:t>
            </a: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8" name="" descr="yesevi.jpg (95847 bytes)"/>
          <p:cNvPicPr/>
          <p:nvPr/>
        </p:nvPicPr>
        <p:blipFill>
          <a:blip r:embed="rId2"/>
          <a:stretch/>
        </p:blipFill>
        <p:spPr>
          <a:xfrm>
            <a:off x="900000" y="1916280"/>
            <a:ext cx="6715080" cy="4209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van-ı Hikmet</a:t>
            </a:r>
            <a:endParaRPr b="0" lang="en-US" sz="44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Türk edebiyatı tarihinde "Divan-ı Hikmet"in önemi İslâmiyet'ten sonraki Türk Edebiyatı'nın daha önce yazılan Kutadgu Biliğ’den sonraki bilinen en eski örneklerinden biri ve tasavvufi Türk edebiyatının ilk eseri oluşundan daha fazla Türk dünyasında meydana getirdiği tesirlere dayanı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ĞIT</a:t>
            </a:r>
            <a:r>
              <a:rPr b="0" lang="en-US"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17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Genellikle bir ölünün ya da acı, üzücü bir olayın ardından söylenen halk türküsü. Ağıtlar, başından acı bir olay geçen ya da ölen kişinin iyiliklerinden, yiğitçe davranışlarından ve yaşamındaki önemli olaylardan söz eder. Belli geleneksel hareketler eşliğinde kendine özgü ölçü ve uyaklarla söylenir. </a:t>
            </a:r>
            <a:br>
              <a:rPr sz="2000"/>
            </a:br>
            <a:r>
              <a:rPr b="0" lang="tr-TR" sz="2000" spc="-1" strike="noStrike">
                <a:solidFill>
                  <a:srgbClr val="ffffff"/>
                </a:solidFill>
                <a:latin typeface="Tahoma"/>
              </a:rPr>
              <a:t>Türklerde ağıt geleneği çok eskidir. Anadolu’nun hemen her yerinde söylenir. Ağıtlar yarı anonim folklor ürünleri arasında da sayılabilir. Türkçe’de 7, 8 ve 10 heceli ağıtlar yaygındır. En çok rastlanılanı 8 hecelilerdir. Erkeklerin söylediği ağıtlar varsa da ağıtları daha çok kadınlar söyler. Gösteri bölümüyle tiyatro, söyleniş biçimiyle şiirseldir. Ağıtlar türkü ve destanla yakın ilişki içindedir. </a:t>
            </a:r>
            <a:br>
              <a:rPr sz="2000"/>
            </a:br>
            <a:br>
              <a:rPr sz="2000"/>
            </a:br>
            <a:r>
              <a:rPr b="0" lang="tr-T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Edebi destanlar</a:t>
            </a:r>
            <a:r>
              <a:rPr b="0" lang="en-US"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Belirli bir yazar tarafından eski örneklere uygun olarak ve okunmak üzere kaleme alınmış destanlardır. </a:t>
            </a:r>
            <a:br>
              <a:rPr sz="1600"/>
            </a:br>
            <a:r>
              <a:rPr b="0" lang="tr-TR" sz="1600" spc="-1" strike="noStrike">
                <a:solidFill>
                  <a:srgbClr val="ffffff"/>
                </a:solidFill>
                <a:latin typeface="Tahoma"/>
              </a:rPr>
              <a:t>Örnekler: </a:t>
            </a:r>
            <a:br>
              <a:rPr sz="1600"/>
            </a:br>
            <a:r>
              <a:rPr b="0" lang="tr-TR"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ahoma"/>
              </a:rPr>
              <a:t>Vergilius’un Aeneis’i:</a:t>
            </a:r>
            <a:r>
              <a:rPr b="0" lang="tr-TR" sz="1600" spc="-1" strike="noStrike">
                <a:solidFill>
                  <a:srgbClr val="ffffff"/>
                </a:solidFill>
                <a:latin typeface="Tahoma"/>
              </a:rPr>
              <a:t> MÖ 29-19’uncu yüzyılları kapsar. Troyalı Aeneias’in uzun ve zorlu bir yolculuktan sonra Latin ülkesine gelerek Lavinium kentini kurması anlatılır. Lavinium sonradan Alba Langa ve Roma kentlerinin yerine kurulan ilk kenttir. </a:t>
            </a:r>
            <a:br>
              <a:rPr sz="1600"/>
            </a:br>
            <a:r>
              <a:rPr b="0" lang="tr-TR"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ahoma"/>
              </a:rPr>
              <a:t>Milton’un Paradise Lost’u:</a:t>
            </a:r>
            <a:r>
              <a:rPr b="0" lang="tr-TR" sz="1600" spc="-1" strike="noStrike">
                <a:solidFill>
                  <a:srgbClr val="ffffff"/>
                </a:solidFill>
                <a:latin typeface="Tahoma"/>
              </a:rPr>
              <a:t> İnsanın cennetten kovuluşu ve tanrının şeytanla mücadelesini anlatır. </a:t>
            </a:r>
            <a:br>
              <a:rPr sz="1600"/>
            </a:br>
            <a:r>
              <a:rPr b="0" lang="tr-TR"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Dante’nin La Divina Commedia’sı (İlahi Komedya) MS 1310-1321, Ariosto’nun Orlando Furioso’su (Çılgın Orlando) 1532, Camoes’in Os Lusidas’ı 1572. </a:t>
            </a:r>
            <a:br>
              <a:rPr sz="1600"/>
            </a:br>
            <a:br>
              <a:rPr sz="1600"/>
            </a:br>
            <a:r>
              <a:rPr b="0" lang="tr-TR"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Tahoma"/>
              </a:rPr>
              <a:t>Türk edebiyatında destan</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ahoma"/>
              </a:rPr>
              <a:t>Asya kıtasının çeşitli bölgelerinde yaşayan Türk boyları arasında zengin bir destan geleneği vardır. Bilinen Türk destanları arasında en eskisi </a:t>
            </a:r>
            <a:r>
              <a:rPr b="1" lang="tr-TR" sz="1600" spc="-1" strike="noStrike">
                <a:solidFill>
                  <a:srgbClr val="ffffff"/>
                </a:solidFill>
                <a:latin typeface="Tahoma"/>
              </a:rPr>
              <a:t>Yaratılış Destanı</a:t>
            </a:r>
            <a:r>
              <a:rPr b="0" lang="tr-TR" sz="1600" spc="-1" strike="noStrike">
                <a:solidFill>
                  <a:srgbClr val="ffffff"/>
                </a:solidFill>
                <a:latin typeface="Tahoma"/>
              </a:rPr>
              <a:t>’dır. Altay Türkleri arasında söylenmektedir. V. Radlov tarafından saptanıp yazıya geçirilmiştir. </a:t>
            </a:r>
            <a:br>
              <a:rPr sz="1600"/>
            </a:br>
            <a:r>
              <a:rPr b="1" lang="tr-TR" sz="1600" spc="-1" strike="noStrike">
                <a:solidFill>
                  <a:srgbClr val="ffffff"/>
                </a:solidFill>
                <a:latin typeface="Tahoma"/>
              </a:rPr>
              <a:t>Saka Destanı</a:t>
            </a:r>
            <a:r>
              <a:rPr b="0" lang="tr-TR" sz="1600" spc="-1" strike="noStrike">
                <a:solidFill>
                  <a:srgbClr val="ffffff"/>
                </a:solidFill>
                <a:latin typeface="Tahoma"/>
              </a:rPr>
              <a:t>, İskit Türkleri’ne aittir. Bu destan zinciri içinde </a:t>
            </a:r>
            <a:r>
              <a:rPr b="1" lang="tr-TR" sz="1600" spc="-1" strike="noStrike">
                <a:solidFill>
                  <a:srgbClr val="ffffff"/>
                </a:solidFill>
                <a:latin typeface="Tahoma"/>
              </a:rPr>
              <a:t>Alp Er Tunga</a:t>
            </a:r>
            <a:r>
              <a:rPr b="0" lang="tr-TR" sz="1600" spc="-1" strike="noStrike">
                <a:solidFill>
                  <a:srgbClr val="ffffff"/>
                </a:solidFill>
                <a:latin typeface="Tahoma"/>
              </a:rPr>
              <a:t> ve </a:t>
            </a:r>
            <a:r>
              <a:rPr b="1" lang="tr-TR" sz="1600" spc="-1" strike="noStrike">
                <a:solidFill>
                  <a:srgbClr val="ffffff"/>
                </a:solidFill>
                <a:latin typeface="Tahoma"/>
              </a:rPr>
              <a:t>Şu</a:t>
            </a:r>
            <a:r>
              <a:rPr b="0" lang="tr-TR" sz="1600" spc="-1" strike="noStrike">
                <a:solidFill>
                  <a:srgbClr val="ffffff"/>
                </a:solidFill>
                <a:latin typeface="Tahoma"/>
              </a:rPr>
              <a:t> parçaları bulunur. Bunlar Kaşgarlı Mahmud’u Divanü Lugati-t-Türk adlı eserinde yer almıştır. </a:t>
            </a:r>
            <a:br>
              <a:rPr sz="1600"/>
            </a:br>
            <a:r>
              <a:rPr b="1" lang="tr-TR" sz="1600" spc="-1" strike="noStrike">
                <a:solidFill>
                  <a:srgbClr val="ffffff"/>
                </a:solidFill>
                <a:latin typeface="Tahoma"/>
              </a:rPr>
              <a:t>Oğuz Kağan Destanı</a:t>
            </a:r>
            <a:r>
              <a:rPr b="0" lang="tr-TR" sz="1600" spc="-1" strike="noStrike">
                <a:solidFill>
                  <a:srgbClr val="ffffff"/>
                </a:solidFill>
                <a:latin typeface="Tahoma"/>
              </a:rPr>
              <a:t> 14’üncü yüzyılda derlenmiş özet nitelikte bir metindir. Oğuz Kağan’ın doğumu ve üstün nitelikleri, askeri başarıları ve ülkeyi oğulları arasında pay edişi anlatılır. </a:t>
            </a:r>
            <a:br>
              <a:rPr sz="1600"/>
            </a:br>
            <a:r>
              <a:rPr b="0" lang="tr-TR" sz="1600" spc="-1" strike="noStrike">
                <a:solidFill>
                  <a:srgbClr val="ffffff"/>
                </a:solidFill>
                <a:latin typeface="Tahoma"/>
              </a:rPr>
              <a:t>Oğuz Türkleri’nden günümüze gelen tek destan metni ise </a:t>
            </a:r>
            <a:r>
              <a:rPr b="1" lang="tr-TR" sz="1600" spc="-1" strike="noStrike">
                <a:solidFill>
                  <a:srgbClr val="ffffff"/>
                </a:solidFill>
                <a:latin typeface="Tahoma"/>
              </a:rPr>
              <a:t>Dede Korkut Kitabı</a:t>
            </a:r>
            <a:r>
              <a:rPr b="0" lang="tr-TR" sz="1600" spc="-1" strike="noStrike">
                <a:solidFill>
                  <a:srgbClr val="ffffff"/>
                </a:solidFill>
                <a:latin typeface="Tahoma"/>
              </a:rPr>
              <a:t>’dır. Bayındır Han soyundan geldikleri sanılan Akkoyunlular’ın egemen olduğu Kuzeydoğu Anadolu’daki olaylar ve Müslüman Oğuzlar’ın yaşamı anlatılır. Göktürk Destanları çeşitli parçalardan oluşmuştur. </a:t>
            </a:r>
            <a:r>
              <a:rPr b="1" lang="tr-TR" sz="1600" spc="-1" strike="noStrike">
                <a:solidFill>
                  <a:srgbClr val="ffffff"/>
                </a:solidFill>
                <a:latin typeface="Tahoma"/>
              </a:rPr>
              <a:t>Bozkurt</a:t>
            </a:r>
            <a:r>
              <a:rPr b="0" lang="tr-TR" sz="1600" spc="-1" strike="noStrike">
                <a:solidFill>
                  <a:srgbClr val="ffffff"/>
                </a:solidFill>
                <a:latin typeface="Tahoma"/>
              </a:rPr>
              <a:t> parçasında Göktürkler’in bir boz kurdun soyundan geldikleri, </a:t>
            </a:r>
            <a:r>
              <a:rPr b="1" lang="tr-TR" sz="1600" spc="-1" strike="noStrike">
                <a:solidFill>
                  <a:srgbClr val="ffffff"/>
                </a:solidFill>
                <a:latin typeface="Tahoma"/>
              </a:rPr>
              <a:t>Ergenekon</a:t>
            </a:r>
            <a:r>
              <a:rPr b="0" lang="tr-TR" sz="1600" spc="-1" strike="noStrike">
                <a:solidFill>
                  <a:srgbClr val="ffffff"/>
                </a:solidFill>
                <a:latin typeface="Tahoma"/>
              </a:rPr>
              <a:t> parçasında ise Ergenkon’a sığınmaları, çoğalıp buraya sığmayınca dağı eriterek dış dünyaya çıkmaları anlatılır. </a:t>
            </a:r>
            <a:r>
              <a:rPr b="1" lang="tr-TR" sz="1600" spc="-1" strike="noStrike">
                <a:solidFill>
                  <a:srgbClr val="ffffff"/>
                </a:solidFill>
                <a:latin typeface="Tahoma"/>
              </a:rPr>
              <a:t>Köroğlu</a:t>
            </a:r>
            <a:r>
              <a:rPr b="0" lang="tr-TR" sz="1600" spc="-1" strike="noStrike">
                <a:solidFill>
                  <a:srgbClr val="ffffff"/>
                </a:solidFill>
                <a:latin typeface="Tahoma"/>
              </a:rPr>
              <a:t> parçasında, göçebe Oğuzlar’ın Horasan ve Hazar’da İranlılarla savaşlarından sözedilir. </a:t>
            </a:r>
            <a:br>
              <a:rPr sz="1600"/>
            </a:br>
            <a:r>
              <a:rPr b="1" lang="tr-TR" sz="1600" spc="-1" strike="noStrike">
                <a:solidFill>
                  <a:srgbClr val="ffffff"/>
                </a:solidFill>
                <a:latin typeface="Tahoma"/>
              </a:rPr>
              <a:t>Manas Destanı</a:t>
            </a:r>
            <a:r>
              <a:rPr b="0" lang="tr-TR" sz="1600" spc="-1" strike="noStrike">
                <a:solidFill>
                  <a:srgbClr val="ffffff"/>
                </a:solidFill>
                <a:latin typeface="Tahoma"/>
              </a:rPr>
              <a:t>’nda Kırgız Türkleri'nin putperest Kalmuk ve Çinliler’le savaşları vardır. </a:t>
            </a:r>
            <a:br>
              <a:rPr sz="1600"/>
            </a:br>
            <a:r>
              <a:rPr b="1" lang="tr-TR" sz="1600" spc="-1" strike="noStrike">
                <a:solidFill>
                  <a:srgbClr val="ffffff"/>
                </a:solidFill>
                <a:latin typeface="Tahoma"/>
              </a:rPr>
              <a:t>Cengiz Han Destanı</a:t>
            </a:r>
            <a:r>
              <a:rPr b="0" lang="tr-TR" sz="1600" spc="-1" strike="noStrike">
                <a:solidFill>
                  <a:srgbClr val="ffffff"/>
                </a:solidFill>
                <a:latin typeface="Tahoma"/>
              </a:rPr>
              <a:t>, Moğol istilasından sonra Kıpçak bozkırlarında ve eski Uygurların yaşadığı bölgelerdeki olayları anlatır. </a:t>
            </a:r>
            <a:br>
              <a:rPr sz="1600"/>
            </a:br>
            <a:r>
              <a:rPr b="1" lang="tr-TR" sz="1600" spc="-1" strike="noStrike">
                <a:solidFill>
                  <a:srgbClr val="ffffff"/>
                </a:solidFill>
                <a:latin typeface="Tahoma"/>
              </a:rPr>
              <a:t>Timur Destanı</a:t>
            </a:r>
            <a:r>
              <a:rPr b="0" lang="tr-TR" sz="1600" spc="-1" strike="noStrike">
                <a:solidFill>
                  <a:srgbClr val="ffffff"/>
                </a:solidFill>
                <a:latin typeface="Tahoma"/>
              </a:rPr>
              <a:t>, Timur’un savaşları ve kişiliğine yer verir. Danişmend Gazi Destanı’nda Türklerin Anadolu’yu ele geçirmeleri anlatılır. </a:t>
            </a:r>
            <a:br>
              <a:rPr sz="1600"/>
            </a:br>
            <a:r>
              <a:rPr b="1" lang="tr-TR" sz="1600" spc="-1" strike="noStrike">
                <a:solidFill>
                  <a:srgbClr val="ffffff"/>
                </a:solidFill>
                <a:latin typeface="Tahoma"/>
              </a:rPr>
              <a:t>Battal Gazi Destanı</a:t>
            </a:r>
            <a:r>
              <a:rPr b="0" lang="tr-TR" sz="1600" spc="-1" strike="noStrike">
                <a:solidFill>
                  <a:srgbClr val="ffffff"/>
                </a:solidFill>
                <a:latin typeface="Tahoma"/>
              </a:rPr>
              <a:t>’nda da Anadolu’daki Türk-Bizans savaşları yer alır. </a:t>
            </a:r>
            <a:br>
              <a:rPr sz="1600"/>
            </a:br>
            <a:r>
              <a:rPr b="0" lang="tr-TR"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ÜRK adı, TÜRKİYE adı</a:t>
            </a:r>
            <a:br>
              <a:rPr sz="4000"/>
            </a:br>
            <a:endParaRPr b="0" lang="en-US" sz="40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lvl="2" marL="1062720" indent="-212400">
              <a:lnSpc>
                <a:spcPct val="80000"/>
              </a:lnSpc>
              <a:spcBef>
                <a:spcPts val="34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br>
              <a:rPr sz="2000"/>
            </a:br>
            <a:r>
              <a:rPr b="1" lang="tr-TR" sz="1400" spc="-1" strike="noStrike">
                <a:solidFill>
                  <a:srgbClr val="ffffff"/>
                </a:solidFill>
                <a:latin typeface="Tahoma"/>
              </a:rPr>
              <a:t>• </a:t>
            </a:r>
            <a:r>
              <a:rPr b="1" lang="tr-TR" sz="1400" spc="-1" strike="noStrike">
                <a:solidFill>
                  <a:srgbClr val="ffffff"/>
                </a:solidFill>
                <a:latin typeface="Tahoma"/>
              </a:rPr>
              <a:t>Türk adı:</a:t>
            </a:r>
            <a:r>
              <a:rPr b="0" lang="tr-TR" sz="1400" spc="-1" strike="noStrike">
                <a:solidFill>
                  <a:srgbClr val="ffffff"/>
                </a:solidFill>
                <a:latin typeface="Tahoma"/>
              </a:rPr>
              <a:t> "Türk" sözü, Türk soyundan olan toplumların genel adı olarak kullanılmadan önce, Türk dilinde bugünkü anlamından başka, </a:t>
            </a:r>
            <a:r>
              <a:rPr b="1" lang="tr-TR" sz="1400" spc="-1" strike="noStrike">
                <a:solidFill>
                  <a:srgbClr val="ffffff"/>
                </a:solidFill>
                <a:latin typeface="Tahoma"/>
              </a:rPr>
              <a:t>"güç-kuvvet"</a:t>
            </a:r>
            <a:r>
              <a:rPr b="0" lang="tr-TR" sz="1400" spc="-1" strike="noStrike">
                <a:solidFill>
                  <a:srgbClr val="ffffff"/>
                </a:solidFill>
                <a:latin typeface="Tahoma"/>
              </a:rPr>
              <a:t> anlamına da geliyordu. Eski Uygur metinlerinde "Türk" sözü bazen </a:t>
            </a:r>
            <a:r>
              <a:rPr b="1" lang="tr-TR" sz="1400" spc="-1" strike="noStrike">
                <a:solidFill>
                  <a:srgbClr val="ffffff"/>
                </a:solidFill>
                <a:latin typeface="Tahoma"/>
              </a:rPr>
              <a:t>"Erkler-Türkler"</a:t>
            </a:r>
            <a:r>
              <a:rPr b="0" lang="tr-TR" sz="1400" spc="-1" strike="noStrike">
                <a:solidFill>
                  <a:srgbClr val="ffffff"/>
                </a:solidFill>
                <a:latin typeface="Tahoma"/>
              </a:rPr>
              <a:t> şeklinde kullanılıyor ve bu söz cins isim olarak </a:t>
            </a:r>
            <a:r>
              <a:rPr b="1" lang="tr-TR" sz="1400" spc="-1" strike="noStrike">
                <a:solidFill>
                  <a:srgbClr val="ffffff"/>
                </a:solidFill>
                <a:latin typeface="Tahoma"/>
              </a:rPr>
              <a:t>"güç-kuvvet"</a:t>
            </a:r>
            <a:r>
              <a:rPr b="0" lang="tr-TR" sz="1400" spc="-1" strike="noStrike">
                <a:solidFill>
                  <a:srgbClr val="ffffff"/>
                </a:solidFill>
                <a:latin typeface="Tahoma"/>
              </a:rPr>
              <a:t>, sıfat halinde ise </a:t>
            </a:r>
            <a:r>
              <a:rPr b="1" lang="tr-TR" sz="1400" spc="-1" strike="noStrike">
                <a:solidFill>
                  <a:srgbClr val="ffffff"/>
                </a:solidFill>
                <a:latin typeface="Tahoma"/>
              </a:rPr>
              <a:t>"güçlü-kuvvetli"</a:t>
            </a:r>
            <a:r>
              <a:rPr b="0" lang="tr-TR" sz="1400" spc="-1" strike="noStrike">
                <a:solidFill>
                  <a:srgbClr val="ffffff"/>
                </a:solidFill>
                <a:latin typeface="Tahoma"/>
              </a:rPr>
              <a:t> anlamlarını taşıyordu.</a:t>
            </a:r>
            <a:br>
              <a:rPr sz="1400"/>
            </a:br>
            <a:br>
              <a:rPr sz="1400"/>
            </a:br>
            <a:r>
              <a:rPr b="0" lang="tr-TR" sz="1400" spc="-1" strike="noStrike">
                <a:solidFill>
                  <a:srgbClr val="ffffff"/>
                </a:solidFill>
                <a:latin typeface="Tahoma"/>
              </a:rPr>
              <a:t>Belgeler, "Türk" sözünün Uygurlar ve Gök-Türk'lerden çok önce de var olduğunu gösteriyor. V. yüzyıla ait Pers yazılarında Turanlılardan, yani Türklerden, "Türk" diye söz edilir. VI. yüzyıla ait bir Bizans kaydında ise Hun Türklerine Hunların dilinden alınmış sıfatla </a:t>
            </a:r>
            <a:r>
              <a:rPr b="1" lang="tr-TR" sz="1400" spc="-1" strike="noStrike">
                <a:solidFill>
                  <a:srgbClr val="ffffff"/>
                </a:solidFill>
                <a:latin typeface="Tahoma"/>
              </a:rPr>
              <a:t>'Türk Hun'</a:t>
            </a:r>
            <a:r>
              <a:rPr b="0" lang="tr-TR" sz="1400" spc="-1" strike="noStrike">
                <a:solidFill>
                  <a:srgbClr val="ffffff"/>
                </a:solidFill>
                <a:latin typeface="Tahoma"/>
              </a:rPr>
              <a:t> (kuvvetli Hun) denilmiştir. VI. yüzyıla ait Çin kaynaklarında "Türk" sözü, </a:t>
            </a:r>
            <a:r>
              <a:rPr b="1" lang="tr-TR" sz="1400" spc="-1" strike="noStrike">
                <a:solidFill>
                  <a:srgbClr val="ffffff"/>
                </a:solidFill>
                <a:latin typeface="Tahoma"/>
              </a:rPr>
              <a:t>Türk milletinin adı</a:t>
            </a:r>
            <a:r>
              <a:rPr b="0" lang="tr-TR" sz="1400" spc="-1" strike="noStrike">
                <a:solidFill>
                  <a:srgbClr val="ffffff"/>
                </a:solidFill>
                <a:latin typeface="Tahoma"/>
              </a:rPr>
              <a:t> olarak geçmektedir.</a:t>
            </a:r>
            <a:br>
              <a:rPr sz="1400"/>
            </a:br>
            <a:br>
              <a:rPr sz="1400"/>
            </a:br>
            <a:r>
              <a:rPr b="0" lang="tr-TR" sz="1400" spc="-1" strike="noStrike">
                <a:solidFill>
                  <a:srgbClr val="ffffff"/>
                </a:solidFill>
                <a:latin typeface="Tahoma"/>
              </a:rPr>
              <a:t>Hunların devrinde "Türk" sözünün bugünkü anlamını karşılayan kelime </a:t>
            </a:r>
            <a:r>
              <a:rPr b="1" lang="tr-TR" sz="1400" spc="-1" strike="noStrike">
                <a:solidFill>
                  <a:srgbClr val="ffffff"/>
                </a:solidFill>
                <a:latin typeface="Tahoma"/>
              </a:rPr>
              <a:t>"Hun", (daha doğrusu Kun)</a:t>
            </a:r>
            <a:r>
              <a:rPr b="0" lang="tr-TR" sz="1400" spc="-1" strike="noStrike">
                <a:solidFill>
                  <a:srgbClr val="ffffff"/>
                </a:solidFill>
                <a:latin typeface="Tahoma"/>
              </a:rPr>
              <a:t> idi. Büyük Hun İmparatorluğu'nun egemenliği altında bulunan Türk boyları da bu adı, yani</a:t>
            </a:r>
            <a:r>
              <a:rPr b="1" lang="tr-TR" sz="1400" spc="-1" strike="noStrike">
                <a:solidFill>
                  <a:srgbClr val="ffffff"/>
                </a:solidFill>
                <a:latin typeface="Tahoma"/>
              </a:rPr>
              <a:t> Kun</a:t>
            </a:r>
            <a:r>
              <a:rPr b="0" lang="tr-TR" sz="1400" spc="-1" strike="noStrike">
                <a:solidFill>
                  <a:srgbClr val="ffffff"/>
                </a:solidFill>
                <a:latin typeface="Tahoma"/>
              </a:rPr>
              <a:t> adını almışlardı. Onlara da bir süre </a:t>
            </a:r>
            <a:r>
              <a:rPr b="1" lang="tr-TR" sz="1400" spc="-1" strike="noStrike">
                <a:solidFill>
                  <a:srgbClr val="ffffff"/>
                </a:solidFill>
                <a:latin typeface="Tahoma"/>
              </a:rPr>
              <a:t>Türk Kun</a:t>
            </a:r>
            <a:r>
              <a:rPr b="0" lang="tr-TR" sz="1400" spc="-1" strike="noStrike">
                <a:solidFill>
                  <a:srgbClr val="ffffff"/>
                </a:solidFill>
                <a:latin typeface="Tahoma"/>
              </a:rPr>
              <a:t> (kuvvetli Hun) denmiştir. Türk' sözü bazen </a:t>
            </a:r>
            <a:r>
              <a:rPr b="1" lang="tr-TR" sz="1400" spc="-1" strike="noStrike">
                <a:solidFill>
                  <a:srgbClr val="ffffff"/>
                </a:solidFill>
                <a:latin typeface="Tahoma"/>
              </a:rPr>
              <a:t>"olgun, bilgili"</a:t>
            </a:r>
            <a:r>
              <a:rPr b="0" lang="tr-TR" sz="1400" spc="-1" strike="noStrike">
                <a:solidFill>
                  <a:srgbClr val="ffffff"/>
                </a:solidFill>
                <a:latin typeface="Tahoma"/>
              </a:rPr>
              <a:t> anlamlarında da kullanılmıştır. Oğuz Destanının uygurca anlatımında Oğuz Han'ın danışmanından </a:t>
            </a:r>
            <a:r>
              <a:rPr b="1" lang="tr-TR" sz="1400" spc="-1" strike="noStrike">
                <a:solidFill>
                  <a:srgbClr val="ffffff"/>
                </a:solidFill>
                <a:latin typeface="Tahoma"/>
              </a:rPr>
              <a:t>"Uluğ Türk"</a:t>
            </a:r>
            <a:r>
              <a:rPr b="0" lang="tr-TR" sz="1400" spc="-1" strike="noStrike">
                <a:solidFill>
                  <a:srgbClr val="ffffff"/>
                </a:solidFill>
                <a:latin typeface="Tahoma"/>
              </a:rPr>
              <a:t> diye  söz edilir.</a:t>
            </a:r>
            <a:endParaRPr b="0" lang="en-US" sz="1400" spc="-1" strike="noStrike">
              <a:solidFill>
                <a:srgbClr val="ffffff"/>
              </a:solidFill>
              <a:latin typeface="Tahoma"/>
            </a:endParaRPr>
          </a:p>
          <a:p>
            <a:pPr lvl="2" marL="1062720" indent="-212400">
              <a:lnSpc>
                <a:spcPct val="80000"/>
              </a:lnSpc>
              <a:spcBef>
                <a:spcPts val="34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ahoma"/>
              </a:rPr>
              <a:t>"Türk"</a:t>
            </a:r>
            <a:r>
              <a:rPr b="0" lang="tr-TR" sz="1400" spc="-1" strike="noStrike">
                <a:solidFill>
                  <a:srgbClr val="ffffff"/>
                </a:solidFill>
                <a:latin typeface="Tahoma"/>
              </a:rPr>
              <a:t> kelimesi Türk milletinin ve Türk devletinin resmî adı olarak ilk defa </a:t>
            </a:r>
            <a:r>
              <a:rPr b="1" lang="tr-TR" sz="1400" spc="-1" strike="noStrike">
                <a:solidFill>
                  <a:srgbClr val="ffffff"/>
                </a:solidFill>
                <a:latin typeface="Tahoma"/>
              </a:rPr>
              <a:t>Gök-Türk İmparatorluğu</a:t>
            </a:r>
            <a:r>
              <a:rPr b="0" lang="tr-TR" sz="1400" spc="-1" strike="noStrike">
                <a:solidFill>
                  <a:srgbClr val="ffffff"/>
                </a:solidFill>
                <a:latin typeface="Tahoma"/>
              </a:rPr>
              <a:t>  tarafından kullanılmıştır. Daha sonra bu imparatorluğa bağlı ama kendi kabile adları ile anılan diğer Türklerin ortak adı olmuştur.</a:t>
            </a:r>
            <a:br>
              <a:rPr sz="1400"/>
            </a:br>
            <a:br>
              <a:rPr sz="1400"/>
            </a:br>
            <a:r>
              <a:rPr b="1" lang="tr-TR" sz="1400" spc="-1" strike="noStrike">
                <a:solidFill>
                  <a:srgbClr val="ffffff"/>
                </a:solidFill>
                <a:latin typeface="Tahoma"/>
              </a:rPr>
              <a:t>"Türk" </a:t>
            </a:r>
            <a:r>
              <a:rPr b="0" lang="tr-TR" sz="1400" spc="-1" strike="noStrike">
                <a:solidFill>
                  <a:srgbClr val="ffffff"/>
                </a:solidFill>
                <a:latin typeface="Tahoma"/>
              </a:rPr>
              <a:t>kelimesi en eski zamanlarda </a:t>
            </a:r>
            <a:r>
              <a:rPr b="1" lang="tr-TR" sz="1400" spc="-1" strike="noStrike">
                <a:solidFill>
                  <a:srgbClr val="ffffff"/>
                </a:solidFill>
                <a:latin typeface="Tahoma"/>
              </a:rPr>
              <a:t>"Törük"</a:t>
            </a:r>
            <a:r>
              <a:rPr b="0" lang="tr-TR" sz="1400" spc="-1" strike="noStrike">
                <a:solidFill>
                  <a:srgbClr val="ffffff"/>
                </a:solidFill>
                <a:latin typeface="Tahoma"/>
              </a:rPr>
              <a:t> şeklinde söyleniyordu. Zamanla </a:t>
            </a:r>
            <a:r>
              <a:rPr b="1" lang="tr-TR" sz="1400" spc="-1" strike="noStrike">
                <a:solidFill>
                  <a:srgbClr val="ffffff"/>
                </a:solidFill>
                <a:latin typeface="Tahoma"/>
              </a:rPr>
              <a:t>"Türük"</a:t>
            </a:r>
            <a:r>
              <a:rPr b="0" lang="tr-TR" sz="1400" spc="-1" strike="noStrike">
                <a:solidFill>
                  <a:srgbClr val="ffffff"/>
                </a:solidFill>
                <a:latin typeface="Tahoma"/>
              </a:rPr>
              <a:t>, en sonunda </a:t>
            </a:r>
            <a:r>
              <a:rPr b="1" lang="tr-TR" sz="1400" spc="-1" strike="noStrike">
                <a:solidFill>
                  <a:srgbClr val="ffffff"/>
                </a:solidFill>
                <a:latin typeface="Tahoma"/>
              </a:rPr>
              <a:t>"Türk"</a:t>
            </a:r>
            <a:r>
              <a:rPr b="0" lang="tr-TR" sz="1400" spc="-1" strike="noStrike">
                <a:solidFill>
                  <a:srgbClr val="ffffff"/>
                </a:solidFill>
                <a:latin typeface="Tahoma"/>
              </a:rPr>
              <a:t> şeklini almıştır. Gök-Türk anıtlarında hem "Türük", hem de "Türk" şeklinde yazılmıştır.</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 descr=""/>
          <p:cNvPicPr/>
          <p:nvPr/>
        </p:nvPicPr>
        <p:blipFill>
          <a:blip r:embed="rId2"/>
          <a:stretch/>
        </p:blipFill>
        <p:spPr>
          <a:xfrm>
            <a:off x="971640" y="1700280"/>
            <a:ext cx="698508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9" name="" descr=""/>
          <p:cNvPicPr/>
          <p:nvPr/>
        </p:nvPicPr>
        <p:blipFill>
          <a:blip r:embed="rId2"/>
          <a:stretch/>
        </p:blipFill>
        <p:spPr>
          <a:xfrm>
            <a:off x="755640" y="476280"/>
            <a:ext cx="7740720" cy="576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20:40:57Z</dcterms:created>
  <dc:creator>HAYRİ ÖZENLİ</dc:creator>
  <dc:description/>
  <dc:language>en-US</dc:language>
  <cp:lastModifiedBy>Yusuf</cp:lastModifiedBy>
  <dcterms:modified xsi:type="dcterms:W3CDTF">2006-10-18T16:38:48Z</dcterms:modified>
  <cp:revision>41</cp:revision>
  <dc:subject/>
  <dc:title>DESTAN DÖNEMİ TÜRK EDEBİYATI</dc:title>
</cp:coreProperties>
</file>