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2734-56FB-4E34-A1CE-3161CA60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DB9-2E3B-47B7-9747-4C8A724B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02B3-1B56-41FC-8D8F-F83AB937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8C58-D0D5-41C9-847A-19C9A5A7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4A0-052B-4058-A84F-6DDC73FA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E7D-9780-478C-8364-2C86BE8D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EB28-E8D4-453E-89D9-45933991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CF9-05D3-4243-B7FA-245C81DC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A0E5-3029-462D-8262-C511BEEE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28D0-3097-4E2A-A859-BFCC8704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4CCC-472C-4FA5-B876-068EF39D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418A-C8F8-47DC-85DD-D9F8639B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D7C0-3FCE-451E-A221-B42D2156B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debiyatogretmeni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32000" y="1268280"/>
            <a:ext cx="6335640" cy="24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İLİN İŞLEVLERİ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68360" y="549360"/>
            <a:ext cx="6134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. GÖNDERGESEL İŞLEV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2205000"/>
            <a:ext cx="85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b2b2b2"/>
                </a:solidFill>
                <a:latin typeface="Arial"/>
              </a:rPr>
              <a:t>İleti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(mesaj), dilin göndergeyi olduğu gibi ifade etmesi amcıyla düzenlenerek</a:t>
            </a:r>
            <a:r>
              <a:rPr b="0" lang="tr-TR" sz="2400" spc="-1" strike="noStrike">
                <a:solidFill>
                  <a:srgbClr val="ff0000"/>
                </a:solidFill>
                <a:latin typeface="Arial"/>
              </a:rPr>
              <a:t> oluşturulmuşsa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dil </a:t>
            </a:r>
            <a:r>
              <a:rPr b="0" lang="tr-TR" sz="2400" spc="-1" strike="noStrike">
                <a:solidFill>
                  <a:srgbClr val="00ff00"/>
                </a:solidFill>
                <a:latin typeface="Arial"/>
              </a:rPr>
              <a:t>göndergesel işlevde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9966ff"/>
                </a:solidFill>
                <a:latin typeface="Arial"/>
              </a:rPr>
              <a:t>ÖRNEK:</a:t>
            </a:r>
            <a:r>
              <a:rPr b="0" lang="tr-TR" sz="2400" spc="-1" strike="noStrike">
                <a:solidFill>
                  <a:srgbClr val="00ff00"/>
                </a:solidFill>
                <a:latin typeface="Arial"/>
              </a:rPr>
              <a:t>Türkiye’nin başkenti Ankara’dır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ozan , Adana’nın ilçesi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tr-TR" sz="2400" spc="-1" strike="noStrike">
                <a:solidFill>
                  <a:srgbClr val="bbe0e3"/>
                </a:solidFill>
                <a:latin typeface="Arial"/>
              </a:rPr>
              <a:t>Alpaslan ,1071 Malazgirt Zaferi’yle Anadolu’nun kapılarını Türklere açt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8360" y="1268280"/>
            <a:ext cx="5759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. HEYECANA BAĞLI İŞLEV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600120" y="2295360"/>
            <a:ext cx="8494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İleti,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göndericinin iletinin konus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arşısın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ygu ve heyecanlarını dile geti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acıyl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uşturulmuşs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l heyecana bağlı işlevde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ÖRNEK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66ff"/>
                </a:solidFill>
                <a:latin typeface="Arial"/>
              </a:rPr>
              <a:t>Eyvah! Bizi gördü, şimdi ne yapacağı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n beni salak mı zannediyorsu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 mi yaparım? Yumruğu vurdum mu görürsü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11280" y="1341360"/>
            <a:ext cx="698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 ALICIYI HAREKETE GEÇİRME İŞLEV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2295360"/>
            <a:ext cx="865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İleti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lıcıyı harekete geçirmek üze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üzenlenmiş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l  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ıcıyı harekete geçirme işlevi”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ÖRNEK: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Buraya gelir mis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apıyı a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lerini kaldır, kımıldam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3" name=""/>
          <p:cNvSpPr txBox="1"/>
          <p:nvPr/>
        </p:nvSpPr>
        <p:spPr>
          <a:xfrm>
            <a:off x="0" y="1268280"/>
            <a:ext cx="7885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4. KANALI KONTROL İŞLEVİ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556560" y="2205000"/>
            <a:ext cx="858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İlet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,kanalın iletiyi iletmeye uygun olup olmadığını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öğrenm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macıyla düzenlenmiş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kanalı kontrol işlevi’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ÖRNEK: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Beni anladınız,değil m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Şimdi bana kapıyı açmayacak mısı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Söylediklerim anlaşıldı mı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611280" y="765000"/>
            <a:ext cx="6697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. DİL ÖTESİ İŞLEV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600120" y="1484280"/>
            <a:ext cx="854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İle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dille ilgili bilgiler vermek üzere düzenlenmiş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l ötesi işlev”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ÖRNEK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Varlıkları tanıtan kelimelere isim den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il cümleleri iş oluş hareket bildir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apım eki almış sözcüklere türemiş sözcük den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334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684360" y="1268280"/>
            <a:ext cx="66960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6. ŞİİRSEL İŞLEV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45240" y="1935000"/>
            <a:ext cx="771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Arial"/>
              </a:rPr>
              <a:t>İletin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iletisi kendinde ise yan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l, anlam aktarmakt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çok,çağrışım için kullanılıyors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şiirsel işlev”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66ff"/>
                </a:solidFill>
                <a:latin typeface="Arial"/>
              </a:rPr>
              <a:t>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ÖRNE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Kalbimi astım çamaşır ipine mand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ağmur yağdı ısland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Rüzgar esti salland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Güneş doğdu aydınland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Baktım olacak gibi deği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Ben de aldım yerine koydum.  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H. Umu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68360" y="1125360"/>
            <a:ext cx="126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T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1476360" y="191628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z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ff"/>
                </a:solidFill>
                <a:latin typeface="Arial"/>
              </a:rPr>
              <a:t>metinler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irka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işle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irlik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ullanılabili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58920" y="4508640"/>
            <a:ext cx="7343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azırlayan: Hamza UMU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ATİH ANADOLU LİSESİ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DEBİYAT ÖĞRETMENİ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671480" y="6184800"/>
            <a:ext cx="42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debiyatogretmeni.ne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3:24:26Z</dcterms:created>
  <dc:creator>bilgisayarım</dc:creator>
  <dc:description/>
  <dc:language>en-US</dc:language>
  <cp:lastModifiedBy>Yusuf</cp:lastModifiedBy>
  <dcterms:modified xsi:type="dcterms:W3CDTF">2007-10-16T20:21:44Z</dcterms:modified>
  <cp:revision>8</cp:revision>
  <dc:subject/>
  <dc:title>Slayt 1</dc:title>
</cp:coreProperties>
</file>