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F7C-DFE8-4E5D-B20C-CF0E9A14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417-5871-4F96-A72B-59F50E1A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3B4-EC1F-4ABB-8EC4-61CBAD35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0A6-12B5-4EC7-8C64-E36C75DA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F89-2E86-4C25-BA23-5DFF82D8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0BF-C32A-4CB5-9AA9-2A551C22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4F6-821F-44C9-98BB-E63863B4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042C-C483-429B-9C72-27207C3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401-280D-4099-A152-B49A5C18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8A07-601D-4AD9-9E7B-1E4F7AE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996-4DE8-4323-A581-1022B148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BD5-8EA3-47C4-84EE-37764B5B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C18C-EA5E-47DF-ABDD-D10ACA98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6400" y="1341360"/>
            <a:ext cx="8826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. SINIF DİL VE ANLA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ŞAĞIDAKİ CÜMLELERDEKİ ANLATIM BOZUKLUKLARINI BULUNUZ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deniz SAY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esun Keşap Anadolu Öğretmen Lis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ürk Edebiyatı / Dil ve Anlatı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6320" y="573408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784080"/>
            <a:ext cx="9186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z zaman kırıntılar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man sinekle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zlu camlarında günlerin sessiz kanat çırpan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 lüzumsuz görenler art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 aydınlıkta  kendi gölgelerini” (A. Hamdi TANPIN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Bu şiirden, iki alışılmış, iki de alışılmamış bağdaştırma örneği bulunuz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74800" y="444600"/>
            <a:ext cx="65037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ÖŞE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çlarını kimler için bölük bölük yapmışsı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çlarını ruhumun evliyalarınca örüle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rif edilmez güllerin yankısı gözleri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özlerin kaç kişinin gözlerinde gezini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 kaç köşeli yıldızsın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brika dumanlarında resmi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irli ve temiz haritaları doldurmuşsu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tırasız ve geleceksiz bir iç deniz gib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şka veda etmiş topraklarda durmuşsu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549360"/>
            <a:ext cx="7580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AŞAĞIDAKİLERDEN HANGİSİ ALIŞILMIŞ BAĞDAŞTIRMA ÖRNEĞİDİ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7280" y="68436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6167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112000" cy="4824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4920" y="106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948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79640" y="549360"/>
            <a:ext cx="4824360" cy="525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68920" y="101772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769080" cy="4897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36560" y="106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751640" cy="439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68200" y="1332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04600" y="1359000"/>
            <a:ext cx="734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Aşağıdakilerden hangisi genel bir konu değil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S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 İletiş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 Epik tiy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 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 Edebiy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63480" y="712800"/>
            <a:ext cx="7940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) Aşağıdaki kelimelerden anlamlı ve kurallı cümle oluşturunu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iki ahbap-başlamışlar- oturup- kalınca- düşünmeye- nasıl- kazanacaklarını- para- parası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sanmak- yanılgıdır- yaşamın- olduğunu- bir- açık- değişm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928800"/>
            <a:ext cx="8939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İZİM SINIFTA EN ÇOK BEĞENİ TOPLAYAN ŞİİRİ AÇIKLIYO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İZİM MEMLEKETİN İNSANLARI KESİNLİKLE BU DERENİN SUYUNDAN İÇMİ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MAL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U UFAKLIK BİR TÜRLÜ SUSMAK BİLMİYORDU, SANKİ DİLİNİ YUTMUŞ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1335240"/>
            <a:ext cx="87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Özlem ve sevinç” temalarının işlenebileceği üçer konu belirleyiniz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95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19120" y="5032440"/>
            <a:ext cx="837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-SOSYAL SINIFINA KATKILARINDAN DOLAYI TEŞEKKÜRL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000" y="928800"/>
            <a:ext cx="741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HASTA YAKINLARINA HER ZAMAN İLGİ GÖSTERİYOR, ONL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RUNLARINI DİKKATE ALIYO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YENİ OTOBÜSE BİNMİŞTİM Kİ SEN AKLIMA GELDİ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ONUN SINIFI GEÇME RİSKİ BENİMKİNE ORANLA DAHA YÜKS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6560" y="857160"/>
            <a:ext cx="8578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YENİ ALINAN BALIKLARI ÇOK SEVİYORUM; AMA ONLARIN YEMİNİ 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İYO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İZİM YANLIŞ TUTUMUMUZ BİRÇOK HAYATTA OLUMSUZLUĞU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RABERİNDE GETİR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HEPİMİZ HAYATI DOLU DOLU YAŞAMAYI İSTİYOR; AMA BECEREMİYOR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7640" y="857160"/>
            <a:ext cx="847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EVİNDEKİ EŞYALARA ÇOK DEĞER VERİYOR VE TEMİZ TUTU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ANATÇI TOPLUMUN YAŞANTISINA DİKKATLE BAKMALI, ESERİ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NSITMALID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İR AN, ÖĞRENCİLİK YILLARI GÖZÜNÜN ÖNÜNDEN GEÇTİ VE BÜYÜK Bİ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ÖZLEM DUY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0920" y="712800"/>
            <a:ext cx="846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OKULUMUZ ÖĞRENCİLERİNİN HEMEN HEPSİ MÜDÜRÜ SEVER VE ÇOK İY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ÇİNİR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İZİN BU İLGİSİZLİĞİNİZDEN HEM BEN ZARAR GÖRDÜM HEM ARKADA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ÇEV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U İŞYERİNDE ON SEKİZ YAŞINI VE KIRK YAŞINDAN GÜN ALMAMI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ANLAR ÇALIŞABİL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784080"/>
            <a:ext cx="8629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BU İŞLERİ ÇABUCAK BİTİRMEYİ VE SİZİNLE YÜRÜYÜŞÜ ÇOK İSTİYO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ÜNİVERSİTEDE OKUDUĞUMUZ YILLARDA BEN ONU, O DA BAŞKA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İYO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SICAK İLİŞKİLER BİZİM HAYATIMIZDA YER ALMADIĞI İÇİN BİZ, İNSANL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İYİ DAVRANMIYOR VE ÖNEMSEMİYORU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3480" y="1073160"/>
            <a:ext cx="801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YETKİLİLERİN BU OLAY KARŞISINDA, YAPACAĞI HİÇBİR ŞEY KALMAMIŞTI VE OLAYIN SONUCUNA ÇOK ÜZÜLMÜŞT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eştirilerinde kendi kişisel yorumlarına yer veren eleştirmenler, sanatçılar tarafından dikkate alınmaz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Kardeşim dişlerini fırçalamadığı için, dişleri birer birer çürüyor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7:41:47Z</dcterms:created>
  <dc:creator>user</dc:creator>
  <dc:description/>
  <dc:language>en-US</dc:language>
  <cp:lastModifiedBy>yusufk</cp:lastModifiedBy>
  <dcterms:modified xsi:type="dcterms:W3CDTF">2010-07-05T16:11:43Z</dcterms:modified>
  <cp:revision>6</cp:revision>
  <dc:subject/>
  <dc:title>Slayt 1</dc:title>
</cp:coreProperties>
</file>