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A73C-15D7-47F9-805A-21247C90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4D4-EA7E-4294-A2D9-375A3EDE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D25A-E507-4EB6-97B6-3B8DEBD3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7EE9-2390-40E2-9D5E-D1C97F37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E4A4-8AE6-4811-BE2C-D6CFD246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8161-DF36-49A3-B1E0-6AFC72F8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184E-F4CC-4A33-A0C2-5AFA69A8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D98E-742B-460E-83AC-9BBF2C2A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942A-D675-42E5-A9D5-FECEC754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D550-F981-4E66-B1C5-8A7D8D27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24F8-6F7A-444D-B4A9-ABC80577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273-1A80-4B5D-92A8-1B8A8851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06F4-6FBF-47E2-957A-16049A4B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FD6D-7E64-4191-ACB2-20875099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C91F-7AE3-447B-AD1E-34576F06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81A2-0936-4A4F-8403-03E20983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8441-1652-4F66-ABF1-63BF0C63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C2C7D-923A-4119-A9A9-50C1D3C9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B5E5B-B1D4-438E-AB11-43CC23B6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08B04-BFA1-435A-8FC2-315E6556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A6352-11D1-4A43-940D-D386A0D2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7FD6A-316A-4A91-BA69-17F14D80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6BD5-D59F-401F-8E6D-396152A0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DCCB6-50E8-4CC4-803F-DAEA9765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0CF3A-C3E0-4A28-AAFB-074FD3C0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41025-2BCA-4A20-A799-599A3C78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E106A-573C-4F9A-AF91-32DB0470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F9274-9CB4-42AC-9150-A3E7A625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FE20D-5065-43CA-A434-1012F30C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083F9-3EB7-44F5-969C-925C7326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54632-93A9-4587-AAA2-67C5CA56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32F96-E951-4ED5-B51C-F554B190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6AFF2-F7A8-4C5C-8EAE-43D6FFC2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DDFF-4972-4418-B213-5B17A6E8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E49B7-F097-4355-A1D5-372EE715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BBFEE-D5D3-45AE-87EA-83919EC7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940E2-B5A9-42EA-86BC-D8E91B52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AE473-1FB6-4A18-B54C-DE48588B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DD5D7-3195-4169-946C-EA4039B4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D5C3F-BB54-4FBC-9D7F-AD8D4A5B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9BF20-51F5-4CA3-B9BB-517F0068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A3A99-1768-49B0-8213-0EA839B5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B437A-5644-4824-B229-685EAEC7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38F38-9333-4455-9DC3-B5AE9608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601-E918-419D-99AA-3B83835D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A3336-2D04-44C2-97C0-32B9A0E3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4964F-E852-4E25-9E03-4A4701EC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F98DE-84D3-49B0-B0A6-A973491D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5745A-EEAA-400A-8117-92201AA5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2054C-508E-4BC0-9CBC-950CBECB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5451A-4A6D-41DE-911D-4157403C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3B105-0561-4F11-B15A-3D20D31C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01DA5-DA66-408E-9DB5-397669AC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24334-D420-41ED-8F82-E2116CC4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DB8F5-6416-47F7-9A55-7F977FB2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D1C-9F68-4EC8-8458-C09F3E55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7EDD8-B1F7-4BC9-B97E-CAC8F2D8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4872E-CB24-42F6-AC23-F9C98616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BB5A5-C3E9-407F-9826-534E9B58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63306-F543-4C11-A2A5-F5CCFBCC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1C7A8-3AF9-4203-8921-884DC8BA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023FF-11C2-4C4A-9913-5657CD5F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639DF-FC47-443A-BCF8-1E46E11E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DE817-463C-4618-8AB4-AD51671B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3A254-3776-4B16-8012-46DB4809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0D9B0-952E-463E-ACF2-A3F86F3B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B20-B126-4573-9536-C2855ACC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956B4-FD1A-499C-ACE3-47949564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184C3-9C2A-49BD-BB86-88EC50C9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A0FF3-A87D-4C33-AB1D-A2A8C8DD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F8F-1890-4342-9F4F-1AE639DA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C383-6763-4AB0-98F1-78EF1EF6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767A-8A50-4D33-AF76-CD10C9C7A0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90D5-9E87-4636-BBDE-63E9BC5867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5D6F-8D06-4813-86A2-7490C885F5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0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0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8845-9F2A-48AC-965F-82EC90C2B1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1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BDC8-9376-4D24-BF1E-248FE0BA5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7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B823-6823-4D8F-BF68-F76BC6DEC2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debiyatogretmeni.net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931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ahoma"/>
              </a:rPr>
              <a:t>1940 SONRASI EDEBİYATI 2. YENİ HAREKETİ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İkinci Yeniciler’ adı verilen akım ‘şiir için sanat’ anlayışına dayanan, sürrealizmden daha aşırı soyutlama anlayışını sürdüren akımdır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u akım 1.yeni (Garip) akımını yeterli görmemiş ve bu akıma tepki olarak ortaya çıkmıştır. Başlangıçta bir topluluk olarak ortaya çıkmayan bildirgesi bulunmayan belirli bir ilkeleri bile olmayan grupken, </a:t>
            </a:r>
            <a:r>
              <a:rPr b="0" lang="en-US" sz="1700" spc="-1" strike="noStrike">
                <a:solidFill>
                  <a:srgbClr val="ffcf01"/>
                </a:solidFill>
                <a:latin typeface="Comic Sans MS"/>
              </a:rPr>
              <a:t>Muzaffer Erdost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’ un yazdığı yazılarında etkisiyle bir çatı altında toplanıldı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İkinci Yeni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Şiirimizde daha çok uzun soluklu olmasa da, geniş bir okuyucu kitlesi bulamasa da Türk şiirine yeni boyutlar, yeni öğeler getirmişler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aha çok yorum ve izlenim şiirleri yazmışlardır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Orhan Veli ve arkadaşlarının yalın anlatımına tepki olarak doğmuştur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Şiir için şiir’ anlayışını benimsemişlerdir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Şiir görüntülerin verildiği bir amaç olmalıdır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Şiirde doğa betimlemelerine  yer verilmemeli, öteki türlerde anlatılmayanlar dil getirilmelidir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2. Yeni Grubunu; </a:t>
            </a:r>
            <a:r>
              <a:rPr b="0" lang="en-US" sz="1700" spc="-1" strike="noStrike">
                <a:solidFill>
                  <a:srgbClr val="ffcf01"/>
                </a:solidFill>
                <a:latin typeface="Comic Sans MS"/>
              </a:rPr>
              <a:t>EDİP CANSEVER,SEZAİ KARAKOÇ,TURGUT UYAR,ECE AYHAN,CEMAL SÜREYYA ve İLHAN BERK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oluşturmaktadır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2692800" y="6180120"/>
            <a:ext cx="3727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edebiyatogretmeni.ne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AF1E-5C48-479A-B92A-76F1FF78F66F}" type="slidenum">
              <a:t>1</a:t>
            </a:fld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Monotype Corsiva"/>
              </a:rPr>
              <a:t>EDİP CANSEVER (1928-1986) </a:t>
            </a:r>
            <a:endParaRPr b="0" lang="en-US" sz="5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Monotype Corsiva"/>
              </a:rPr>
              <a:t>SEZAİ KARAKOÇ (1933 - …)</a:t>
            </a:r>
            <a:endParaRPr b="0" lang="en-US" sz="5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Monotype Corsiva"/>
              </a:rPr>
              <a:t>TURGUT UYAR  (1927 – 1985)</a:t>
            </a:r>
            <a:endParaRPr b="0" lang="en-US" sz="5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Monotype Corsiva"/>
              </a:rPr>
              <a:t>ECE AYHAN ( 1931 – 2002 )</a:t>
            </a:r>
            <a:endParaRPr b="0" lang="en-US" sz="5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Monotype Corsiva"/>
              </a:rPr>
              <a:t>CEMAL SÜREYYA ( 1931 – 1990 )</a:t>
            </a:r>
            <a:endParaRPr b="0" lang="en-US" sz="5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Monotype Corsiva"/>
              </a:rPr>
              <a:t>İLHAN BERK  ( 1918 – 2008 )</a:t>
            </a:r>
            <a:endParaRPr b="0" lang="en-US" sz="5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220C4-1BDC-4246-ABEE-FC440A398D72}" type="slidenum">
              <a:t>2</a:t>
            </a:fld>
          </a:p>
        </p:txBody>
      </p:sp>
    </p:spTree>
  </p:cSld>
  <p:transition spd="med">
    <p:cover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Monotype Corsiva"/>
              </a:rPr>
              <a:t>EDİP CANSEVER(1928-1986)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İlk şiiri ‘İstanbul’ dergisinde yayımlanmışt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İstanbul,Yücel,Fikirler,Edebiyat Dünyası, dergilerinde yayınlanan ilk gençlik şiirlerini ‘İkindi Üstü’ adlı kitapta toplamışt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İlk kitabından 7 yıl sonra yayımladığı Dirlik Düzenlik’ de kendisini özgü bir şiir evreni kurduğu görülü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957’de yayınlanan ‘Yerçekimli Karanfil’ ile kendisine özgü bir şiir evreni kurmuş;2. Yeni akımının özgün örneklerini vermişti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ze İşlevini Yitirdi’ gerekçesiyle yeni arayışlara yönelmişti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00"/>
                </a:solidFill>
                <a:uFillTx/>
                <a:latin typeface="Comic Sans MS"/>
              </a:rPr>
              <a:t>ESERLERİ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ül Dönüyor Avucumda ―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Düz Yazı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İkindi Üstü,Dirlik Düzenlik,Yerçekimli Karanfil,Umutsuzlar Parkı,Petrol,Sevda ile Sevgi,İlkyaz Şikayetçileri . . . ―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Şiirl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1293840" cy="17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80D-6B4A-459C-B62B-DD8F69E5DF06}" type="slidenum">
              <a:t>3</a:t>
            </a:fld>
          </a:p>
        </p:txBody>
      </p:sp>
    </p:spTree>
  </p:cSld>
  <p:transition spd="med">
    <p:cover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Monotype Corsiva"/>
              </a:rPr>
              <a:t>SEZAİ KARAKOÇ (1933 - …)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şlangıçta Pazar Postası’nda 2.Yeni akımı doğrultusunda şiirler yazmış; daha sonraki yıllarda tümüyle kendi şiirine yönelmişti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eni biçim araştırmalarıyla, değişik imgelerle, kendine özgü, mistik ve islami içeriğe yer veren eserleriyle kuşağının en iyileri arasına girmeyi başarmışt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rgi ve gazetelerde sanat yazıları, eleştirileri,Fransız şiirinden çeviriler yayımlamışt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şlangıçta 2. Yeni şairleri arasında yer alan sanatçı sonraları iyice mistisizme ve içsele yönelmiştir. Din ve İnanç yoluyla fizik ötesi kaygıları yenmiş mistik bir şairdi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00"/>
                </a:solidFill>
                <a:uFillTx/>
                <a:latin typeface="Comic Sans MS"/>
              </a:rPr>
              <a:t>ESERLERİ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ğara ve Işık –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Şiir Düzyazı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/ Tarihin Yol Ağzında –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Röportaj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unus Emre, M. Akif, Mevlana –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İncele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ydan Ortaya Çıktığında , Portreler –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Öyk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azılar , Ölümden Sonra Kalkış, Makamda –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Dene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örfez, Şahdamar , Hızır’la 40 Saat , Sesler , Alın Yazısı Saati –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Şii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6877080" y="0"/>
            <a:ext cx="1531800" cy="17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6DB0-0084-4891-94A4-F2AFE6E11D1E}" type="slidenum">
              <a:t>4</a:t>
            </a:fld>
          </a:p>
        </p:txBody>
      </p:sp>
    </p:spTree>
  </p:cSld>
  <p:transition spd="med">
    <p:cover dir="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Monotype Corsiva"/>
              </a:rPr>
              <a:t>TURGUT UYAR (1927 – 1985)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Çeşitli dergilerde yer alan şiirleriyle adını duyurmuştur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İlk Dönem Şiilerinde çevresinin yaşayışının izlenimleri üzerinde durmuş, daha sonra iç derinliğe inmeye başlamıştı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Ölçülü uyaklı ilk dönem şiirinde daha çok kişisel yaşantısını yansıtı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şk,ayrılık,ölüm temalarını işlediği bu dönem şiirinde Garip akımının izleri görülü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945 şiiri biçim ve öz bakımından yenileştiren şairlerin en güçlülerindendi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rik şiirin geleneksel sınırlarını zorlamıştı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ünümüzde Türkçeyi en güzel kullanan şairler arasındadı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00"/>
                </a:solidFill>
                <a:uFillTx/>
                <a:latin typeface="Comic Sans MS"/>
              </a:rPr>
              <a:t>ESERLERİ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r Şiirden – 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İncel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rz-ı Hal , Türkiye'm , Dünyanın En Güzel Arabistan’ı , Tütünler Islak , Her Pazartesi . . .  - 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Şi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1871640" cy="17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31BD-C705-4435-A853-3D997169B340}" type="slidenum">
              <a:t>5</a:t>
            </a:fld>
          </a:p>
        </p:txBody>
      </p:sp>
    </p:spTree>
  </p:cSld>
  <p:transition spd="med">
    <p:cover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Monotype Corsiva"/>
              </a:rPr>
              <a:t>ECE AYHAN ( 1931 – 2002 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Şairin ilk şiiri 1954 yılında Türk Dili’nde yayımlanmıştı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954-1955 yılları arasında Türk Dili, Varlık ve Yenilik dergilerinde çıkan şiirlerinden sonra , Pazar Postası , Seçilmiş Hikayeler ve Yeditepe Dergileri’nde yazdı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Yeni şiirinin en önemli temsilcisi olarak gösterilse de kendisi  ‘İkinci Yeni’ tanım yerine ‘Sivil Şiir’ önerdi ve kullanıldı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ünümüz Türk şiirinin modern ustalarından biridi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r şiirinde hem şiir hem Türkiye üzerin görüşlerini anlatı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vil şiir , Sıkı şiir , morjinolik , etik gibi belirli kavramları ön çıka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00"/>
                </a:solidFill>
                <a:uFillTx/>
                <a:latin typeface="Comic Sans MS"/>
              </a:rPr>
              <a:t>ESERLERİ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urt Sual , Bakışsız Bir Kedi Kara , Sivil Şiirler , Çok Eski Adıyladır , Devlet ve Tabiat . . 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461960" cy="17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AAB-016E-408F-B367-A73D9E2FC7A8}" type="slidenum">
              <a:t>6</a:t>
            </a:fld>
          </a:p>
        </p:txBody>
      </p:sp>
    </p:spTree>
  </p:cSld>
  <p:transition spd="med">
    <p:cover dir="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Monotype Corsiva"/>
              </a:rPr>
              <a:t>CEMAL SÜREYYA ( 1931 – 1990 )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Şiire lise yıllarında aruz denemeleriyle başlamış , ilk şiiri ‘Şarkısı- Beyaz’ 1953’de Mülkiye dergisinde yayımlanmıştır. Çeşitli yayın evlerinde danışmanlık , ansiklopedilerde redaktörlük , çevirmenlik yapmışt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leneğe karşı olmasına rağmen , geleneği şiirinde en güzel kullanan şairlerden birisidi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endine özgü söyleyiş biçimi v şaşırtıcı buluşlarıyla zengin birikimi ile duyarlı , çarpıcı , yoğun , diri imgeleriyle İkinci Yeni şiirin en başarılı örneklerini vermişti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00"/>
                </a:solidFill>
                <a:uFillTx/>
                <a:latin typeface="Comic Sans MS"/>
              </a:rPr>
              <a:t>ESERLERİ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Üvercinka , Göçebe , Sevda Sözleri , Güz Bitiği   - 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Şii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ünü Birlik , Şapkam Dolu Çiçekle                       - 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Dene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Üstü Kalsın , 999.Gün                                          - 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Günlü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0 Aşk Şiiri , Mülkiyeli Şairler                          - 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Antoloj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üç Günün Mektupları , Folklor Şiire Düşman   - 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Düz Yazı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7264440" y="0"/>
            <a:ext cx="1339920" cy="17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CAA-3EEB-4FB8-BB1D-D2C4E9F362AC}" type="slidenum">
              <a:t>7</a:t>
            </a:fld>
          </a:p>
        </p:txBody>
      </p:sp>
    </p:spTree>
  </p:cSld>
  <p:transition spd="med">
    <p:cover dir="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Monotype Corsiva"/>
              </a:rPr>
              <a:t>İLHAN BERK ( 1918 – 2008 )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İlhan Berk’in şiiri , değişik evrelerden geçmişti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İlk şiirlerini toplumcu anlayışla kaleme almıştı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ce Ölçüsünün kullanıldığı bu şiirlerde , o dönemin şiir anlayışına özgü bir karamsarlık göze çarpa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İlhan Berk , daha sonra 1990’lara doğru Yeni Edebiyat anlayışı içinde yer almış , Servet-i Fünun (Uyanış) , Ses , Yığın , Yeryüzü , Kaynak gibi dergilerde yazmıştı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953’te Yenilik dergisinde yayımladığı ‘Saint-Antoin’in Güvercinleri’ İkinci Yeni şiir akımının habercisi olmuştu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00"/>
                </a:solidFill>
                <a:uFillTx/>
                <a:latin typeface="Comic Sans MS"/>
              </a:rPr>
              <a:t>ESERLERİ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şlangıcından Bugüne Kadar Beyit , Mısra Antolojisi -  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Antoloj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üneşi Yakanların Selamı , Günaydın Yeryüzü , İstanbul Kitabı , Türkiye Şarkısı   -  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Şi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6300720" y="38160"/>
            <a:ext cx="2303640" cy="17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A07-415C-43F1-8D50-A2D00D0B19FB}" type="slidenum">
              <a:t>8</a:t>
            </a:fld>
          </a:p>
        </p:txBody>
      </p:sp>
    </p:spTree>
  </p:cSld>
  <p:transition spd="med">
    <p:cover dir="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ffff66"/>
                </a:solidFill>
                <a:uFillTx/>
                <a:latin typeface="Monotype Corsiva"/>
              </a:rPr>
              <a:t>YASEMİN KAHVECİ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66"/>
                </a:solidFill>
                <a:uFillTx/>
                <a:latin typeface="Monotype Corsiva"/>
              </a:rPr>
              <a:t>12 TM / D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66"/>
                </a:solidFill>
                <a:uFillTx/>
                <a:latin typeface="Monotype Corsiva"/>
              </a:rPr>
              <a:t>556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2CB70-E3A4-42A3-977E-817EB25268C5}" type="slidenum">
              <a:t>9</a:t>
            </a:fld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3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9:03:04Z</dcterms:created>
  <dc:creator>Pc </dc:creator>
  <dc:description/>
  <dc:language>en-US</dc:language>
  <cp:lastModifiedBy>yusufk</cp:lastModifiedBy>
  <dcterms:modified xsi:type="dcterms:W3CDTF">2010-05-09T20:53:34Z</dcterms:modified>
  <cp:revision>4</cp:revision>
  <dc:subject/>
  <dc:title>1940 SONRASI EDEBİYATI 2. YENİ HAREKETİ</dc:title>
</cp:coreProperties>
</file>