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9C7-B96C-40FE-BC88-5CB6A2BE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03D-C72F-49ED-B8F5-6CA44BC4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AED-04DF-431C-A50E-708431CF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ACD-7314-40FE-BF2C-031E24DD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A8CA-B158-4328-A483-92370A68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F330-03A4-4D7C-A086-337F2D88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913F-6165-4B81-8D70-995CEE9A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C0AE-C292-4337-BFB3-499A4467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E90F-2D8F-4E50-9D5A-7B861223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FFF4-35DD-4663-B535-AE503283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FED2-1F39-4EC3-80AB-1013BD72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08D-EEE0-4084-928B-209CCD4F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B3BB-61B0-47F8-8C4F-6F9263A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F09C-5D18-4F55-9C60-39EE9EB2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DF80-8E50-4562-A7F2-8CB53663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52D2-EAFF-41A6-9DA5-D537E652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F94F-289B-403E-9740-CECF432C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14D-CC9D-40B0-B157-9317E045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21C-283A-4436-9A61-D6053293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65D-1456-4FAA-83EF-E823E621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E13-E9C5-4664-993E-37CB9B11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ED5-4077-4DA2-92CD-2309840E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343-0BD3-48B9-93A4-C44E1475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A9C-B7EA-44AF-8772-625F9625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2865-0DFB-48F1-A6B8-8EDCE1F87D91}" type="datetime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1468-9C41-415B-AA47-795D0B7E5822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" descr=""/>
          <p:cNvPicPr/>
          <p:nvPr/>
        </p:nvPicPr>
        <p:blipFill>
          <a:blip r:embed="rId3"/>
          <a:stretch/>
        </p:blipFill>
        <p:spPr>
          <a:xfrm>
            <a:off x="7794720" y="0"/>
            <a:ext cx="134928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1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E01B-F9B6-4479-8F68-C57363AD9F62}" type="datetime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3DE0-A1AE-43B4-B774-4D2D3E93D96C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www.edebiyatogretmeni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-9360"/>
          <a:ext cx="91440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1904760"/>
            <a:ext cx="83757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cc00"/>
                </a:solidFill>
                <a:latin typeface="Arial Black"/>
              </a:rPr>
              <a:t>İçimizden biri.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743200" y="5178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ustafa Kemal Atatü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www.edebiyatogretmeni.net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4558-D538-423D-B13B-AC7F29541DD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25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cc00"/>
                </a:solidFill>
                <a:latin typeface="Arial Black"/>
              </a:rPr>
              <a:t>Öğrenci Mustafa ile.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dın ne sen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usta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enim ki de Musta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en Atatürk’ü tanır mısı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anım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Onu sever mis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everim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520560" y="1295280"/>
            <a:ext cx="3441960" cy="47628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7705800" y="0"/>
            <a:ext cx="1438200" cy="18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86E-A209-47AE-93B6-793427624CB6}" type="slidenum">
              <a:t>10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İnsanı teslim alıcı fevkalade önderlik kuvveti vardı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O, tetiktir, hazır cevaptır, dikkati çekecek kadar zekidir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Gladys Baker (Gazeteci)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3403800" cy="47624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705800" y="0"/>
            <a:ext cx="143820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909-EB2C-4322-91B9-8C0083927352}" type="slidenum">
              <a:t>11</a:t>
            </a:fld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875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Dünyanın, çağdaş, en büyük kişilerinden biriydi. </a:t>
            </a:r>
            <a:br>
              <a:rPr sz="2400"/>
            </a:b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Le Jour-Echo de Par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32440" cy="47624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818480" y="0"/>
            <a:ext cx="1325520" cy="17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3DA-8201-488A-AA58-28C2064C34A2}" type="slidenum">
              <a:t>12</a:t>
            </a:fld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8160"/>
            <a:ext cx="6477120" cy="47624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645000" y="1676520"/>
            <a:ext cx="5499000" cy="47624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6320" y="1714680"/>
            <a:ext cx="5981760" cy="47624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7763040" y="0"/>
            <a:ext cx="1380960" cy="177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A39-F4D4-4AEF-8CB5-71FE5DF2D64D}" type="slidenum">
              <a:t>13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cc00"/>
                </a:solidFill>
                <a:latin typeface="Arial Black"/>
              </a:rPr>
              <a:t>Köpeği Foksi ile.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41600" cy="474984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4267080" y="2438280"/>
            <a:ext cx="4496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FRANS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İnsanlığın bütün belirtileri O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da kendini hemen gösteriyor. 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elle Gazetesi</a:t>
            </a:r>
            <a:br>
              <a:rPr sz="2000"/>
            </a:br>
            <a:br>
              <a:rPr sz="12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763040" y="0"/>
            <a:ext cx="1380960" cy="17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739-6162-4429-98B8-231E4F3A6DA3}" type="slidenum">
              <a:t>14</a:t>
            </a:fld>
          </a:p>
        </p:txBody>
      </p: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3520" y="5028840"/>
            <a:ext cx="807696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Verdana"/>
              </a:rPr>
              <a:t>"Ey kahraman Türk kadını, sen yerde sürünmeye değil, omuzlar üzerinde göklere yükselmeye layıksın. 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63640" y="457200"/>
            <a:ext cx="7416720" cy="4762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4101-F5FE-4A5E-B4F3-A05D9F632546}" type="slidenum">
              <a:t>15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19320" y="115920"/>
            <a:ext cx="6095880" cy="4379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04560" y="4644720"/>
            <a:ext cx="845820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USTAFA KEMAL SESLEN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üzyıllar öncesinden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üzyıllar sonrasından sesleniyorum si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 Mustafa Kemal' im heyy.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044B-361E-4C22-9EA5-CF7CD883F02E}" type="slidenum">
              <a:t>16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28600"/>
            <a:ext cx="49528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 Mustafa Kemal' i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üyük büyük denizlerim vardır beni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ürriyeti içmiş dalgalarım,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ürriyetle kabarmış dalgalarım vardır beni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Ulusumun yanında sevinci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 Mustafa Kemal' im heyy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05480" y="1752480"/>
            <a:ext cx="3276360" cy="4419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705800" y="0"/>
            <a:ext cx="1438200" cy="18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BDB-35B6-43D5-A1AE-53561A19AA9B}" type="slidenum">
              <a:t>17</a:t>
            </a:fld>
          </a:p>
        </p:txBody>
      </p:sp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95480" y="4495680"/>
            <a:ext cx="6248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ranlığı deler gözleri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Dalgalara binip gelmiş kahraman,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kçe gözlerine türküler yaktığımız...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ani bir güneş doğmuştu ya Samsun' dan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İşte benim... Ben... Mustafa Kemal..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4400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705800" y="0"/>
            <a:ext cx="1438200" cy="18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963-2555-4216-BFC0-0C8C3447DD05}" type="slidenum">
              <a:t>18</a:t>
            </a:fld>
          </a:p>
        </p:txBody>
      </p:sp>
    </p:spTree>
  </p:cSld>
  <p:transition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505320" y="13644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Ölmek yaşamaktır vatan uğrunda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Deyip, öyle girdim savaşa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omut verdi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ahlandı cümle vatan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oğdum kör talihi zindanınd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868400"/>
            <a:ext cx="6172200" cy="428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705800" y="0"/>
            <a:ext cx="1438200" cy="18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9D0-EE72-44E5-BB44-E71C0A5D0B79}" type="slidenum">
              <a:t>19</a:t>
            </a:fld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86104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"İki Mustafa Kemal vardır;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biri ben, et ve kemik geçici Mustafa Kemal...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İkinci Mustafa Kemal, onu "ben" kelimesiyle ifade edemem.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O, ben değil, bizdir. O, memleketin her köşesinde yeni fikir,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yeni hayat ve büyük ülkü için uğraşan 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aydın ve savaşçı bir topluluktur. 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Ben onların rüyasını temsil ediyorum. 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Benim teşebbüslerim, onların özlemini 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çektikleri şeyleri tatmin içindir.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O Mustafa Kemal sizsiniz, hepinizsiniz.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Geçici olmayan, yaşaması ve muvaffak olması gereken</a:t>
            </a:r>
            <a:br>
              <a:rPr sz="2800"/>
            </a:br>
            <a:r>
              <a:rPr b="0" i="1" lang="tr-TR" sz="2800" spc="-1" strike="noStrike">
                <a:solidFill>
                  <a:srgbClr val="ffffff"/>
                </a:solidFill>
                <a:latin typeface=" serif"/>
              </a:rPr>
              <a:t>Mustafa Kemal odur.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5DAC-4F6E-45CE-B3BC-8E0EF4E7B7B1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564000" y="0"/>
            <a:ext cx="4248000" cy="64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htı gülen anaları yurdumun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kleri, dağları, denizleri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rınları, güvenip te uyuduğu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slan yeleli sınırlarımın Mehmetleri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utun ellerinizden yüreklerinizden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evgilerinizle beni yıkayın.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üzyıllar öncesinden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üzyıllar sonrasından gelir sesi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evdi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tane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ürkiyelim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en var oldukça belli ki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 Mustafa Kemali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hçet Kemal Çağla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20" y="50760"/>
            <a:ext cx="3352680" cy="4749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761240" y="0"/>
            <a:ext cx="1382760" cy="177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3D5-0B47-4220-98CC-2F075146C5EB}" type="slidenum">
              <a:t>20</a:t>
            </a:fld>
          </a:p>
        </p:txBody>
      </p:sp>
    </p:spTree>
  </p:cSld>
  <p:transition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162000"/>
            <a:ext cx="662940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tr-TR" sz="2400" spc="-1" strike="noStrike">
                <a:solidFill>
                  <a:srgbClr val="ffffff"/>
                </a:solidFill>
                <a:latin typeface="Times New Roman"/>
              </a:rPr>
              <a:t>Son Mektup”’ta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Siz beni hala anlayamadınız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Ve anlayamayacaksınız çağlar boyunca...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Hep tutturmuş “Yıl 1919 Mayıs’ın 19’u” diyorsunuz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Ve eskimiş sözlerle beni övüyor, övüyorsunuz.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Mustafa Kemal’i anlamak bu değil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Mustafa Kemal ülküsü sadece söz değil.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..........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Bana müjdeler getirin bir daha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Uygar uluslara eşit yeni buluşlardan.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Kuru söz değiş, iş istiyorum sizden anladınız mı?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Uzaya Türk adını Atatürk kapsülüyle yazdınız mı?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Mustafa Kemal’i anlamak avunmak değil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Mustafa Kemal ülküsü sadece söz değil.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Beni seviyorsanız eğer ve anlıyorsanız;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Laboratuvarlarda sabahlayın,kahvelerde değil,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Bilim ağartsın saçlarınızı, kitaplar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Ancak böyle aydınlanır o sonsuz karanlıklar.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Mustafa Kemal’i anlamak, ağlamak değil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Mustafa Kemal ülküsü sadece söz değil.</a:t>
            </a:r>
            <a:br>
              <a:rPr sz="1600"/>
            </a:br>
            <a:r>
              <a:rPr b="1" lang="tr-TR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Halim YAĞCIOĞL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761240" y="0"/>
            <a:ext cx="1382760" cy="177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F78-61B9-40DF-9D8F-17C326DB5D2A}" type="slidenum">
              <a:t>21</a:t>
            </a:fld>
          </a:p>
        </p:txBody>
      </p:sp>
    </p:spTree>
  </p:cSld>
  <p:transition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74040" y="0"/>
            <a:ext cx="1569960" cy="17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0" y="0"/>
          <a:ext cx="9144000" cy="626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50920" y="404640"/>
            <a:ext cx="86756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tr-TR" sz="2800" spc="-1" strike="noStrike">
                <a:solidFill>
                  <a:srgbClr val="000066"/>
                </a:solidFill>
                <a:latin typeface="Arial"/>
              </a:rPr>
              <a:t>Hasta yatağında doktorlara küçük yalanlar söyleyecek kadar muzip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66"/>
                </a:solidFill>
                <a:latin typeface="Arial"/>
              </a:rPr>
              <a:t>korumalarını atlatıp, Saray'dan kaçarak sahilde horon tepecek kadar yalnız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66"/>
                </a:solidFill>
                <a:latin typeface="Arial"/>
              </a:rPr>
              <a:t>hayatını ortaya koyup, yurt gezisine çıkacak kadar gözü pe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66"/>
                </a:solidFill>
                <a:latin typeface="Arial"/>
              </a:rPr>
              <a:t>ölüm döşeğinde nutuk dikte ettirecek kadar güçl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66"/>
                </a:solidFill>
                <a:latin typeface="Arial"/>
              </a:rPr>
              <a:t>Ankara'ya Başkentine gidemeyince ağlayacak kadar insand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8B7-73F7-4E7A-B6CE-14A33B1ADEBA}" type="slidenum">
              <a:t>22</a:t>
            </a:fld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6453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520" y="15998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cc00"/>
                </a:solidFill>
                <a:latin typeface="Arial Black"/>
              </a:rPr>
              <a:t>O bizim gibiydi...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8B93-B10D-4531-AC0E-8D0C8FE4C573}" type="slidenum">
              <a:t>23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11280" y="333360"/>
            <a:ext cx="799308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Aslında O’nu hiç görmedik.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Yüz yüze gelme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Ama O’nu tanıyoru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Sesini cızırtılı bantlardan dinledik.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Hep siyah beyaz filmlerde gördük yüzünü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Çelik bakışlarını şiirlerde okudu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O’nu yaşıyoruz.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Özlü sözlerini okuduk köşe başlarında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Adını her sabah okul sıralarında andı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Şimdi 78 yıl sonra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O’nunla son yolculuğa çıkıyoruz 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bir kez daha...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O’nun geçtiği yollardan geçiyoruz.</a:t>
            </a: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Yollarda bıraktığı anıların izini sürüyoruz.</a:t>
            </a:r>
            <a:br>
              <a:rPr sz="2000"/>
            </a:br>
            <a:br>
              <a:rPr sz="2000"/>
            </a:br>
            <a:r>
              <a:rPr b="1" lang="tr-TR" sz="2000" spc="-1" strike="noStrike">
                <a:solidFill>
                  <a:srgbClr val="ffffff"/>
                </a:solidFill>
                <a:latin typeface="Times New Roman"/>
              </a:rPr>
              <a:t>O’nu arıyoru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9527-B36E-4A0D-AD71-0E8D7ABFA9A5}" type="slidenum">
              <a:t>24</a:t>
            </a:fld>
          </a:p>
        </p:txBody>
      </p:sp>
    </p:spTree>
  </p:cSld>
  <p:transition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-4680"/>
          <a:ext cx="91440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cc00"/>
                </a:solidFill>
                <a:latin typeface="Arial Black"/>
              </a:rPr>
              <a:t>O’nu özlüyoruz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743200" y="46479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ürk Ulu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969E-7478-4C34-B341-39F5ABF07551}" type="slidenum">
              <a:t>25</a:t>
            </a:fld>
          </a:p>
        </p:txBody>
      </p:sp>
    </p:spTree>
  </p:cSld>
  <p:transition>
    <p:random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-4680"/>
          <a:ext cx="91440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cc00"/>
                </a:solidFill>
                <a:latin typeface="Arial Black"/>
              </a:rPr>
              <a:t>Hazırlayan</a:t>
            </a:r>
            <a:br>
              <a:rPr sz="4400"/>
            </a:br>
            <a:r>
              <a:rPr b="0" lang="tr-TR" sz="4400" spc="-1" strike="noStrike">
                <a:solidFill>
                  <a:srgbClr val="ffcc00"/>
                </a:solidFill>
                <a:latin typeface="Arial Black"/>
              </a:rPr>
              <a:t>Kadir GÜMÜŞ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743200" y="5178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cc00"/>
                </a:solidFill>
                <a:latin typeface="Arial Black"/>
              </a:rPr>
              <a:t>Sun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tr-TR" sz="4000" spc="-1" strike="noStrike">
                <a:solidFill>
                  <a:srgbClr val="ffcc00"/>
                </a:solidFill>
                <a:latin typeface="Arial Black"/>
              </a:rPr>
              <a:t>Kadir GÜMÜ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A5D8-F06F-4B53-9C6D-DC57381656C7}" type="slidenum">
              <a:t>26</a:t>
            </a:fld>
          </a:p>
        </p:txBody>
      </p:sp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4952880"/>
            <a:ext cx="87631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tatürkçülük; bir ulusun dirilişi; esaretten, umutsuzluktan kurtuluşud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616800" cy="47624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EA0D-3C05-474C-B5E1-71E290B53E1F}" type="slidenum">
              <a:t>3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331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tatürkçülük; halkın hanedanlığa son verişi, kendi kendini yönetmesidi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70080" y="1562040"/>
            <a:ext cx="6197400" cy="4469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763040" y="0"/>
            <a:ext cx="1380960" cy="17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7ED-1816-4F62-8042-00EFEA0E7294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6840" y="4876560"/>
            <a:ext cx="838188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tatürkçülük; tarihini,dilini, geçmişini bilmek; bunlara sahip çıkmakt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058080" cy="47624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8941-B5D7-4C05-8660-0586F41AC548}" type="slidenum">
              <a:t>5</a:t>
            </a:fld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1440"/>
            <a:ext cx="69818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tatürkçülük; Türk halkının bütünlüğüdür,yasalar karşısında eşitliğidir,ulusal egemenlikti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481800" cy="440352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818480" y="0"/>
            <a:ext cx="1325520" cy="17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10F-2337-4FFF-B667-790B4CAAC883}" type="slidenum">
              <a:t>6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560" y="4495680"/>
            <a:ext cx="8839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tatürkçülük; halkın temiz vicdanına, dinsel inançlarına, ibadetine saygı duymak, din ve devlet işlerini birbirinden ayırmak, bilimin ışığında hep ileriye bakmakt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0" y="38160"/>
            <a:ext cx="6502320" cy="4308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3D74-9033-49BC-BE4A-4D20A97C778C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4724280"/>
            <a:ext cx="861048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tatürkçülük; umuttur, geleceğe güvenle bakmaktır. Dünyü ulusları arasında saygın bir yer edinmektir. Türk ulusunun geleceğidir, güvencesidir, yarınıdır, herşey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5486400" cy="4376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1688-C6B1-4AA8-8AD2-D438876C980F}" type="slidenum">
              <a:t>8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59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cc00"/>
                </a:solidFill>
                <a:latin typeface="Arial Black"/>
              </a:rPr>
              <a:t>Dört yol gezisinde bir çocukla..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067280" y="981000"/>
            <a:ext cx="3630600" cy="5256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838080"/>
            <a:ext cx="392436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"Türk çocuğu ecdadını tanıdıkça daha büyük işler yapmak için kendinde kuvvet bulacaktır. "</a:t>
            </a:r>
            <a:r>
              <a:rPr b="1" lang="tr-TR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763040" y="0"/>
            <a:ext cx="1380960" cy="17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616-09DC-4535-A729-AA41C87C4051}" type="slidenum">
              <a:t>9</a:t>
            </a:fld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8:51:26Z</dcterms:created>
  <dc:creator>Nevin Oktay</dc:creator>
  <dc:description/>
  <dc:language>en-US</dc:language>
  <cp:lastModifiedBy>yusuff</cp:lastModifiedBy>
  <dcterms:modified xsi:type="dcterms:W3CDTF">2009-11-08T16:05:18Z</dcterms:modified>
  <cp:revision>83</cp:revision>
  <dc:subject/>
  <dc:title>O’nu özlüyorum</dc:title>
</cp:coreProperties>
</file>