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186-DD6F-4C2F-9C6C-2CF4C019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2D9-8435-4A27-BB5F-7F9DD533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29E-F3C9-4CBD-BBC1-A74BDC30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56E-C5A1-4B82-8DA3-145EE1792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D45-08E4-4F64-88C6-21F19CB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F00-080E-442C-A6E3-C5B149A1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BCAF-43F9-4E8D-97D9-73620974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4CAC-FBFA-47B6-94D8-063E3D7C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D89-7A47-464E-9A6D-CBB8E5B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143-6F36-4F88-9403-5A4F35F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AB7-0B34-410F-A3DC-55A4DF07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7EB-21C3-4D1B-A84E-9BC3485B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BF0A-722B-4A57-9C59-1C2D712A6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23840" y="1359000"/>
            <a:ext cx="779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AŞAĞIDAKİ CÜMLELERDEKİ           ANLATIM BOZUKLUKLARINI  DÜZELTİNİZ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RDENİZ SAYDAM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HALİL GÜREL ANADOLU LİSES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İL VE ANLATIM DERSİ-2008 EYL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edebiyatogretmeni.net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4920" y="568440"/>
            <a:ext cx="851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KAZA YERİNE BİRÇOK ASKERİ VE POLİS ARACI GEL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VERİLEN CÜMLEDEKİ ÖZNE VE ZARF TÜMLECİNİ BUL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ŞEHRİMİZDE ÇEŞİTLİ KÜLTÜREL VE SANAT ETKİNLİKLER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RÇEKLEŞTİRİL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HER İNSAN ÇEVREYİ KORUMAK VE DOĞANIN KİRLETİLMESİNİ ÖNLEM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İÇİN GEREKLİ DUYARLILIĞI GÖSTERMESİ GEREKİ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50480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OKUDUKLARINI EZBERLEMEK DEĞİL, TARTIŞARAK ÖZÜMLEMESİ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ĞLAMAK GEREKİ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ÇOK AZ VEYA HİÇ ÇALIŞMADAN SINAVA GİRDİ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PİKNİĞİN BÜTÜN CEFASINI BEN, SEFASINI O SÜRÜ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BAĞIRAN ÇOCUĞA ENGEL OLUNARAK ODADAN ÇIKARIL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20920" y="639720"/>
            <a:ext cx="8270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MEYVELER BU YIL GEÇ ÇİÇEK AÇT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KADINA HER FIRSATTA BAĞIRIYOR, SÜREKLİ AŞAĞILIYOR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ÖĞRENCİLERİ RAHAT EDECEKLERİ ODALARA YERLEŞTİRMİŞ, BÜTÜ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İMKANLARI SAĞLAMIŞ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AKŞAMLARI KİTAPÇIYA UĞRAR, SAATLERCE SOHBET EDER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SERADAKİ SAKSILAR BÜYÜK, TOPRAKLARI DA AZ DEĞİL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08200" y="100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6360" y="1432080"/>
            <a:ext cx="8433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KARİKATÜR VE FOTOĞRAF ÇEKMEKTEN HOŞLANAN BU ŞİŞMAN AD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YNI ZAMANDA ÇOK YÖNLÜ BİR ARAŞTIRMA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MERT VE BEN EĞİTİM KONUSUNDA AYNI ŞEYLERİ DÜŞÜNÜYOR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TARKAN HOCA’NIN BİZE SAĞLADIĞI KOLAYLIĞI VE EMEĞİ KİMS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ÖRMEMİŞTİ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66000" y="1144440"/>
            <a:ext cx="7963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TİYATROMUZ 8 KASIM 1996 YILINDA ANKARA’DA HİZMETE AÇIL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ZENCİ OLARAK İNGİLİZ MİLLİ TAKIMINDA KAPTANLIK YAPAN İ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İYAHİ FUTBOLCU OL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ARKADAŞIM AİLESİNE SON DERECE BAĞLIYDI, HERKESTEN ÜSTÜ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TARD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6348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5640" y="1216080"/>
            <a:ext cx="752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YARIŞMADA BİRİNCİ OLDUĞUNA SEVİNDİ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TÜRKİYE, ŞU ANDA ENERJİ AÇIĞI OLMAYAN KOMŞU ÜLKEL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ERJİ SATABİLEN BİR ÜLKEDİ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ÇOCUĞUN ELİNDEKİ BALONLAR PATLADI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840" y="1144440"/>
            <a:ext cx="73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BİNE YAKIN İZLEYİCİ, İLGİNÇ BİR GÖSTERİYE SAHNE OL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BİRÇOK OKULLARDA ON YIL SÜREYLE ÖĞRETİM GÖRMÜŞT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 SİYASAL DÜŞÜNCELERİNDE ISRARLI; AMA İNATÇI DEĞİL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3480" y="1289160"/>
            <a:ext cx="82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ALIŞILMIŞ DEĞERLERİ YERİP, ÇOĞUNLUĞUN AZIMSADIĞI GEN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EBİYATÇILARI ÖVEN BİR ELEŞTİRMEN GRUBU TÜRE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ANLADIĞIM KADARIYLA SİZ VE ARKADAŞLARINIZ AYNI GÖRÜŞTE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 SUYU BOŞ YERE AKITMAMALI VE EN İYİ ŞEKİLDE YARARLANMALIYI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63120" y="1289160"/>
            <a:ext cx="79700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ATATÜRK’ÜN YAPTIĞI YENİLİKÇİ DEVRİMLER, SOSYAL VE SİYAS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AŞAMIMIZI KÖKÜNDEN DEĞİŞTİRMİŞTİ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VAKFIMIZA KARŞILIKSIZ BAĞIŞTA BULUND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VERİLEN VAATLERİN HİÇBİRİ YERİNE GETİRİLME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78000" y="1144440"/>
            <a:ext cx="863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GENEL KURUL DOĞU KARADENİZ’İN BÖLGESEL SORUNLARINI GÜND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TİR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ORAYA NE AHMET NE TURGUT GELME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ŞİİR KİTAPLARINI KARIŞTIRDI, ONLARI RAFA DİZD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64560" y="1576440"/>
            <a:ext cx="7242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BEN ÇOK VARLIKLI, ZENGİN BİRİ DEĞİLİ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ÖĞRETMENİYLE BÜTÜN DERS BOYUNCA TARTIŞ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HÜKÜMET, ÇÖZÜLECEK OLAN SORUNLARI BİR BİR ELE AL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YANINA GİDİNİZ, KONUŞARAK DERDİNİZİ ANLATINI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79480" y="857160"/>
            <a:ext cx="7724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AVUKAT, SANIĞIN SUÇLU OLDUĞUNU SAVUNU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BU TÜR TATBİKATLARDA ÖLÜM ŞANSI HER ZAMAN MEVC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SON DAKİKA İÇERİSİNDE ATTIĞI GOLLE TAKIMININ GALİP GELMESİNE YOL AÇ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08200" y="1000080"/>
            <a:ext cx="7796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EKONOMİK VE SOSYAL YÖNDEN GERİ KALMIŞ ÜLKEMİZİN BELL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ÖLGELERİNE KALKINMADA ÖNCELİK TANINAC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OKULU BİTİRİNCE DOKTOR OLARAK DOĞDUĞU KASABADA ÇALIŞMAYA BAŞLAD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OTOBÜS YOĞUN SİS YÜZÜNDEN KARŞIDAN GELMEKTE O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MYONLA ÇARPIŞ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6560" y="568440"/>
            <a:ext cx="7953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HER YOLDA KALAN İNSANA YARDIM ETMELİYİ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AŞAĞI YUKARI TAM ÜÇ AY ÖNCE BENZER BİR YAZI DAHA ÇIKMIŞ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MİLLLİ SAVUNMA BAKANI, KESİNLİKLE ASKERİ BİR ÇÖZÜ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ŞVURULMAYACAĞINI UMDUĞUNU BELİRTT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21280" y="1216080"/>
            <a:ext cx="7863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ÖNLEM ALINMAZSA BU HASTALIK ÖLÜME, HATTA KISMİ FEL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DEN OLABİLİ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YAZAR, GELECEKLE İLGİLİ ANILARINI YAZACAKMIŞ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BENİM VERİLMEYECEK HİÇBİR HESABIM YOKTUR; BAŞIM AÇIK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KADIN ŞOFÖRÜ ŞÖYLE BİR SÜZD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7:27:28Z</dcterms:created>
  <dc:creator>N</dc:creator>
  <dc:description/>
  <dc:language>en-US</dc:language>
  <cp:lastModifiedBy>yusuff</cp:lastModifiedBy>
  <dcterms:modified xsi:type="dcterms:W3CDTF">2009-10-19T22:02:53Z</dcterms:modified>
  <cp:revision>7</cp:revision>
  <dc:subject/>
  <dc:title>Slayt 1</dc:title>
</cp:coreProperties>
</file>