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C55A1-46B1-4194-B971-B86B5D816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E6A5D-C403-4B14-93A4-58C35B949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B2B11-DF4C-4EB3-B3B1-9DC62E608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31E23-87D4-479E-8BEE-695CC0A34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12077-950A-4BFD-86F0-4C0482442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06A5E-F3E4-4E05-9830-9D7E1667E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11C82-6BA5-4779-BF09-BDC0FFAA9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BDDD3-2B9B-40D4-948D-4D900CA2B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83993-72AA-4B97-BBC3-31B01F591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CE580-31B2-45ED-B687-5367BE851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5574A-42B8-4B37-A02A-EF44458F7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A275C-2EF0-48BB-90D3-C5FD161C4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9EAF-2E51-44BC-A7C7-7568453477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debiyatogretmeni.ne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gazete.netgazete.com/ShowPaper.aspx?news=zama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1" name=""/>
          <p:cNvSpPr/>
          <p:nvPr/>
        </p:nvSpPr>
        <p:spPr>
          <a:xfrm>
            <a:off x="423720" y="844560"/>
            <a:ext cx="7863120" cy="448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ABER YAZILARI</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1"/>
              </a:rPr>
              <a:t>www.edebiyatogretmeni.net</a:t>
            </a:r>
            <a:r>
              <a:rPr b="0" lang="en-US" sz="4800" spc="-1" strike="noStrike" u="sng">
                <a:solidFill>
                  <a:srgbClr val="ffffff"/>
                </a:solidFill>
                <a:uFillTx/>
                <a:latin typeface="Arial"/>
              </a:rPr>
              <a:t>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0" name=""/>
          <p:cNvSpPr/>
          <p:nvPr/>
        </p:nvSpPr>
        <p:spPr>
          <a:xfrm>
            <a:off x="519120" y="826920"/>
            <a:ext cx="7005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ŞE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GAZETELERİN İLK SAYFASINA İRİ PUNTOLARLA KONULAN BAŞLI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2" name=""/>
          <p:cNvSpPr/>
          <p:nvPr/>
        </p:nvSpPr>
        <p:spPr>
          <a:xfrm>
            <a:off x="592200" y="1289160"/>
            <a:ext cx="7580160" cy="25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HABİ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ASIN VE YAYIN ORGANLARINA HABER TOPLAYAN, BİLDİREN VEYA YAZAN KİM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3" name=""/>
          <p:cNvSpPr/>
          <p:nvPr/>
        </p:nvSpPr>
        <p:spPr>
          <a:xfrm>
            <a:off x="592560" y="1547640"/>
            <a:ext cx="7433280" cy="259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JAN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BER TOPLAMA VE YAYMA İŞİYLE UĞRAŞAN KURULU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DOLU AJANSI, CİHAN HABER AJANSI, DHA, İH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4" name=""/>
          <p:cNvSpPr/>
          <p:nvPr/>
        </p:nvSpPr>
        <p:spPr>
          <a:xfrm>
            <a:off x="879480" y="2008080"/>
            <a:ext cx="73645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ÖŞE YAZISI</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KR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ir yazarın herhangi bir konu veya günlük olaylar hakkındaki görüşlerini, düşüncelerini ayrıntılara inmeden anlattığı gazete ve dergilerde yayımlanan kısa fikir yazılarına Fıkra den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5" name=""/>
          <p:cNvSpPr/>
          <p:nvPr/>
        </p:nvSpPr>
        <p:spPr>
          <a:xfrm>
            <a:off x="597240" y="1216080"/>
            <a:ext cx="479844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BAS GÜÇLÜ- MİLLİY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HA AKYOL- MİLLİY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NCAL ULUÇ- SABA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HMET BARLAS- SABA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HAN SELÇUK- CUMHURİY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ÜMTAZER TÜRKÖNE- ZAM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6" name=""/>
          <p:cNvSpPr/>
          <p:nvPr/>
        </p:nvSpPr>
        <p:spPr>
          <a:xfrm>
            <a:off x="612720" y="189000"/>
            <a:ext cx="258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KZİP: YALANLA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735120" y="712800"/>
            <a:ext cx="81579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1800" spc="-1" strike="noStrike">
                <a:solidFill>
                  <a:srgbClr val="ffffff"/>
                </a:solidFill>
                <a:latin typeface="Arial"/>
              </a:rPr>
              <a:t>Emekli Deniz Kuvvetleri Komutanı Oramiral</a:t>
            </a:r>
            <a:r>
              <a:rPr b="0" lang="tr-TR" sz="1800" spc="-1" strike="noStrike">
                <a:solidFill>
                  <a:srgbClr val="ffffff"/>
                </a:solidFill>
                <a:latin typeface="Arial"/>
              </a:rPr>
              <a:t> </a:t>
            </a:r>
            <a:r>
              <a:rPr b="1" lang="tr-TR" sz="1800" spc="-1" strike="noStrike">
                <a:solidFill>
                  <a:srgbClr val="ffffff"/>
                </a:solidFill>
                <a:latin typeface="Arial"/>
              </a:rPr>
              <a:t>Özden Örnek'ın eşi Sevil Örnek, gazeteci Fatih Altaylı'nın "Darbeci Bir Salağın Anatomisi"  başlıklı yazısında kişilik haklarının hedef alındığı ve yazılanların gerçek dışı olduğu gerekçesiyle yazıyı tekzip etti. Tekzip, Altaylı'nın yazısının yer aldığı Habertürk internet sitesinde yayınlanmakta. İşte o tekz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stanbul 3. Sulh Ceza Mahkemesi kararıyla yayınlanmaktadı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İnternet Gazetinizde yayınlanan ve Fatih Altaylı tarafından yazılan "Darbeci bir salağın anatomisi" başlıklı yazının son kısmında şahsım hedef alınarak ileri sürülen sorular tümüyle gerçek dışı tekzibi zaruret olmuştur. Eşim Özden Örnek'in görevde olduğu sürede ve sonrasında asker veya sivil hiç kimseden takı ödünç almış değilim. Asla yurtdışına giderken borç almış değilim. Soru şeklinde tarafıma yöneltilen bu iddialar tamamen gerçek dışıdır ve açıkça temelsizdir. Eşim hakkında da kendi hakkımda da her türlü soruya yanıt verdim vermeye de devam edeceğim. </a:t>
            </a:r>
            <a:r>
              <a:rPr b="1" lang="tr-TR" sz="1800" spc="-1" strike="noStrike">
                <a:solidFill>
                  <a:srgbClr val="ffffff"/>
                </a:solidFill>
                <a:latin typeface="Arial"/>
              </a:rPr>
              <a:t>	</a:t>
            </a:r>
            <a:r>
              <a:rPr b="1" lang="tr-TR" sz="1800" spc="-1" strike="noStrike">
                <a:solidFill>
                  <a:srgbClr val="ffffff"/>
                </a:solidFill>
                <a:latin typeface="Arial"/>
              </a:rPr>
              <a:t>Bu nedenle, hakkımda yayınlanan gerçek dışı bu yazı içeriğini tekzip eder, kamuoyuna saygı ile duyuruyor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Sevil Örn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STAR GAZETESİNDE YAYINLANMIŞT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8" name=""/>
          <p:cNvSpPr/>
          <p:nvPr/>
        </p:nvSpPr>
        <p:spPr>
          <a:xfrm>
            <a:off x="663480" y="568440"/>
            <a:ext cx="7437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ASPARAGAS: UYDURMA HAB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Ronaldinho`nun Fener`e transferi asparagas çıktı..Cumartesi günü dış kaynaklı gösterilen haberi, haber7.com takipçilerine Hürriyet Gazetesini kaynak göstererek vermiş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9" name=""/>
          <p:cNvSpPr/>
          <p:nvPr/>
        </p:nvSpPr>
        <p:spPr>
          <a:xfrm>
            <a:off x="592200" y="611280"/>
            <a:ext cx="62118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NSASYONEL: DİKKAT ÇEKEN, ÇARPICI, BEKLENMEDİ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ffff"/>
                </a:solidFill>
                <a:latin typeface="Arial"/>
              </a:rPr>
              <a:t>DAVOS’TA GERGİNLİ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60" name=""/>
          <p:cNvSpPr/>
          <p:nvPr/>
        </p:nvSpPr>
        <p:spPr>
          <a:xfrm>
            <a:off x="592200" y="712800"/>
            <a:ext cx="808344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ÜRK VE DÜNYA EDEBİYATINDA GAZE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2400" spc="-1" strike="noStrike">
                <a:solidFill>
                  <a:srgbClr val="ffffff"/>
                </a:solidFill>
                <a:latin typeface="Arial"/>
              </a:rPr>
              <a:t>Tarihte ilk olarak yazılı haber verme işine, Roma İmparatoru </a:t>
            </a:r>
            <a:r>
              <a:rPr b="1" lang="tr-TR" sz="2400" spc="-1" strike="noStrike">
                <a:solidFill>
                  <a:srgbClr val="66ccff"/>
                </a:solidFill>
                <a:latin typeface="Arial"/>
              </a:rPr>
              <a:t>Julius Cesar</a:t>
            </a:r>
            <a:r>
              <a:rPr b="1" lang="tr-TR" sz="2400" spc="-1" strike="noStrike">
                <a:solidFill>
                  <a:srgbClr val="ffffff"/>
                </a:solidFill>
                <a:latin typeface="Arial"/>
              </a:rPr>
              <a:t> tarafından tesis edilen ve mühim haberleri halka bildiren </a:t>
            </a:r>
            <a:r>
              <a:rPr b="1" lang="tr-TR" sz="2400" spc="-1" strike="noStrike">
                <a:solidFill>
                  <a:srgbClr val="66ccff"/>
                </a:solidFill>
                <a:latin typeface="Arial"/>
              </a:rPr>
              <a:t>Acta Divrna</a:t>
            </a:r>
            <a:r>
              <a:rPr b="1" lang="tr-TR" sz="2400" spc="-1" strike="noStrike">
                <a:solidFill>
                  <a:srgbClr val="ffffff"/>
                </a:solidFill>
                <a:latin typeface="Arial"/>
              </a:rPr>
              <a:t> isimli duvar ilanları ile başlandığı kabul edil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TBAANIN KEŞFİ GAZETENİN TEMELİ OLMUŞTUR.</a:t>
            </a:r>
            <a:r>
              <a:rPr b="0" lang="tr-TR"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2" name=""/>
          <p:cNvSpPr/>
          <p:nvPr/>
        </p:nvSpPr>
        <p:spPr>
          <a:xfrm>
            <a:off x="808200" y="1289160"/>
            <a:ext cx="721980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ZET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ffff"/>
                </a:solidFill>
                <a:latin typeface="Arial"/>
              </a:rPr>
              <a:t>Politika, ekonomi, kültür ve daha başka konularda haber ve bilgi vermek için yorumlu veya yorumsuz, her gün veya belirli zaman aralıklarıyla çıkarılan yayı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61" name=""/>
          <p:cNvSpPr/>
          <p:nvPr/>
        </p:nvSpPr>
        <p:spPr>
          <a:xfrm>
            <a:off x="808200" y="928800"/>
            <a:ext cx="76514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1" lang="tr-TR" sz="2800" spc="-1" strike="noStrike">
                <a:solidFill>
                  <a:srgbClr val="ffffff"/>
                </a:solidFill>
                <a:latin typeface="Arial"/>
              </a:rPr>
              <a:t>Günümüz anlayışına uygun ilk gazete (Avisa, Relation Oder Zeitung) Strasburg’da 1609’da Alman diliyle yayınlanmıştı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İlk İngiliz Gazetesi The Weekly News From Italy and Germany (1622) Londra’da; </a:t>
            </a:r>
            <a:r>
              <a:rPr b="1" lang="tr-TR"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ilk Fransız Gazetesi Gazette (1631)’de Paris’te yayınlanmıştı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62" name=""/>
          <p:cNvSpPr/>
          <p:nvPr/>
        </p:nvSpPr>
        <p:spPr>
          <a:xfrm>
            <a:off x="663480" y="927000"/>
            <a:ext cx="80121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TÜRK EDEBİY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İlk resmi Türkçe gazete :Takvim –i Vakayi- 183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İlk yarı resmi gazete :Ceride-i Havadis-18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TANZİMAT DÖNEM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İlk özel gazete- TERCÜMAN-I AHVAL-1860- ŞİNASİ VE AGAH EFEND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TASVİR-İ EFKAR-1862-ŞİNAS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MUHBİR- 1866-ALİ SUAV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63" name=""/>
          <p:cNvSpPr/>
          <p:nvPr/>
        </p:nvSpPr>
        <p:spPr>
          <a:xfrm>
            <a:off x="454680" y="639720"/>
            <a:ext cx="80474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ÜRRİYET- 1868- NAMIK KEMAL, ZİYA PAŞ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BRET-1871- NAMIK KEM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RET-1869- BASİRETÇİ ALİ EFEND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RCÜMAN-I HAKİKAT-1878- AHMET MİTHAT EFEND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64" name=""/>
          <p:cNvSpPr/>
          <p:nvPr/>
        </p:nvSpPr>
        <p:spPr>
          <a:xfrm>
            <a:off x="4479840" y="32446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458000" y="1935000"/>
            <a:ext cx="61214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AZIRLAY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RDENİZ SAYD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ÜRK DİLİ VE EDEBİYATI ÖĞRETMEN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İRESUN ANADOLU İMAM HATİP LİSE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pic>
        <p:nvPicPr>
          <p:cNvPr id="43"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5" name=""/>
          <p:cNvSpPr/>
          <p:nvPr/>
        </p:nvSpPr>
        <p:spPr>
          <a:xfrm>
            <a:off x="514440" y="1116000"/>
            <a:ext cx="6540480" cy="20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B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r olay, bir olgu üzerine edinilen bilg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etişim veya yayın organlarıyla verilen bilg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6" name=""/>
          <p:cNvSpPr/>
          <p:nvPr/>
        </p:nvSpPr>
        <p:spPr>
          <a:xfrm>
            <a:off x="519120" y="1000080"/>
            <a:ext cx="7724880" cy="32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ÜTU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zete, dergi, kitap vb. yazılı şeylerde, sayfanın yukarıdan aşağıya doğru ayrılmış olduğu dar bölümlerden her bi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828720" y="-4619520"/>
            <a:ext cx="10801440" cy="1609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8" name=""/>
          <p:cNvSpPr/>
          <p:nvPr/>
        </p:nvSpPr>
        <p:spPr>
          <a:xfrm>
            <a:off x="592200" y="755640"/>
            <a:ext cx="765180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ÜRMANŞE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AZETELERİN BİRİNCİ SAYFASINDAKİ LOGONUN ÜZERİNDE KULLANILAN BAŞLI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16:33:04Z</dcterms:created>
  <dc:creator>user</dc:creator>
  <dc:description/>
  <dc:language>en-US</dc:language>
  <cp:lastModifiedBy>yusuff</cp:lastModifiedBy>
  <dcterms:modified xsi:type="dcterms:W3CDTF">2009-10-19T22:12:48Z</dcterms:modified>
  <cp:revision>7</cp:revision>
  <dc:subject/>
  <dc:title>Slayt 1</dc:title>
</cp:coreProperties>
</file>