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A9C2-3B15-46F4-9AAD-7280A02AD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C860-C846-4819-AC6F-E57A854A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4977-5D36-41D3-85DD-36C975306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CB1B-35F5-4CE7-A253-47D0ACFAB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59FD-8AFF-4E4D-A787-197AE13F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F790-87FB-46C8-921B-CE7823F6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650A-035A-4A3D-BDCB-6AF6BAAA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F9AE-D1FB-41E2-96F0-0749290C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EA27-C7CE-47C7-A8D4-4C7FB648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A8F1-FA07-4A23-B323-C61F380E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B309-A28C-451E-89A9-3033F7EC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460A-405C-4481-9C7A-A0C191B3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School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B73D-29A0-476E-94B5-09363522B185}" type="slidenum">
              <a:rPr b="0" lang="en-US" sz="1200" spc="-1" strike="noStrike">
                <a:solidFill>
                  <a:srgbClr val="898989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entury Schoolbook"/>
            </a:endParaRPr>
          </a:p>
        </p:txBody>
      </p:sp>
      <p:pic>
        <p:nvPicPr>
          <p:cNvPr id="43" name="Picture 2" descr="http://www.irtc.org/ftp/pub/stills/2005-10-31/theatre.jpg"/>
          <p:cNvPicPr/>
          <p:nvPr/>
        </p:nvPicPr>
        <p:blipFill>
          <a:blip r:embed="rId2"/>
          <a:stretch/>
        </p:blipFill>
        <p:spPr>
          <a:xfrm>
            <a:off x="0" y="-142920"/>
            <a:ext cx="9753480" cy="6191280"/>
          </a:xfrm>
          <a:prstGeom prst="rect">
            <a:avLst/>
          </a:prstGeom>
          <a:ln w="0">
            <a:noFill/>
          </a:ln>
        </p:spPr>
      </p:pic>
      <p:pic>
        <p:nvPicPr>
          <p:cNvPr id="44" name="5 Metin kutusu" descr=""/>
          <p:cNvPicPr/>
          <p:nvPr/>
        </p:nvPicPr>
        <p:blipFill>
          <a:blip r:embed="rId3"/>
          <a:stretch/>
        </p:blipFill>
        <p:spPr>
          <a:xfrm>
            <a:off x="1042920" y="4221000"/>
            <a:ext cx="7535880" cy="1243080"/>
          </a:xfrm>
          <a:prstGeom prst="rect">
            <a:avLst/>
          </a:prstGeom>
          <a:ln w="0">
            <a:noFill/>
          </a:ln>
        </p:spPr>
      </p:pic>
      <p:sp>
        <p:nvSpPr>
          <p:cNvPr id="45" name="6 Metin kutusu"/>
          <p:cNvSpPr/>
          <p:nvPr/>
        </p:nvSpPr>
        <p:spPr>
          <a:xfrm>
            <a:off x="1071720" y="6488280"/>
            <a:ext cx="75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HAZIRLAYAN: TDE ÖĞRETMENİ BURCU ARICA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"/>
          <p:cNvSpPr/>
          <p:nvPr/>
        </p:nvSpPr>
        <p:spPr>
          <a:xfrm>
            <a:off x="3496680" y="5516640"/>
            <a:ext cx="30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debiyatogretmeni.net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BATI TİYATROSU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entury Schoolbook"/>
              </a:rPr>
              <a:t>Batılı tiyatro eserlerinin kaynağı Eski Yunan’dır. Eski Yunan’daki bağ bozumu tanrısı “dionisos” adına düzenlenen şenliklerden ortaya çıktığı bilinmektedir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entury Schoolbook"/>
              </a:rPr>
              <a:t>Batılı anlamda tiyatro ilk defa Tanzimat döneminde görülmektedir. Şinasi’nin “</a:t>
            </a:r>
            <a:r>
              <a:rPr b="1" lang="tr-TR" sz="3200" spc="-1" strike="noStrike">
                <a:solidFill>
                  <a:srgbClr val="000000"/>
                </a:solidFill>
                <a:latin typeface="Century Schoolbook"/>
              </a:rPr>
              <a:t>Şair Evlenmesi</a:t>
            </a:r>
            <a:r>
              <a:rPr b="0" lang="tr-TR" sz="3200" spc="-1" strike="noStrike">
                <a:solidFill>
                  <a:srgbClr val="000000"/>
                </a:solidFill>
                <a:latin typeface="Century Schoolbook"/>
              </a:rPr>
              <a:t>”, ilk yayımlanan tiyatro eseridir. Namık Kemal’ in “</a:t>
            </a:r>
            <a:r>
              <a:rPr b="1" lang="tr-TR" sz="3200" spc="-1" strike="noStrike">
                <a:solidFill>
                  <a:srgbClr val="000000"/>
                </a:solidFill>
                <a:latin typeface="Century Schoolbook"/>
              </a:rPr>
              <a:t>Vatan Yahut Silistre”</a:t>
            </a:r>
            <a:r>
              <a:rPr b="0" lang="tr-TR" sz="3200" spc="-1" strike="noStrike">
                <a:solidFill>
                  <a:srgbClr val="000000"/>
                </a:solidFill>
                <a:latin typeface="Century Schoolbook"/>
              </a:rPr>
              <a:t> ise, ilk defa sahneye konan tiyatro eseridir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upload.wikimedia.org/wikipedia/commons/thumb/5/5d/Augsburg_Parktheater_Goeggingen_Vorhang.jpg/200px-Augsburg_Parktheater_Goeggingen_Vorhang.jpg"/>
          <p:cNvPicPr/>
          <p:nvPr/>
        </p:nvPicPr>
        <p:blipFill>
          <a:blip r:embed="rId2"/>
          <a:stretch/>
        </p:blipFill>
        <p:spPr>
          <a:xfrm>
            <a:off x="500040" y="142920"/>
            <a:ext cx="4500720" cy="2730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tiyatro"/>
          <p:cNvPicPr/>
          <p:nvPr/>
        </p:nvPicPr>
        <p:blipFill>
          <a:blip r:embed="rId3"/>
          <a:stretch/>
        </p:blipFill>
        <p:spPr>
          <a:xfrm>
            <a:off x="285840" y="3000240"/>
            <a:ext cx="5111640" cy="3643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http://www.tiyatrom.com/images/uczil9.jpg"/>
          <p:cNvPicPr/>
          <p:nvPr/>
        </p:nvPicPr>
        <p:blipFill>
          <a:blip r:embed="rId4"/>
          <a:stretch/>
        </p:blipFill>
        <p:spPr>
          <a:xfrm>
            <a:off x="5500800" y="3071880"/>
            <a:ext cx="3500280" cy="3562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http://www.tasarimplus.com/wp-content/uploads/mengu-ertel-afis4.jpg"/>
          <p:cNvPicPr/>
          <p:nvPr/>
        </p:nvPicPr>
        <p:blipFill>
          <a:blip r:embed="rId5"/>
          <a:stretch/>
        </p:blipFill>
        <p:spPr>
          <a:xfrm>
            <a:off x="5357880" y="0"/>
            <a:ext cx="3643200" cy="3000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Schoolbook"/>
              </a:rPr>
              <a:t>TİYATRO NEDİR?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entury Schoolbook"/>
              </a:rPr>
              <a:t>Bir öyküyü, sahne olarak ayrılmış bir yerde, oyuncuların söz ve hareketleriyle canlandırma sanatıdır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entury Schoolbook"/>
              </a:rPr>
              <a:t>Tiyatro sözcüğü Yunanca'da "</a:t>
            </a:r>
            <a:r>
              <a:rPr b="1" lang="tr-TR" sz="3200" spc="-1" strike="noStrike">
                <a:solidFill>
                  <a:srgbClr val="000000"/>
                </a:solidFill>
                <a:latin typeface="Century Schoolbook"/>
              </a:rPr>
              <a:t>seyirlik yeri</a:t>
            </a:r>
            <a:r>
              <a:rPr b="0" lang="tr-TR" sz="3200" spc="-1" strike="noStrike">
                <a:solidFill>
                  <a:srgbClr val="000000"/>
                </a:solidFill>
                <a:latin typeface="Century Schoolbook"/>
              </a:rPr>
              <a:t>" anlamına gelen </a:t>
            </a:r>
            <a:r>
              <a:rPr b="1" lang="tr-TR" sz="3200" spc="-1" strike="noStrike">
                <a:solidFill>
                  <a:srgbClr val="000000"/>
                </a:solidFill>
                <a:latin typeface="Century Schoolbook"/>
              </a:rPr>
              <a:t>theatron</a:t>
            </a:r>
            <a:r>
              <a:rPr b="0" lang="tr-TR" sz="3200" spc="-1" strike="noStrike">
                <a:solidFill>
                  <a:srgbClr val="000000"/>
                </a:solidFill>
                <a:latin typeface="Century Schoolbook"/>
              </a:rPr>
              <a:t>'dan türetilmiş, dilimize İtalyanca'daki </a:t>
            </a:r>
            <a:r>
              <a:rPr b="1" lang="tr-TR" sz="3200" spc="-1" strike="noStrike">
                <a:solidFill>
                  <a:srgbClr val="000000"/>
                </a:solidFill>
                <a:latin typeface="Century Schoolbook"/>
              </a:rPr>
              <a:t>teatro</a:t>
            </a:r>
            <a:r>
              <a:rPr b="0" lang="tr-TR" sz="3200" spc="-1" strike="noStrike">
                <a:solidFill>
                  <a:srgbClr val="000000"/>
                </a:solidFill>
                <a:latin typeface="Century Schoolbook"/>
              </a:rPr>
              <a:t> sözcüğünden geçmiştir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TİYATRONUN KÖKENİ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entury Schoolbook"/>
              </a:rPr>
              <a:t>Tiyatro da başka sanatlar gibi dinsel törenlerden doğmuş, sonra dinden bağımsızlaşarak sanatlaşmıştır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entury Schoolbook"/>
              </a:rPr>
              <a:t>Kökeninde, ilkel insanın doğa olaylarını kendi bedensel hareketleriyle simgesel olarak temsil etme çabaları yatar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entury Schoolbook"/>
              </a:rPr>
              <a:t>Bazı başka kuramlara göre ise tiyatronun kaynağı şamanist inançlardır. Şamanist törenlerin özelliği, izleyici ya da katılımcılara, tanrısal gücün simgesi yerine kendisini göstermesiydi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pictures.directnews.co.uk/liveimages/theatre+red+carnation+only_596_18796031_0_0_7018732_300.jpg"/>
          <p:cNvPicPr/>
          <p:nvPr/>
        </p:nvPicPr>
        <p:blipFill>
          <a:blip r:embed="rId1"/>
          <a:stretch/>
        </p:blipFill>
        <p:spPr>
          <a:xfrm>
            <a:off x="0" y="-228600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52" name="2 Metin kutusu"/>
          <p:cNvSpPr/>
          <p:nvPr/>
        </p:nvSpPr>
        <p:spPr>
          <a:xfrm>
            <a:off x="1071720" y="571500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TİYATRO TÜRLERİ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71280"/>
            <a:ext cx="7829640" cy="8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             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TRAJEDİ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429160" y="1811160"/>
            <a:ext cx="460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480" y="856800"/>
            <a:ext cx="871524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1" lang="tr-TR" sz="2500" spc="-1" strike="noStrike">
                <a:solidFill>
                  <a:srgbClr val="000000"/>
                </a:solidFill>
                <a:latin typeface="Century Schoolbook"/>
              </a:rPr>
              <a:t>Seyircide korku ve acıma hislerini uyandırarak onu kötü duygularından arındırmayı amaçlayan tiyatro türüdür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000000"/>
                </a:solidFill>
                <a:latin typeface="Century Schoolbook"/>
              </a:rPr>
              <a:t>-Konusunu seçkin kimselerin hayatından ya da mitolojiden alır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000000"/>
                </a:solidFill>
                <a:latin typeface="Century Schoolbook"/>
              </a:rPr>
              <a:t>-Kahramanları tanrılar ya da soylu kimselerdir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000000"/>
                </a:solidFill>
                <a:latin typeface="Century Schoolbook"/>
              </a:rPr>
              <a:t>-Çirkin olaylar (cinayet, kavga vs.) seyircinin gözü önünde gerçekleştirilmez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000000"/>
                </a:solidFill>
                <a:latin typeface="Century Schoolbook"/>
              </a:rPr>
              <a:t>-İşlenmiş, kusursuz bîr üslubu vardır; kaba sayılan sözlere yer verilmez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000000"/>
                </a:solidFill>
                <a:latin typeface="Century Schoolbook"/>
              </a:rPr>
              <a:t>-Üç birlik kuralına uyar. Bu, yer, zaman ve olay birliğidir. 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1" lang="tr-TR" sz="2500" spc="-1" strike="noStrike">
                <a:solidFill>
                  <a:srgbClr val="404040"/>
                </a:solidFill>
                <a:latin typeface="Century Schoolbook"/>
              </a:rPr>
              <a:t>Eski Yunan'da </a:t>
            </a:r>
            <a:r>
              <a:rPr b="1" lang="tr-TR" sz="2500" spc="-1" strike="noStrike">
                <a:solidFill>
                  <a:srgbClr val="000000"/>
                </a:solidFill>
                <a:latin typeface="Century Schoolbook"/>
              </a:rPr>
              <a:t>Aiskhylos, Euripides. Sophokles; Klasik Fransız edebiyatı’nda Corneille ve Racine'dir</a:t>
            </a:r>
            <a:br>
              <a:rPr sz="1300"/>
            </a:b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4 5-Nokta Yıldız"/>
          <p:cNvSpPr/>
          <p:nvPr/>
        </p:nvSpPr>
        <p:spPr>
          <a:xfrm>
            <a:off x="214200" y="428760"/>
            <a:ext cx="357480" cy="357120"/>
          </a:xfrm>
          <a:prstGeom prst="pi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KOMEDİ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8571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entury Schoolbook"/>
              </a:rPr>
              <a:t>İnsanları güldürerek eğitmeyi amaçlayan tiyatro türüdür. Her gülünç şeyin altında ders alınacak acı bir gerçeğin olduğuna inanılır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entury Schoolbook"/>
              </a:rPr>
              <a:t>Konusunu günlük hayattan, sosyal olaylardan seçer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Century Schoolbook"/>
              </a:rPr>
              <a:t>Kahramanları sıradan insanlar, eğitim görmemiş ya da sonradan görme kişilerdir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entury Schoolbook"/>
              </a:rPr>
              <a:t>Üslupta kusursuzluk aranmaz, kaba sayılan hatta küfürlü sözlere yer verilir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Century Schoolbook"/>
              </a:rPr>
              <a:t>Çirkin, kaba olaylar seyircinin gözü önünde işlenir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entury Schoolbook"/>
              </a:rPr>
              <a:t>Üç birlik kuralına uyar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000000"/>
                </a:solidFill>
                <a:latin typeface="Century Schoolbook"/>
              </a:rPr>
              <a:t>Eski Yunan</a:t>
            </a:r>
            <a:r>
              <a:rPr b="0" lang="tr-TR" sz="3000" spc="-1" strike="noStrike">
                <a:solidFill>
                  <a:srgbClr val="000000"/>
                </a:solidFill>
                <a:latin typeface="Century Schoolbook"/>
              </a:rPr>
              <a:t>'da Aristophanes, Klasik </a:t>
            </a:r>
            <a:r>
              <a:rPr b="1" lang="tr-TR" sz="3000" spc="-1" strike="noStrike">
                <a:solidFill>
                  <a:srgbClr val="000000"/>
                </a:solidFill>
                <a:latin typeface="Century Schoolbook"/>
              </a:rPr>
              <a:t>Fransız Edebiyatı’</a:t>
            </a:r>
            <a:r>
              <a:rPr b="0" lang="tr-TR" sz="3000" spc="-1" strike="noStrike">
                <a:solidFill>
                  <a:srgbClr val="000000"/>
                </a:solidFill>
                <a:latin typeface="Century Schoolbook"/>
              </a:rPr>
              <a:t>nda Moliere'dir.</a:t>
            </a:r>
            <a:br>
              <a:rPr sz="3000"/>
            </a:br>
            <a:r>
              <a:rPr b="0" lang="tr-TR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71280"/>
            <a:ext cx="78296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DRAM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85680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entury Schoolbook"/>
              </a:rPr>
              <a:t>19. yüzyılda trajedinin sıkı kurallarını yıkmak amacıyla meydana getirilen tiyatro türüdür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entury Schoolbook"/>
              </a:rPr>
              <a:t>Konusunu günlük hayattan ya da tarihin herhangi bir devrinden seçebilir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entury Schoolbook"/>
              </a:rPr>
              <a:t>Hem acıklı hem komik olaylar aynı oyunda iç içe bulunur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entury Schoolbook"/>
              </a:rPr>
              <a:t>Kahramanlar hem soylular hem de sıradan insanlardır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entury Schoolbook"/>
              </a:rPr>
              <a:t>Üç birlik kuralına uymak zorunda değildir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entury Schoolbook"/>
              </a:rPr>
              <a:t>Her tür olay seyircinin karşısında gerçekleştirilebilir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entury Schoolbook"/>
              </a:rPr>
              <a:t>Şiir, düzyazı karışık halde bulunur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entury Schoolbook"/>
              </a:rPr>
              <a:t>Shakespeare, Victor Hugo,Goethe en ünlü dram yazarlarıdır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Müzikli Tiyatro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Opera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: Sözlerinin tümü ya da çoğu "koro, solo, düet" biçiminde şarkılı olarak söylenen müzikli tiyatro eseridir. Oyunculara, orkestra eşlik eder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Operet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: Eğlenceli, hafif konulu, içinde bestesiz konuşmalar da bulunan müzikli tiyatrodur. Daha çok halk için yazılmış eserlerdir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Opera Komik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: Operetin, yüksek sınıf için yazılmış, besteli biçimidir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Vodvil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: Hareketli, eğlenceli bir konuya dayanan, içinde şarkılara da yer verilen hafif komedidir. Bu nedenle vodvil, bir "komedi türü" olarak da gösterilir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Bal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: Konusu; türlü dans ve davranışlarla anlatılan müzikli, sözsüz tiyatro türüdür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18:50:21Z</dcterms:created>
  <dc:creator>Akif Ziya</dc:creator>
  <dc:description/>
  <dc:language>en-US</dc:language>
  <cp:lastModifiedBy>yusuff</cp:lastModifiedBy>
  <dcterms:modified xsi:type="dcterms:W3CDTF">2009-10-19T21:38:12Z</dcterms:modified>
  <cp:revision>12</cp:revision>
  <dc:subject/>
  <dc:title>Slayt 1</dc:title>
</cp:coreProperties>
</file>