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AFE-D0F0-42E8-9F5B-5553164A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F65-09A9-441A-BFE4-559E92CB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4DB-A670-4608-9C1A-97D14C79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28D-0D1D-435C-9FDA-CB592B27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A72F-ACE3-4A0E-86C2-D3EF5457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1FAE-BFC0-4E8E-B79E-FA24B5EF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B4CB-CB29-413C-A680-A5FF6E58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774F-19F0-4ED3-9482-1E29EF68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BC45-A9F0-4A49-9106-F6650F7A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9318-CE14-4787-9D59-47DEC608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7AA5-74B8-4F79-963B-82850863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220-589F-4484-8E17-A3406116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3133-2755-4DF6-B8AD-5A3408CD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F94A-7B5A-4FD5-9B52-933DD9B7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9BAC-1B78-46EB-B75B-85EB71FA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4830-071E-4B81-A37E-15426F70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2DC0-CB7C-4E3A-B0E8-D857EE1F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CD6-148E-42A0-8383-AE5425E5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C00-2934-433C-A2EB-9D01841E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84B-16E4-4BD4-9957-8DF8BCBE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CF9-6109-406A-B33E-C48E2067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107-18F9-4574-B5DC-8D079DE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C17-8FB2-4ADA-B098-AA8298DA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8AA-9A04-4FEA-AB4F-FEEB18B6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54D9-C61B-4F79-AD9F-20EA8FE13BD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90F9-A08C-477B-8112-35D54FA9CA5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debiyatogretmeni.net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debiyatogretmeni.net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LATIM BOZUKLUKLAR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 konu , üniversite sınavlarında kesinlikle çıkan konuların başında geli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LAM BOZUKLUKLAR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Şimdi anlam bozukluklarının nedenlerini sırasıyla göreli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ZIR MISINIZ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 ) Yanlış anlamda kullanılan kelimeler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ümlede kelimeler ya yanlış anlamda kullanılmıştır ya da anlatılmak istenen düşünce için en uygun kelime kullanılmamışt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ÖRNEK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işi başına düşen yıllık gelire göre,ülkenin geri kalmışlığını savundu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ANLIŞLIK NERED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ÜŞÜNÜN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işi başına düşen yıllık gelire göre,ülkenin geri kalmışlığını ileri sürdü veya öne sürdü.” denmeliydi.Aksi halde anlam bozukluğu oluşu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 )Anlatımı bozuk cümle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latılmak istenen düşüncenin tam olarak anlatılamaması,birçok yanlışın bir arada bulunmasıd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ÖRNEK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za kurbanları kadın ve beş çocuk öksüz kaldı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ANLIŞLIK NERED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ÜŞÜNÜN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ĞRUSU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82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za kurbanı kadının beş çocuğu öksüz kaldı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AŞKA BİR ÖRNEK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palı zarf usulüyle tamirat yaptırılacak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ANLIŞLIK NERED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ÜŞÜNÜN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ĞRUSU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palı zarf usulüyle teklif verildi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) Eş anlamlı kelimelerin kullanılması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ş ya da yakın anlamlı kelimelerin bir arada kullanılmasıd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n böyle sorularda başarısızım.” diyenler sunumu lütfen iyi takip ediniz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LAMAK İSTERSENİZ, ANLARSINIZ. YETER Kİ, ANLAMAY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ÖNÜLDEN İSTEYİ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ÖRNEK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ürk milleti güç ve müşkül zamanlarda millî ve dinî kudretini gösterir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 cümledeki yanlışlığı buldunuz mu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) Anlamca çelişen kelimele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lamca çelişen kelimelerin bir arada kullanılmasıd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ÖRNEK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ndan aşağı yukarı tam bir asır evvel dedelerimiz Çanakkale’de nice destanlar yazdılar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ĞRUSU NASIL OLMALI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ÜŞÜNÜN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LATIM BOZUKLUKLAR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GİLİ ÖĞRENCİLER !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ŞU ANA KADAR ANLAM BOZUKLUKLARINI GÖRDÜK. ŞİMDİ DE ANLATIM BOZUKLUKLARINI MADDELER HALİNDE GÖRELİ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 ) ÖZNE YANLIŞLARI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ümlede öznenin bulunmamasıdır veya özne olmaması gereken yerde öznenin kullanılmasıd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ÖRNEK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hanelik nöbetçisinin silahı elinden alındı ve soyuldu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 cümle üzerinde düşünün ! Ne eksik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ĞRUSU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hanelik nöbetçisinin silahı elinden alındı ve  nöbetçi soyuldu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ümlenin öznesi yoktu .Soyulan nöbetçi mi, silah mı anlaşılmıyordu;ama şimdi soyulanın nöbetçi olduğu açıkça anlaşılıy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ÖZNE YANLIŞLIĞINA BAŞKA BİR ÖRNEK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stanın durumu gittikçe kötüleşiyor,yerinden kalkamıyordu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ANLIŞLIK NEREDE? DÜŞÜNÜN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ĞRUSU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stanın durumu gittikçe kötüleşiyor, hasta yerinden kalkamıyordu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ümlenin birinci şeklinde  “kötüleşen ve yerinden kalkamayan” hastanın durumu idi;ama özne getirilince “kötüleşen ve yerinden kalkamayan” hasta ismi old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 ) ÖZNE-YÜKLEM UYUŞMAZLIKLARI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Öznenin tekillik , çoğulluk ve şahıs bakımından yükleml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uyuşmamasıd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U TÜR SORULARI NASIL ÇÖZEBİLİRİZ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ümleleri kendinize gör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yorumlamayı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İyi cümlelerin özelliklerini iyi bilmelisiniz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lam bozuklukları ile anlatım bozukluklarını birbirin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karıştırmayınız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ÖRNEKLER 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bam ve ben balığa çıkar , balık tutarım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ğrusunu umarım hemen söylersiniz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“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imse bir yere kıpırdamasın ,yere yatsın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ğrusu nasıl olacak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“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ç kimse ders çalışmıyor, televizyon          seyrediyor.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ğruyu buldunuz mu 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) YÜKLEM YANLIŞLARI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üklemin “çatı,kişi,zaman ve yardımcı fiiller” gibi noktalarda cümleye uygunluk göstermemesid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ÖRNEK :Annem yemek pişiriyor, biz de ona yardım ediyorduk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ĞRUSU NASIL OLMALI? DÜŞÜNÜ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İĞER BİR ÖRNEK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ksul görünümlü biriydi bu.Boyu kısa,bedeni de pek biçimli değildi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radaki yanlışlık nere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ĞRUSU 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ksul görünümlü biriydi bu.Boyu kısaydı,bedeni de pek biçimli değildi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) TÜMLEÇ YANLIŞLARI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r cümlede tümlecin olmaması veya tümleç olması gereken yerde tümlecin kullanılmamasıd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ÖRNEK : “ Sizi seviyor, saygı duyuyorum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ĞRUSU 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“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zi seviyor, size saygı duyuyorum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İĞER ÖRNEKLE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onunun az bilinen yönüne ışık tutuyor, aydınlatıyor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 CÜMLEDE NE EKSİK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VAP :  Bu sıralı-bağımlı birleşik cümlenin ikinci cümlesinde nesne eksikt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Şu cümledekini de siz bulu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zinle dalga geçtim,üzdüm,özür dilerim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)GEREKSİZ SÖZCÜKLE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ümleden çıkarıldığında cümlenin anlamında daralma yaratmayan kelimeler gereksizd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 GİBİ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Neşeli 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ağlıklı ,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mutl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biriydi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rkesi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leştirip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enkit etme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bize hiçbir yarar sağlamaz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İki kardeşten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küçüğü arkadaşımdı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OR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3300"/>
                </a:solidFill>
                <a:latin typeface="Times New Roman"/>
              </a:rPr>
              <a:t>Aşağıdaki cümlelerin hangisinde anlatım bozukluğu vardır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Times New Roman"/>
              </a:rPr>
              <a:t>Sıcaklık sıfırın altında eksi on derece olacakmış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Times New Roman"/>
              </a:rPr>
              <a:t>Havaların böyle gitmesi beni çok düşündürüyo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Times New Roman"/>
              </a:rPr>
              <a:t>Son yılların en kötü hava şartlarıyla karşı karşıyayız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Times New Roman"/>
              </a:rPr>
              <a:t>İlkbaharın böyle geciktiği hiç görülmemiş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İĞER AÇIKLAMALA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azı cümlelerde eklendiği sözcüğe ya da söz öbeğine aynı anlamı kazandıran edatlar anlatım bozukluğuna yol aça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alnız gitmekten korkmuş, annesiy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le birlik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gitmiş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ir cümlenin anlamı içinde olan başka bir sözü kullanmak da gereksizd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öyl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yüksek ses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bağırm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 gerek yok, sağır değilim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) BİRBİRİYLE ÇELİŞEN KELİMELER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736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lamca çelişen kelimelerin mantıksızlık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aratmasıd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“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mini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bizi de listeden silmiş olsa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gerek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sinlik ve ihtimal bir arada bulunmamalıd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İĞER ÖRNEKLE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anırı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o, bu işi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mutlak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kabul edecektir.” cümlesinde altı çizili sözcükler anlamca birbiriyle çelişmektedir. “Sanırım” ihtimal bildirir, “mutlaka” kesinlik belirt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önderdiğim paketi,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mini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bugüne kadar almış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olmalısı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NLAM BOZUKLUĞU İLE ANLATIM BOZUKLUĞU ARASINDAKİ FARK NEDİR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r Allah’ın günü dershaneye gidiyorum.” Bu cümlede anlam bozukluğu yoktur,anlatım bozukluğu vardır.Bu cümlenin doğrusu nasıl olmalıdır? DÜŞÜNÜN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ORU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şağıdaki cümlelerin hangisindeki anlatım bozukluğunun nedeni diğerlerinden farklıdı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 meseleyi mutlaka o çözümleyebil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 olayı sanırım onun da bilmesi gerek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İnsan isterse, mükemmel ve kusursuz olabil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Şüphesiz, bu saatte eve dönmüş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mal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ORU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i="1" lang="tr-TR" sz="2800" spc="-1" strike="noStrike">
                <a:solidFill>
                  <a:srgbClr val="eaeaea"/>
                </a:solidFill>
                <a:latin typeface="Times New Roman"/>
              </a:rPr>
              <a:t>Elbette onunla gitmiş olabilirler</a:t>
            </a:r>
            <a:r>
              <a:rPr b="1" lang="tr-TR" sz="2800" spc="-1" strike="noStrike">
                <a:solidFill>
                  <a:srgbClr val="eaeaea"/>
                </a:solidFill>
                <a:latin typeface="Times New Roman"/>
              </a:rPr>
              <a:t>.” </a:t>
            </a:r>
            <a:r>
              <a:rPr b="1" lang="tr-TR" sz="2800" spc="-1" strike="noStrike">
                <a:solidFill>
                  <a:srgbClr val="cc3300"/>
                </a:solidFill>
                <a:latin typeface="Times New Roman"/>
              </a:rPr>
              <a:t>bu cümledeki anlatım bozukluğunun nedeni aşağıdakilerden hangisidir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eaeaea"/>
                </a:solidFill>
                <a:latin typeface="Times New Roman"/>
              </a:rPr>
              <a:t>Özne yüklem uyuşmazlığ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eaeaea"/>
                </a:solidFill>
                <a:latin typeface="Times New Roman"/>
              </a:rPr>
              <a:t>Aynı anlama gelen sözcüklerin birlikte kullanılması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eaeaea"/>
                </a:solidFill>
                <a:latin typeface="Times New Roman"/>
              </a:rPr>
              <a:t>Anlamca çelişen sözcüklerin birlikte kullanılmas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eaeaea"/>
                </a:solidFill>
                <a:latin typeface="Times New Roman"/>
              </a:rPr>
              <a:t>Öznenin belirtilmemiş olmas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) MANTIK YANLIŞLARI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ümlede mantık hatası bulunması cümlenin anlatımını boza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ırakın patates doğramayı yemek bile yapamaz 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” cümlesinde sanki patates doğramak yemek yapmaktan daha önemliymiş gibi gösterilmişt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İĞER ÖRNEKLE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a buraya gelmeden önce mi sonra mı telefon etti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ĞRUSU NASIL OLMALI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“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a buraya gelmeden önce mi geldikten sonra mı telefon etti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“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niyet mensupları silah imali yapanları 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tanları kıskıvrak yakaladı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RADAKİ YANLIŞLIĞI DA SİZ BULUN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8)BİRBİRİYLE KARIŞTIRILAN KELİMELER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ümledeki sözcüklerin anlamına da dikkat edilmelidir. Örnekler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Çocukların birbiriyl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uygunlu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çinde olmaları beni sevindirdi.” ( uyu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İşyerinden son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öğreti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urumuyla ilgili bilgi istediler.” (öğreni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ddenin kenarlarına değişik türde ağaçlar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ekilmiş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” (dikilmiş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 konuda gençleri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zımsama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oğru değil.” (küçümseme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Ülkemizde başarıyla gerçekleştirilen bu tür ameliyatlarda ölüm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şansı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Amerika’da yapılanlardan ancak yüzde bir fazladır.” (olasılığı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9) YANLIŞ YERDE KULLANILAN KELİMELER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zen sözcük doğrudur ancak cümlede bulunduğu yer yanlıştır.Bu durum cümlenin anlatımını boza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Yeni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elbisemi giymiştim ki kapı açıldı.” cümlesi “Elbisemi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yeni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ymiştim ki kapı açıldı.” şeklinde olmalıdır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İĞER ÖRNEKLE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ki Ankara valisi” yerine “Ankara eski    valisi”  demeliyiz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üksek inşaat mühendisi” yerine “İnşaat yüksek mühendisi” demeliyiz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0)YAPILARI YANLIŞ OLAN KELİMELE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Kelimelerin dilbilgisi kurallarına uygun türetilmemesi durumudu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ÖRNEKLE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 “</a:t>
            </a: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Niyazi Efendi on senedir bakkalcılık yapıyor.” ( bakkallık olacak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( Eşki-</a:t>
            </a:r>
            <a:r>
              <a:rPr b="0" lang="tr-TR" sz="3200" spc="-1" strike="noStrike" u="sng">
                <a:solidFill>
                  <a:srgbClr val="eaeaea"/>
                </a:solidFill>
                <a:uFillTx/>
                <a:latin typeface="Times New Roman"/>
              </a:rPr>
              <a:t>ekşi</a:t>
            </a: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 ,yalnış-</a:t>
            </a:r>
            <a:r>
              <a:rPr b="0" lang="tr-TR" sz="3200" spc="-1" strike="noStrike" u="sng">
                <a:solidFill>
                  <a:srgbClr val="eaeaea"/>
                </a:solidFill>
                <a:uFillTx/>
                <a:latin typeface="Times New Roman"/>
              </a:rPr>
              <a:t>yanlış</a:t>
            </a: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, sarmısak-</a:t>
            </a:r>
            <a:r>
              <a:rPr b="0" lang="tr-T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arımsak</a:t>
            </a: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,yanlız-</a:t>
            </a:r>
            <a:r>
              <a:rPr b="0" lang="tr-TR" sz="3200" spc="-1" strike="noStrike" u="sng">
                <a:solidFill>
                  <a:srgbClr val="eaeaea"/>
                </a:solidFill>
                <a:uFillTx/>
                <a:latin typeface="Times New Roman"/>
              </a:rPr>
              <a:t>yalnız</a:t>
            </a: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)Altı çizili olanlar doğrudu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1)KELİMELERİN YANLIŞ ANLAMDA KULLANILMASI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onuşmada veya yazıda seçilen kelimenin anlatmak istediğimizi anlatmaktan uzak olmasıd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ÖRNE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ırnakların bir hayli büyümüş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ydiğiniz kravat çok güzelmiş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terjandan ellerim tahrip oldu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) GEREKSİZ YARDIMCI EYLEMLE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Türkçe’de doğrudan kullanılabilecek bir fiil yardımcı eylem almamalıd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Umut etmek ( Yanlış ) Ummak ( Doğru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Kuşku etmek ( Yanlış )Kuşkulanmak ( Doğr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Etki etmek ( Yanlış ) Etkilemek ( Doğru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Duyurma yapmak ( Yanlış ) Duyurmak ( D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ĞRUSU ŞÖYLE OLMALI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ah’ın her günü dershaneye gidiyorum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 cümlede anlatım bozukluğu vard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 )DEYİM YANLIŞLARI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yimler kalıplaşmış kelimelerdir.Yerleri değiştirilemez. Cümlede deyimin yanlış yerde kullanılması anlatımı boza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Öğretmenin anlattığı konu tüm öğrencilerin dikkatin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çekmişti. Herkes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kulak kabartmış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öğretmeni dinliyordu.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kulak kesilme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ÖRNEK:Etekleri tutuşmak ( D 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çaları tutuşmak ( Y 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desi zil çalmak ( Y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arnı zil çalmak   ( D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4) ATASÖZÜ YANLIŞLARI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Atasözleri de deyimler gibi kalıplaşmıştır.Bu yüzden yakın anlamlısı dahi olsa değiştirilmez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Şu atasözleri nasıl olmalı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Sakla malını gelir zamanı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Alma garibin ahını ,çıkar aheste ahes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tr-TR" sz="3200" spc="-1" strike="noStrike">
                <a:solidFill>
                  <a:srgbClr val="eaeaea"/>
                </a:solidFill>
                <a:latin typeface="Times New Roman"/>
              </a:rPr>
              <a:t>Bez alırsan Musul’dan,kız alırsan Bağdat’ta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)TAMLAMA    YANLIŞLARI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İsim ve sıfat tamlamalarında tamlayan ve tamlananların yersiz kullanılmaları;almaları gereken tamlayan eklerini almamaları;almamaları gereken tamlayan eklerini almaları durumudur.Ya da tamlama kurulmaya elverişli olmayan bir kelime ile isim yahut sıfat tamlaması kurulması durumudu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ÖRNEKLE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“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ınavı kazandığını duyunca çok sevindim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ĞRUSU:“ Onun sınavı kazandığını duyunca çok sevindim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“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urmadan gazoz ve çekirdek yenen bu yerden uzaklaştım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ĞRUSU: “ Durmadan gazoz içilen ve çekirdek yenen bu yerden uzaklaştım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ORU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şağıdaki cümlelerin hangisinde bir anlatım bozukluğu vardır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İçten ve inandırıcı sözleriyle herkesin gönlünde taht kurd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) Benden ödünç aldığı kitapları geri iade etmekte gecik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)  İbrahim Müteferrika’nın,Türk basın tarihindeki yeri yadsınamaz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) O kadar beceriksiz ki, her şeyi yüzüne gözüne bulaştırdı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) Karşısına çıkan herkese güvenmesi canımı sıkıy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ĞRU CEVAP :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VGİLİ ÖĞRENCİLER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 konunun anlatımını tamamladık.Artık sizler konuyla ilgili soru çözebilirsiniz.Önemli olan alt yapıyı hazırlamak ve bol örnekler üzerinde çalışarak bilgileri pekiştirmekti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YDİ KOLAY GELSİN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ZIRLAYAN: T.DİLİ ve EDB. ÖĞRT. ALİ BAĞÇELİ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0. 11. 2006 / PAZARTES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www.edebiyatogretmeni.net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LAM BOZUKLUĞUNA  ÖRNEKLER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u her türlü girişimden çekinmeyen bir insan olarak tanırdı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anlış nerede ?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DÜŞÜNÜN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ĞRUSU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u hiçbir girişimden çekinmeyen bir insan olarak tanırdı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r türlü” olumlu cümleler için kullanıl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çbir” olumsuz cümleler için kullanıl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NLAM BOZUKLUĞUNA BAŞKA BİR ÖRNEK 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hmet , benim sınıfta kalmamı sağladı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 cümlenin doğrusu nasıl olmalıdır? DÜŞÜNÜN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22160" y="6453360"/>
            <a:ext cx="165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www.edebiyatogretmeni.net</a:t>
            </a:r>
            <a:r>
              <a:rPr b="0" lang="en-US" sz="10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ĞRUSU 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hmet,benim sınıfta kalmama sebep oldu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ğlamak,olumlu cümleler için kullanıl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bep olmak,olumsuz cümleler için kullanılı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8:37:11Z</dcterms:created>
  <dc:creator>computer</dc:creator>
  <dc:description/>
  <dc:language>en-US</dc:language>
  <cp:lastModifiedBy>Ekrem</cp:lastModifiedBy>
  <dcterms:modified xsi:type="dcterms:W3CDTF">2009-01-06T23:15:09Z</dcterms:modified>
  <cp:revision>82</cp:revision>
  <dc:subject/>
  <dc:title>ANLATIM BOZUKLUKLARI</dc:title>
</cp:coreProperties>
</file>