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96DA9-F87A-44F7-A189-40CE8433B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3B2D-F973-4A4A-9D95-E92C7B2C3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CCE5A-7230-433F-9EFE-C7828F81E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6933E-5676-4965-A5C2-0898B1292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A4792-EE6C-4389-9137-BDFBC9BF9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A411F-1A69-4796-A564-686547E94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2267B-B058-4B40-91A7-E1BA44F79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EC81C-68A5-41E5-BA6C-7717B076A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BBCC9-91CE-4A21-91BF-52C181A0D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046F1-545E-4C8E-BF29-3A02B18E6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A64DE-8106-4C51-A666-601F5F477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FCBD2-ABA1-4BFC-8503-64B43189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312AF-8F90-428D-84C4-FFAFCD480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BEF3-A069-4D0A-8D46-90FBD1842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8668E-5E60-40CC-9D82-B48C3CDDA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005E5-21E6-4C66-A0A3-C4163637D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472D5-1E5F-445A-90D6-872AC377D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53E3A11-369A-4292-82B8-D1F8C8D75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DBCF84-FF4B-434B-9AE0-32E65C99F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A41EC4-221D-4108-A097-A29A6F7E0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BBAD2E-29B4-457D-AA16-2E4E063EF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3631D4-6D2C-4E6A-9411-B14E602E90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62A51-9DCF-477F-BFCF-AE14E1E8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858047-DE3B-4BED-8297-BCC6AA3AA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F170AC-A910-4AB9-9B77-9B1CBDE6B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DDAB25-F567-4F7E-9DD5-BF1362EA5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7FCF7F-9DA5-46A6-8F35-75E65530D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779623-AB2B-46B6-9652-BD8CDD241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60BE2C-C57F-4AEC-B73C-73648B5D9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76321D-F3AA-4D48-B5C6-9675AAF49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13538-6383-4E78-8C43-B9C191B5CE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F2497-4E02-4CF4-8E81-488AD2D2E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3AB368-2217-4783-909F-B43A7AE556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6313F-5AF2-4A68-81D4-47C16053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FEE8B-733B-4D86-93A0-FC5CE3EEC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9D23A-814C-4FFB-B8B2-AC09B4BA5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34535-A8E4-42C7-BFF1-51CA7F13B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C2EF8-78AA-43F9-98AA-D4A1AAF2E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D9E73-7FE1-4E9D-91A6-768D358C1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42048-10D4-416C-9CE2-0454CA03E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C3E6C-C670-48DB-836B-F3178AFA6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89FEE-A00E-4530-B7A8-BADE4FAABF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C6ACBF-8BC4-49D4-A051-7720DA0E2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5D76E5-C580-40E7-8815-FE10EE176D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CBF93-349C-4D47-8489-AB761C35B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11C8E8-1CF6-43CC-8AD9-176F783B7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2ED886-F59D-48A0-820E-1030E6E63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737D00-D79E-424C-AE00-BD3532721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5DAA71-CD9D-4457-BB13-DE2BA6321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411F5D-3C06-46FA-9821-5028AAB5B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7D9C6C-F548-4B13-92BC-220140FF9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ABDF4A-401A-42D7-8AAB-2FFBBEDEF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C732F3-48D9-4C35-8A96-0A40D7BA4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73E069-6DC4-4C2A-9272-B228F1790D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869674-1A77-4EF3-80EB-B1A938EF27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1406-7CE2-4396-9A04-9045D3E59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F05F66-A7B4-4935-8E4D-B184401519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1848A94-8C60-4660-A605-4640BAB9F6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CA774A-D118-4085-AAAA-E8664BB1DB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2B93C7-0935-4B14-9864-0D5CBC5A3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A61CEB-F30F-4387-A097-A9C23AD2A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011D892-8245-44EE-91A5-931397BB74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6CB497-348E-4ADC-8CED-5D585D5B1D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C7F3C5-2AD5-412E-A5BC-1EA7BE6AD5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2EA1B6-DCFE-4E53-B125-AA3AE0F47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F015BDD-8C43-493F-B1AA-1B066947A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AE9B-4E81-4908-898B-46C21854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041F1EE-7EA2-4F33-9D20-1BA26CAE2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23598C8-FC65-4E8A-B9BD-A67E016BDD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4E8B6A2-0C58-4C3B-A93F-69154F2660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A816FA5-F7CA-4F99-8F79-4777EB40C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05704C-F2C8-4442-B906-A2A621BB3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1B9522-A763-4017-B97A-298853F32D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3C61D18-8F9E-4CDB-8B18-D00136EF60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0AEB845-E1EF-4180-935E-AD762E69EA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9F118A-88CA-40B1-9C03-E04A2DE13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E526DF-407F-4FDD-83A0-7A794E836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3D5E-EF3A-41BB-ADE6-CA53AE26F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118533-535E-407D-B16C-E118F98B1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1D6633-FAC7-4EDE-A13B-A9BAC639C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F484BE-361C-4903-8A78-1B227EB51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6D8F878-AF6F-4AFE-A2E0-A70B38DDD8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B2C2A87-189A-491F-88D6-C1357A51E7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9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B1D84-F7DF-40BD-9F66-BFC14CF5C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Düz Bağlayıcı"/>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A75A-87F3-4B6B-AB93-80CB00BB0E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Dikdörtgen"/>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Dikdörtgen"/>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Dikdörtgen"/>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Dikdörtgen"/>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Düz Bağlayıcı"/>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Düz Bağlayıcı"/>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Düz Bağlayıcı"/>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Düz Bağlayıcı"/>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Düz Bağlayıcı"/>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Düz Bağlayıcı"/>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Dikdörtgen"/>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Oval"/>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Oval"/>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Oval"/>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Oval"/>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Oval"/>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263F-1274-460A-BABB-4A3DA4B4BA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Düz Bağlayıcı"/>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7E0D-3343-4431-BA59-D1A404CCF0D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Dikdörtgen"/>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Dikdörtgen"/>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Dikdörtgen"/>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Dikdörtgen"/>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Düz Bağlayıcı"/>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Düz Bağlayıcı"/>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Düz Bağlayıcı"/>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Düz Bağlayıcı"/>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Düz Bağlayıcı"/>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Dikdörtgen"/>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Oval"/>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Oval"/>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Oval"/>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Oval"/>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Oval"/>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Düz Bağlayıcı"/>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DCF6-B3E7-4883-8EE0-BEC303272D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Düz Bağlayıcı"/>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EEA5-1691-4849-987F-73CE2D8AAC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Düz Bağlayıcı"/>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Düz Bağlayıcı"/>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Düz Bağlayıcı"/>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Düz Bağlayıcı"/>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Dikdörtgen"/>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E676-951D-4774-91A9-734D4C0F2A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Düz Bağlayıcı"/>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Oval"/>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Düz Bağlayıcı"/>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Dikdörtgen"/>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Düz Bağlayıcı"/>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Düz Bağlayıcı"/>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Düz Bağlayıcı"/>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9F87-61B2-45A5-AE31-02CE526112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1" name="4 Dikdörtgen"/>
          <p:cNvSpPr/>
          <p:nvPr/>
        </p:nvSpPr>
        <p:spPr>
          <a:xfrm>
            <a:off x="2286000" y="4091040"/>
            <a:ext cx="6072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39d"/>
                </a:solidFill>
                <a:latin typeface="Georgia"/>
              </a:rPr>
              <a:t>CUMHURİYET DÖNEMİ</a:t>
            </a:r>
            <a:br>
              <a:rPr sz="4400"/>
            </a:br>
            <a:r>
              <a:rPr b="1" i="1" lang="en-US" sz="4400" spc="-1" strike="noStrike">
                <a:solidFill>
                  <a:srgbClr val="fff39d"/>
                </a:solidFill>
                <a:latin typeface="Georgia"/>
              </a:rPr>
              <a:t>TÜRK EDEBİYAT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2285640" y="571680"/>
            <a:ext cx="6172200" cy="5643360"/>
          </a:xfrm>
          <a:prstGeom prst="rect">
            <a:avLst/>
          </a:prstGeom>
          <a:noFill/>
          <a:ln w="0">
            <a:noFill/>
          </a:ln>
        </p:spPr>
        <p:txBody>
          <a:bodyPr anchor="ctr">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imizde en köklü değişimleri yapmışlardı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de ölçü ve uyağı gereksiz görmüşler, serbest şiir örnekleri vermişlerdi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Süslü ve sanatlı şiire, şairaneliğe tepki göstermişlerdi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Sokaktaki insanın, halkın konuştuğu dille şiirler yazdıla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de espriyi, nükteyi kullandılar ve şaşırtmaya dayalı şiirler yazdılar.</a:t>
            </a:r>
            <a:endParaRPr b="0" lang="en-US" sz="2400" spc="-1" strike="noStrike">
              <a:solidFill>
                <a:srgbClr val="ffffff"/>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2285640" y="1285560"/>
            <a:ext cx="6172200" cy="5095800"/>
          </a:xfrm>
          <a:prstGeom prst="rect">
            <a:avLst/>
          </a:prstGeom>
          <a:noFill/>
          <a:ln w="0">
            <a:noFill/>
          </a:ln>
        </p:spPr>
        <p:txBody>
          <a:bodyPr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Günlük hayattaki her konunun şiirde yer alması gerektiğini savundula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i duygudan çok akla yakın bir sanat olarak gördüle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Toplumsal aksaklıkları şiirin doğal akışını bozmadan ve bir mesaj iletme kaygısı duymadan yansıttıla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1 950’de Orhan Veli’nin ölümüyle akımın diğer sanatçıları Oktay Rıfat ve Melih Cevdet zamanla farklı şiirlere yöneldile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5640" y="357120"/>
            <a:ext cx="6172200" cy="819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39d"/>
                </a:solidFill>
                <a:latin typeface="Georgia"/>
              </a:rPr>
              <a:t>İKİNCİ YENİ</a:t>
            </a:r>
            <a:endParaRPr b="0" lang="en-US" sz="3200" spc="-1" strike="noStrike">
              <a:solidFill>
                <a:srgbClr val="fff39d"/>
              </a:solidFill>
              <a:latin typeface="Century Schoolbook"/>
            </a:endParaRPr>
          </a:p>
        </p:txBody>
      </p:sp>
      <p:sp>
        <p:nvSpPr>
          <p:cNvPr id="365" name="PlaceHolder 2"/>
          <p:cNvSpPr>
            <a:spLocks noGrp="1"/>
          </p:cNvSpPr>
          <p:nvPr>
            <p:ph/>
          </p:nvPr>
        </p:nvSpPr>
        <p:spPr>
          <a:xfrm>
            <a:off x="2285640" y="1356840"/>
            <a:ext cx="6172200" cy="5024520"/>
          </a:xfrm>
          <a:prstGeom prst="rect">
            <a:avLst/>
          </a:prstGeom>
          <a:noFill/>
          <a:ln w="0">
            <a:noFill/>
          </a:ln>
        </p:spPr>
        <p:txBody>
          <a:bodyPr anchor="ctr">
            <a:normAutofit fontScale="94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39d"/>
                </a:solidFill>
                <a:latin typeface="Georgia"/>
              </a:rPr>
              <a:t>Cemal Süreya, İlhan Berk, Edip Cansever, Ece Ayhan, Turgut Uyar, Sezai Karakoç...</a:t>
            </a:r>
            <a:endParaRPr b="0" lang="en-US" sz="26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39d"/>
                </a:solidFill>
                <a:latin typeface="Georgia"/>
              </a:rPr>
              <a:t>1950’den sonra Garip akımını takip eden gençlerin özentili, kötü örneklerinin hakim olduğu bir ortamda, Garip’e karşı doğmuş bir harekettir.</a:t>
            </a:r>
            <a:endParaRPr b="0" lang="en-US" sz="26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39d"/>
                </a:solidFill>
                <a:latin typeface="Georgia"/>
              </a:rPr>
              <a:t>195O’lerin başlarında “Yeditepe” ve “Pazar Postası” gibi dergilerde birbirinden habersizce şiir yayımlayan şairler arasında görülen ortaklık İkinci Yeni adını almıştır.</a:t>
            </a:r>
            <a:endParaRPr b="0" lang="en-US" sz="26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5640" y="1142640"/>
            <a:ext cx="6172200" cy="4786200"/>
          </a:xfrm>
          <a:prstGeom prst="rect">
            <a:avLst/>
          </a:prstGeom>
          <a:noFill/>
          <a:ln w="0">
            <a:noFill/>
          </a:ln>
        </p:spPr>
        <p:txBody>
          <a:bodyPr anchor="ctr">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Oktay Rıfat, Perçemli Sokak kitabıyla İkinci Yeni hareketine uygun şiirler yazmıştı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Sürrealizm, Dada gibi akımlardan etkilenmişlerdi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Günlük konuşma dilinden farklı bir şiir diliyle yazmışlardı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Sözcük ve cümle yapısının bozulduğu, yeni sözcüklerin türetildiği şiirleri vardı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hlâkî değerleri, folkloru, şiirde bir hikaye anlatmayı, konuyu dışlamışlardır.</a:t>
            </a:r>
            <a:endParaRPr b="0" lang="en-US" sz="2400" spc="-1" strike="noStrike">
              <a:solidFill>
                <a:srgbClr val="ffffff"/>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5640" y="500040"/>
            <a:ext cx="6172200" cy="121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39d"/>
                </a:solidFill>
                <a:latin typeface="Georgia"/>
              </a:rPr>
              <a:t>MAVİCİLER</a:t>
            </a:r>
            <a:endParaRPr b="0" lang="en-US" sz="3200" spc="-1" strike="noStrike">
              <a:solidFill>
                <a:srgbClr val="fff39d"/>
              </a:solidFill>
              <a:latin typeface="Century Schoolbook"/>
            </a:endParaRPr>
          </a:p>
        </p:txBody>
      </p:sp>
      <p:sp>
        <p:nvSpPr>
          <p:cNvPr id="368" name="PlaceHolder 2"/>
          <p:cNvSpPr>
            <a:spLocks noGrp="1"/>
          </p:cNvSpPr>
          <p:nvPr>
            <p:ph/>
          </p:nvPr>
        </p:nvSpPr>
        <p:spPr>
          <a:xfrm>
            <a:off x="2285640" y="1928520"/>
            <a:ext cx="6172200" cy="445284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ttilla İlhan,Ferit Edgü, Demir Özlü,Orhan Duru.</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1952’de Ankara’ da yayımlanmaya başlayan “Mavi” adlı dergi etrafında toplanan yazarların oluşturduğu bir topluluktu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Garip’e karşı duran, toplumcu edebiyat anlayışına yakın düşünceleri olan bir topluluktu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d2611c"/>
                </a:solidFill>
                <a:uFillTx/>
                <a:latin typeface="Arial"/>
                <a:hlinkClick r:id="rId1"/>
              </a:rPr>
              <a:t>www.edebiyatogretmeni.net</a:t>
            </a:r>
            <a:r>
              <a:rPr b="0" lang="tr-TR" sz="2400" spc="-1" strike="noStrike">
                <a:solidFill>
                  <a:srgbClr val="fff39d"/>
                </a:solidFill>
                <a:latin typeface="Arial"/>
              </a:rPr>
              <a:t> </a:t>
            </a:r>
            <a:endParaRPr b="0" lang="en-US" sz="2400" spc="-1" strike="noStrike">
              <a:solidFill>
                <a:srgbClr val="ffffff"/>
              </a:solidFill>
              <a:latin typeface="Century School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0" y="264600"/>
            <a:ext cx="6500880" cy="806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39d"/>
                </a:solidFill>
                <a:latin typeface="Georgia"/>
              </a:rPr>
              <a:t>TOPLUM SAL GERÇEKÇİLER</a:t>
            </a:r>
            <a:endParaRPr b="0" lang="en-US" sz="3200" spc="-1" strike="noStrike">
              <a:solidFill>
                <a:srgbClr val="fff39d"/>
              </a:solidFill>
              <a:latin typeface="Century Schoolbook"/>
            </a:endParaRPr>
          </a:p>
        </p:txBody>
      </p:sp>
      <p:sp>
        <p:nvSpPr>
          <p:cNvPr id="370" name="PlaceHolder 2"/>
          <p:cNvSpPr>
            <a:spLocks noGrp="1"/>
          </p:cNvSpPr>
          <p:nvPr>
            <p:ph/>
          </p:nvPr>
        </p:nvSpPr>
        <p:spPr>
          <a:xfrm>
            <a:off x="2286000" y="999720"/>
            <a:ext cx="6500880" cy="5381640"/>
          </a:xfrm>
          <a:prstGeom prst="rect">
            <a:avLst/>
          </a:prstGeom>
          <a:noFill/>
          <a:ln w="0">
            <a:noFill/>
          </a:ln>
        </p:spPr>
        <p:txBody>
          <a:bodyPr anchor="ctr">
            <a:normAutofit fontScale="9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Nazım Hikmet, Sabahattin Ali, Kemal Tahir, Orhan Kemal, Yaşar Kemal, Aziz Nesin.</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Sosyalist bir dünya görüşüne uygun olarak toplumcu eserler yazmış sanatçıların oluşturduğu bir edebiyatt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Topluluğun Türk edebiyatında tanınmasında ve yaygınlaşmasında Nazım Hikmet’in büyük bir etkisi vard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Topluluk üyeleri edebiyatın hemen hemen bütün türlerinde toplumu bilinçlendirme amacıyla eserler yazmışlard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Serbest şiiri Garipçilerden de önce kullanan Toplumsal Gerçekçiler, roman ve hikayelerde de yalın bir dille daha çok köylü ve işçi sorunlarını ele almışlardır.</a:t>
            </a:r>
            <a:endParaRPr b="0" lang="en-US" sz="2000" spc="-1" strike="noStrike">
              <a:solidFill>
                <a:srgbClr val="ffffff"/>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5640" y="428760"/>
            <a:ext cx="6172200" cy="71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39d"/>
                </a:solidFill>
                <a:latin typeface="Georgia"/>
              </a:rPr>
              <a:t>HİSARCILAR</a:t>
            </a:r>
            <a:endParaRPr b="0" lang="en-US" sz="3200" spc="-1" strike="noStrike">
              <a:solidFill>
                <a:srgbClr val="fff39d"/>
              </a:solidFill>
              <a:latin typeface="Century Schoolbook"/>
            </a:endParaRPr>
          </a:p>
        </p:txBody>
      </p:sp>
      <p:sp>
        <p:nvSpPr>
          <p:cNvPr id="372" name="PlaceHolder 2"/>
          <p:cNvSpPr>
            <a:spLocks noGrp="1"/>
          </p:cNvSpPr>
          <p:nvPr>
            <p:ph/>
          </p:nvPr>
        </p:nvSpPr>
        <p:spPr>
          <a:xfrm>
            <a:off x="2285640" y="1213920"/>
            <a:ext cx="6357960" cy="535788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Munis Faik Ozansoy, İlhan Geçer, Mehmet Çınarlı, Gültekin Samanoğlu, Mustafa Necati Karaer, Turgut Özakman, Yavuz Bülent Bakiler, Bekir Sıtkı Erdoğan...</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1950’lerde “</a:t>
            </a:r>
            <a:r>
              <a:rPr b="0" i="1" lang="tr-TR" sz="2200" spc="-1" strike="noStrike">
                <a:solidFill>
                  <a:srgbClr val="fff39d"/>
                </a:solidFill>
                <a:latin typeface="Georgia"/>
              </a:rPr>
              <a:t>Hisar”</a:t>
            </a:r>
            <a:r>
              <a:rPr b="0" lang="tr-TR" sz="2200" spc="-1" strike="noStrike">
                <a:solidFill>
                  <a:srgbClr val="fff39d"/>
                </a:solidFill>
                <a:latin typeface="Georgia"/>
              </a:rPr>
              <a:t> dergisi etrafında toplanan sanatçıların oluşturduğu topluluktu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Garipçilere tepki göstermişler ve milli duyguları manevi değerleri öne çıkaran bir edebiyattan yana olmuşlard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Ölçü, uyak gibi klâsik edebiyat öğelerini kullanarak, aşk, doğa ve vatan sevgisi gibi konuları işlemişlerdir.</a:t>
            </a:r>
            <a:endParaRPr b="0" lang="en-US" sz="2200" spc="-1" strike="noStrike">
              <a:solidFill>
                <a:srgbClr val="ffffff"/>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39d"/>
                </a:solidFill>
                <a:latin typeface="Georgia"/>
              </a:rPr>
              <a:t>CUMHURİYET DÖNEMİ TÜRK EDEBİYATINDA ÖNEMLİ SANATÇILAR</a:t>
            </a: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2286000" y="642600"/>
            <a:ext cx="6500880" cy="578628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39d"/>
                </a:solidFill>
                <a:latin typeface="Georgia"/>
              </a:rPr>
              <a:t>ABDÜLHAK ŞİNASİ HİSAR (1883—1963)</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İstanbul’un lüks semtlerini ve Boğaziçi’ni, eski aşklarını, eğlencelerini anlat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Anlaşılır bir dille, anı, makale, öykü ve romanlar yaz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Anıları ve CHP roman yarışmasında (1942) üçüncü olan Fehim Bey ve Biz adlı romanı önemli eserlerid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Anı</a:t>
            </a:r>
            <a:r>
              <a:rPr b="0" i="1" lang="tr-TR" sz="2200" spc="-1" strike="noStrike">
                <a:solidFill>
                  <a:srgbClr val="fff39d"/>
                </a:solidFill>
                <a:latin typeface="Georgia"/>
              </a:rPr>
              <a:t>:</a:t>
            </a:r>
            <a:r>
              <a:rPr b="0" lang="tr-TR" sz="2200" spc="-1" strike="noStrike" u="sng">
                <a:solidFill>
                  <a:srgbClr val="fff39d"/>
                </a:solidFill>
                <a:uFillTx/>
                <a:latin typeface="Georgia"/>
              </a:rPr>
              <a:t> </a:t>
            </a:r>
            <a:r>
              <a:rPr b="0" lang="tr-TR" sz="2200" spc="-1" strike="noStrike">
                <a:solidFill>
                  <a:srgbClr val="fff39d"/>
                </a:solidFill>
                <a:latin typeface="Georgia"/>
              </a:rPr>
              <a:t>Boğaziçi Mehtapları, Boğaziçi Yalıları, Geçmiş Zaman Köşkleri, İstanbul ve Pierre Loti</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Roman</a:t>
            </a:r>
            <a:r>
              <a:rPr b="0" i="1" lang="tr-TR" sz="2200" spc="-1" strike="noStrike">
                <a:solidFill>
                  <a:srgbClr val="fff39d"/>
                </a:solidFill>
                <a:latin typeface="Georgia"/>
              </a:rPr>
              <a:t>:</a:t>
            </a:r>
            <a:r>
              <a:rPr b="0" lang="tr-TR" sz="2200" spc="-1" strike="noStrike">
                <a:solidFill>
                  <a:srgbClr val="fff39d"/>
                </a:solidFill>
                <a:latin typeface="Georgia"/>
              </a:rPr>
              <a:t> Fehim Bey ve Biz</a:t>
            </a:r>
            <a:endParaRPr b="0" lang="en-US" sz="2200" spc="-1" strike="noStrike">
              <a:solidFill>
                <a:srgbClr val="ffffff"/>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2285640" y="1500120"/>
            <a:ext cx="6172200" cy="4143600"/>
          </a:xfrm>
          <a:prstGeom prst="rect">
            <a:avLst/>
          </a:prstGeom>
          <a:noFill/>
          <a:ln w="0">
            <a:noFill/>
          </a:ln>
        </p:spPr>
        <p:txBody>
          <a:bodyPr anchor="ctr">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39d"/>
                </a:solidFill>
                <a:latin typeface="Georgia"/>
              </a:rPr>
              <a:t>MİTHAT CEMAL KUNTAY(1885-1956)</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Milli edebiyatçıların dil anlayışlarına uygun olarak hem heceyle hem de aruzla epik şiirler yazmışt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leri dışında önemli eseri ‘</a:t>
            </a:r>
            <a:r>
              <a:rPr b="0" i="1" lang="en-US" sz="2200" spc="-1" strike="noStrike">
                <a:solidFill>
                  <a:srgbClr val="fff39d"/>
                </a:solidFill>
                <a:latin typeface="Georgia"/>
              </a:rPr>
              <a:t>Üç İstanbul’ </a:t>
            </a:r>
            <a:r>
              <a:rPr b="0" lang="en-US" sz="2200" spc="-1" strike="noStrike">
                <a:solidFill>
                  <a:srgbClr val="fff39d"/>
                </a:solidFill>
                <a:latin typeface="Georgia"/>
              </a:rPr>
              <a:t>adlı romanıd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39d"/>
                </a:solidFill>
                <a:uFillTx/>
                <a:latin typeface="Georgia"/>
              </a:rPr>
              <a:t>Şiir</a:t>
            </a:r>
            <a:r>
              <a:rPr b="0" i="1" lang="en-US" sz="2200" spc="-1" strike="noStrike">
                <a:solidFill>
                  <a:srgbClr val="fff39d"/>
                </a:solidFill>
                <a:latin typeface="Georgia"/>
              </a:rPr>
              <a:t>:</a:t>
            </a:r>
            <a:r>
              <a:rPr b="0" lang="en-US" sz="2200" spc="-1" strike="noStrike">
                <a:solidFill>
                  <a:srgbClr val="fff39d"/>
                </a:solidFill>
                <a:latin typeface="Georgia"/>
              </a:rPr>
              <a:t> Türk’ün Şehnamesi </a:t>
            </a:r>
            <a:r>
              <a:rPr b="0" i="1" lang="en-US" sz="2200" spc="-1" strike="noStrike">
                <a:solidFill>
                  <a:srgbClr val="fff39d"/>
                </a:solidFill>
                <a:latin typeface="Georgia"/>
              </a:rPr>
              <a:t>Roman:</a:t>
            </a:r>
            <a:r>
              <a:rPr b="0" lang="en-US" sz="2200" spc="-1" strike="noStrike">
                <a:solidFill>
                  <a:srgbClr val="fff39d"/>
                </a:solidFill>
                <a:latin typeface="Georgia"/>
              </a:rPr>
              <a:t> Üç İstanbul</a:t>
            </a:r>
            <a:endParaRPr b="0" lang="en-US" sz="2200" spc="-1" strike="noStrike">
              <a:solidFill>
                <a:srgbClr val="ffffff"/>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2285640" y="714240"/>
            <a:ext cx="6172200" cy="5857920"/>
          </a:xfrm>
          <a:prstGeom prst="rect">
            <a:avLst/>
          </a:prstGeom>
          <a:noFill/>
          <a:ln w="0">
            <a:noFill/>
          </a:ln>
        </p:spPr>
        <p:txBody>
          <a:bodyPr anchor="ctr">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9d"/>
                </a:solidFill>
                <a:latin typeface="Georgia"/>
              </a:rPr>
              <a:t>Cumhuriyetin ilk yıllarında ölen bazı sanatçılar dışında Milli Edebiyatçılar, Beş Hececiler ve Bağımsızlar olarak ele aldığımız şair ve yazarlar sanat hayatlarına Cumhuriyet dönemi Türk edebiyatında da devam etmişlerdir.</a:t>
            </a:r>
            <a:endParaRPr b="0" lang="en-US" sz="2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9d"/>
                </a:solidFill>
                <a:latin typeface="Georgia"/>
              </a:rPr>
              <a:t>1923’ten 1940’a kadar devam eden dönemde Kurtuluş Savaşı’nın yarattığı birliğin, yapılan inkılaplar ve reformların etkisiyle sanatçılar ‘memleket edebiyatı” anlayışıyla Anadolu’ya yönelir.</a:t>
            </a:r>
            <a:endParaRPr b="0" lang="en-US" sz="2800" spc="-1" strike="noStrike">
              <a:solidFill>
                <a:srgbClr val="ffffff"/>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285640" y="1428480"/>
            <a:ext cx="6172200" cy="438156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KEMALETTİN KAMU (1901-1948)</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Vatan sevgisini, aşk ,gurbet ve doğa sevgisini işlediği şiirleriyle tanın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a:t>
            </a:r>
            <a:r>
              <a:rPr b="0" i="1" lang="en-US" sz="2400" spc="-1" strike="noStrike">
                <a:solidFill>
                  <a:srgbClr val="fff39d"/>
                </a:solidFill>
                <a:latin typeface="Georgia"/>
              </a:rPr>
              <a:t>Bingöl Çobanları” </a:t>
            </a:r>
            <a:r>
              <a:rPr b="0" lang="en-US" sz="2400" spc="-1" strike="noStrike">
                <a:solidFill>
                  <a:srgbClr val="fff39d"/>
                </a:solidFill>
                <a:latin typeface="Georgia"/>
              </a:rPr>
              <a:t>adlı pastoral şiiri oldukça ünlüdü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Gurbet, Bingöl Çobanları</a:t>
            </a:r>
            <a:endParaRPr b="0" lang="en-US" sz="2400" spc="-1" strike="noStrike">
              <a:solidFill>
                <a:srgbClr val="ffffff"/>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2286000" y="499680"/>
            <a:ext cx="6572160" cy="542916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BEHÇET KEMAL ÇAĞLAR (1908—1969)</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Halk şiiri biçim özellikleriyle şiirler yaz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tatürk’e ve cumhuriyete olan sevgisini anlat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a:t>
            </a:r>
            <a:r>
              <a:rPr b="0" i="1" lang="en-US" sz="2400" spc="-1" strike="noStrike">
                <a:solidFill>
                  <a:srgbClr val="fff39d"/>
                </a:solidFill>
                <a:latin typeface="Georgia"/>
              </a:rPr>
              <a:t>Ankaralı Âşık Ömer” </a:t>
            </a:r>
            <a:r>
              <a:rPr b="0" lang="en-US" sz="2400" spc="-1" strike="noStrike">
                <a:solidFill>
                  <a:srgbClr val="fff39d"/>
                </a:solidFill>
                <a:latin typeface="Georgia"/>
              </a:rPr>
              <a:t>takma adıyla şiirler de yaz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Erciyes’ten Kopan Çığ, Burada Bir Kalp Çarpıyor, Benden İçeri</a:t>
            </a:r>
            <a:endParaRPr b="0" lang="en-US" sz="2400" spc="-1" strike="noStrike">
              <a:solidFill>
                <a:srgbClr val="ffffff"/>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2071440" y="928800"/>
            <a:ext cx="6786360" cy="531000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ÖMER BEDRETTİN UŞAKLI (1904—1946)</a:t>
            </a:r>
            <a:endParaRPr b="0" lang="en-US" sz="24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Hece ölçüsüyle şiirler yazmıştır.</a:t>
            </a:r>
            <a:endParaRPr b="0" lang="en-US" sz="2400" spc="-1" strike="noStrike">
              <a:solidFill>
                <a:srgbClr val="ffffff"/>
              </a:solidFill>
              <a:latin typeface="Century Schoolbook"/>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nadolu’yu, tarihi, deniz güzelliklerini işlemiştir.</a:t>
            </a:r>
            <a:endParaRPr b="0" lang="en-US" sz="2400" spc="-1" strike="noStrike">
              <a:solidFill>
                <a:srgbClr val="ffffff"/>
              </a:solidFill>
              <a:latin typeface="Century Schoolbook"/>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Deniz Sarhoşları, Yayla Dumanı, Sarıkız Mermerleri</a:t>
            </a:r>
            <a:endParaRPr b="0" lang="en-US" sz="2400" spc="-1" strike="noStrike">
              <a:solidFill>
                <a:srgbClr val="ffffff"/>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2285640" y="713880"/>
            <a:ext cx="6429240" cy="5667480"/>
          </a:xfrm>
          <a:prstGeom prst="rect">
            <a:avLst/>
          </a:prstGeom>
          <a:noFill/>
          <a:ln w="0">
            <a:noFill/>
          </a:ln>
        </p:spPr>
        <p:txBody>
          <a:bodyPr anchor="ctr">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AHMET HAMDİ TANPINAR (1901 — 1962)</a:t>
            </a:r>
            <a:endParaRPr b="0" lang="en-US" sz="22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Şiir, öykü, roman, edebiyat tarihi, makale, deneme... alanlarında eserler vermiştir.</a:t>
            </a:r>
            <a:endParaRPr b="0" lang="en-US" sz="22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Eserlerinde Doğu-Batı çatışması, “rüya” ve “zaman” kavramları, “geçmişe özlem”, “mimari” ve “musiki” öne çıkar.</a:t>
            </a:r>
            <a:endParaRPr b="0" lang="en-US" sz="22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a:t>
            </a:r>
            <a:r>
              <a:rPr b="0" lang="en-US" sz="2200" spc="-1" strike="noStrike">
                <a:solidFill>
                  <a:srgbClr val="fff39d"/>
                </a:solidFill>
                <a:latin typeface="Georgia"/>
              </a:rPr>
              <a:t>Ne içindeyim zamanın! Ne de büsbütün dışında” dizeleri onun zamanı kavrayışının özünü vermektedir.</a:t>
            </a:r>
            <a:endParaRPr b="0" lang="en-US" sz="22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a:t>
            </a:r>
            <a:r>
              <a:rPr b="0" i="1" lang="en-US" sz="2200" spc="-1" strike="noStrike">
                <a:solidFill>
                  <a:srgbClr val="fff39d"/>
                </a:solidFill>
                <a:latin typeface="Georgia"/>
              </a:rPr>
              <a:t>Bursa’da Zaman’ </a:t>
            </a:r>
            <a:r>
              <a:rPr b="0" lang="en-US" sz="2200" spc="-1" strike="noStrike">
                <a:solidFill>
                  <a:srgbClr val="fff39d"/>
                </a:solidFill>
                <a:latin typeface="Georgia"/>
              </a:rPr>
              <a:t>şiiri geniş bir kesim tarafından sevilmiştir.</a:t>
            </a:r>
            <a:endParaRPr b="0" lang="en-US" sz="22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Ahmet Haşim’in özellikle de Yahya Kemal’in etkisinde kalmış, sembolizmden etkilenmiştir.</a:t>
            </a:r>
            <a:endParaRPr b="0" lang="en-US" sz="2200" spc="-1" strike="noStrike">
              <a:solidFill>
                <a:srgbClr val="ffffff"/>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2285640" y="785880"/>
            <a:ext cx="6172200" cy="5595840"/>
          </a:xfrm>
          <a:prstGeom prst="rect">
            <a:avLst/>
          </a:prstGeom>
          <a:noFill/>
          <a:ln w="0">
            <a:noFill/>
          </a:ln>
        </p:spPr>
        <p:txBody>
          <a:bodyPr anchor="ctr">
            <a:normAutofit fontScale="99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Romanlarında psikolojik tahlillere önemle eğilen yazarın; kendine has bir üslubu vardır.</a:t>
            </a:r>
            <a:endParaRPr b="0" lang="en-US" sz="2200" spc="-1" strike="noStrike">
              <a:solidFill>
                <a:srgbClr val="ffffff"/>
              </a:solidFill>
              <a:latin typeface="Century Schoolbook"/>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Yazarlığı dışında İstanbul Üniversitesi’nde edebiyat profesörlüğü, milletvekilliği de yapmıştır.</a:t>
            </a:r>
            <a:endParaRPr b="0" lang="en-US" sz="2200" spc="-1" strike="noStrike">
              <a:solidFill>
                <a:srgbClr val="ffffff"/>
              </a:solidFill>
              <a:latin typeface="Century Schoolbook"/>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a:t>
            </a:r>
            <a:r>
              <a:rPr b="0" i="1" lang="en-US" sz="2200" spc="-1" strike="noStrike">
                <a:solidFill>
                  <a:srgbClr val="fff39d"/>
                </a:solidFill>
                <a:latin typeface="Georgia"/>
              </a:rPr>
              <a:t>Beş Şehir” </a:t>
            </a:r>
            <a:r>
              <a:rPr b="0" lang="en-US" sz="2200" spc="-1" strike="noStrike">
                <a:solidFill>
                  <a:srgbClr val="fff39d"/>
                </a:solidFill>
                <a:latin typeface="Georgia"/>
              </a:rPr>
              <a:t>adlı önemli </a:t>
            </a:r>
            <a:r>
              <a:rPr b="0" lang="en-US" sz="2200" spc="-1" strike="noStrike" u="sng">
                <a:solidFill>
                  <a:srgbClr val="fff39d"/>
                </a:solidFill>
                <a:uFillTx/>
                <a:latin typeface="Georgia"/>
              </a:rPr>
              <a:t>deneme</a:t>
            </a:r>
            <a:r>
              <a:rPr b="0" lang="en-US" sz="2200" spc="-1" strike="noStrike">
                <a:solidFill>
                  <a:srgbClr val="fff39d"/>
                </a:solidFill>
                <a:latin typeface="Georgia"/>
              </a:rPr>
              <a:t> kitabında Ankara, Erzurum, Bursa, Konya ve İstanbul’u anlatmıştır.</a:t>
            </a:r>
            <a:endParaRPr b="0" lang="en-US" sz="2200" spc="-1" strike="noStrike">
              <a:solidFill>
                <a:srgbClr val="ffffff"/>
              </a:solidFill>
              <a:latin typeface="Century Schoolbook"/>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a:t>
            </a:r>
            <a:r>
              <a:rPr b="0" i="1" lang="en-US" sz="2200" spc="-1" strike="noStrike">
                <a:solidFill>
                  <a:srgbClr val="fff39d"/>
                </a:solidFill>
                <a:latin typeface="Georgia"/>
              </a:rPr>
              <a:t>Huzur” </a:t>
            </a:r>
            <a:r>
              <a:rPr b="0" lang="en-US" sz="2200" spc="-1" strike="noStrike" u="sng">
                <a:solidFill>
                  <a:srgbClr val="fff39d"/>
                </a:solidFill>
                <a:uFillTx/>
                <a:latin typeface="Georgia"/>
              </a:rPr>
              <a:t>romanı</a:t>
            </a:r>
            <a:r>
              <a:rPr b="0" lang="en-US" sz="2200" spc="-1" strike="noStrike">
                <a:solidFill>
                  <a:srgbClr val="fff39d"/>
                </a:solidFill>
                <a:latin typeface="Georgia"/>
              </a:rPr>
              <a:t>, aşkı, psikolojiyi ve Doğu — Batı karşıtlığını içerir; roman kişilerinin adlarının verildiği dört bölümden oluşur : İhsan, Nuran, Suat ve Mümtaz.</a:t>
            </a:r>
            <a:endParaRPr b="0" lang="en-US" sz="2200" spc="-1" strike="noStrike">
              <a:solidFill>
                <a:srgbClr val="ffffff"/>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2285640" y="356760"/>
            <a:ext cx="6172200" cy="6024600"/>
          </a:xfrm>
          <a:prstGeom prst="rect">
            <a:avLst/>
          </a:prstGeom>
          <a:noFill/>
          <a:ln w="0">
            <a:noFill/>
          </a:ln>
        </p:spPr>
        <p:txBody>
          <a:bodyPr anchor="ctr">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Bütün Şiirleri</a:t>
            </a:r>
            <a:endParaRPr b="0" lang="en-US" sz="2400" spc="-1" strike="noStrike">
              <a:solidFill>
                <a:srgbClr val="ffffff"/>
              </a:solidFill>
              <a:latin typeface="Century Schoolbook"/>
            </a:endParaRPr>
          </a:p>
          <a:p>
            <a:pPr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Romanları</a:t>
            </a:r>
            <a:r>
              <a:rPr b="0" i="1" lang="en-US" sz="2400" spc="-1" strike="noStrike">
                <a:solidFill>
                  <a:srgbClr val="fff39d"/>
                </a:solidFill>
                <a:latin typeface="Georgia"/>
              </a:rPr>
              <a:t>:</a:t>
            </a:r>
            <a:r>
              <a:rPr b="0" lang="en-US" sz="2400" spc="-1" strike="noStrike">
                <a:solidFill>
                  <a:srgbClr val="fff39d"/>
                </a:solidFill>
                <a:latin typeface="Georgia"/>
              </a:rPr>
              <a:t> Mahur Beste, Saatleri Ayarlama Enstitüsü, Huzur, Sahnenin Dışındakiler, Aynadaki Kadın.</a:t>
            </a:r>
            <a:endParaRPr b="0" lang="en-US" sz="2400" spc="-1" strike="noStrike">
              <a:solidFill>
                <a:srgbClr val="ffffff"/>
              </a:solidFill>
              <a:latin typeface="Century Schoolbook"/>
            </a:endParaRPr>
          </a:p>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Öykü</a:t>
            </a:r>
            <a:r>
              <a:rPr b="0" i="1" lang="en-US" sz="2400" spc="-1" strike="noStrike">
                <a:solidFill>
                  <a:srgbClr val="fff39d"/>
                </a:solidFill>
                <a:latin typeface="Georgia"/>
              </a:rPr>
              <a:t>:</a:t>
            </a:r>
            <a:r>
              <a:rPr b="0" lang="en-US" sz="2400" spc="-1" strike="noStrike">
                <a:solidFill>
                  <a:srgbClr val="fff39d"/>
                </a:solidFill>
                <a:latin typeface="Georgia"/>
              </a:rPr>
              <a:t> Abdullah Efendi’nin Rüyaları, Yaz Yağmuru.</a:t>
            </a:r>
            <a:endParaRPr b="0" lang="en-US" sz="2400" spc="-1" strike="noStrike">
              <a:solidFill>
                <a:srgbClr val="ffffff"/>
              </a:solidFill>
              <a:latin typeface="Century Schoolbook"/>
            </a:endParaRPr>
          </a:p>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Deneme</a:t>
            </a:r>
            <a:r>
              <a:rPr b="0" i="1" lang="en-US" sz="2400" spc="-1" strike="noStrike">
                <a:solidFill>
                  <a:srgbClr val="fff39d"/>
                </a:solidFill>
                <a:latin typeface="Georgia"/>
              </a:rPr>
              <a:t>:</a:t>
            </a:r>
            <a:r>
              <a:rPr b="0" lang="en-US" sz="2400" spc="-1" strike="noStrike">
                <a:solidFill>
                  <a:srgbClr val="fff39d"/>
                </a:solidFill>
                <a:latin typeface="Georgia"/>
              </a:rPr>
              <a:t> Beş Şehir; Yaşadığım Gibi.</a:t>
            </a:r>
            <a:endParaRPr b="0" lang="en-US" sz="2400" spc="-1" strike="noStrike">
              <a:solidFill>
                <a:srgbClr val="ffffff"/>
              </a:solidFill>
              <a:latin typeface="Century Schoolbook"/>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Makale- İnceleme</a:t>
            </a:r>
            <a:r>
              <a:rPr b="0" i="1" lang="en-US" sz="2400" spc="-1" strike="noStrike">
                <a:solidFill>
                  <a:srgbClr val="fff39d"/>
                </a:solidFill>
                <a:latin typeface="Georgia"/>
              </a:rPr>
              <a:t>: </a:t>
            </a:r>
            <a:r>
              <a:rPr b="0" lang="en-US" sz="2400" spc="-1" strike="noStrike">
                <a:solidFill>
                  <a:srgbClr val="fff39d"/>
                </a:solidFill>
                <a:latin typeface="Georgia"/>
              </a:rPr>
              <a:t>Yahya Kemal, XIX. Asır Türk Edebiyatı Tarihi, Edebiyat Üzerine Makaleler</a:t>
            </a:r>
            <a:endParaRPr b="0" lang="en-US" sz="2400" spc="-1" strike="noStrike">
              <a:solidFill>
                <a:srgbClr val="ffffff"/>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142720" y="214200"/>
            <a:ext cx="6715080" cy="650088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39d"/>
                </a:solidFill>
                <a:latin typeface="Georgia"/>
              </a:rPr>
              <a:t>AHMET MUHİP DRANAS (1908— 1980)</a:t>
            </a:r>
            <a:endParaRPr b="0" lang="en-US" sz="2200" spc="-1" strike="noStrike">
              <a:solidFill>
                <a:srgbClr val="ffffff"/>
              </a:solidFill>
              <a:latin typeface="Century Schoolbook"/>
            </a:endParaRPr>
          </a:p>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Şiirleriyle tanınmakla birlikte tiyatro eserleri de vard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Fransız sembolizmiyle Türk şiir geleneğini başarıyla kaynaştırmışt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Hece ölçüsüyle biçimsel mükemmelliğe önem verdiği şiirler yazmışt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Aşk, insanın iç dünyası gibi bireysel duyguları işle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Kar, Olvido, Ağrı ve Fahriye Abla şiirleriyle sevil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Şiir</a:t>
            </a:r>
            <a:r>
              <a:rPr b="0" i="1" lang="tr-TR" sz="2200" spc="-1" strike="noStrike">
                <a:solidFill>
                  <a:srgbClr val="fff39d"/>
                </a:solidFill>
                <a:latin typeface="Georgia"/>
              </a:rPr>
              <a:t>:</a:t>
            </a:r>
            <a:r>
              <a:rPr b="0" lang="tr-TR" sz="2200" spc="-1" strike="noStrike">
                <a:solidFill>
                  <a:srgbClr val="fff39d"/>
                </a:solidFill>
                <a:latin typeface="Georgia"/>
              </a:rPr>
              <a:t> Şiirle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Oyun</a:t>
            </a:r>
            <a:r>
              <a:rPr b="0" i="1" lang="tr-TR" sz="2200" spc="-1" strike="noStrike">
                <a:solidFill>
                  <a:srgbClr val="fff39d"/>
                </a:solidFill>
                <a:latin typeface="Georgia"/>
              </a:rPr>
              <a:t>:</a:t>
            </a:r>
            <a:r>
              <a:rPr b="0" lang="tr-TR" sz="2200" spc="-1" strike="noStrike">
                <a:solidFill>
                  <a:srgbClr val="fff39d"/>
                </a:solidFill>
                <a:latin typeface="Georgia"/>
              </a:rPr>
              <a:t> Gölgeler, O Böyle İstemezdi.</a:t>
            </a:r>
            <a:endParaRPr b="0" lang="en-US" sz="2200" spc="-1" strike="noStrike">
              <a:solidFill>
                <a:srgbClr val="ffffff"/>
              </a:solidFill>
              <a:latin typeface="Century School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2143080" y="356760"/>
            <a:ext cx="6786720" cy="602460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NECİP FAZIL KISAKÜREK (1905— 1983)</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leri ve tiyatrolarıyla ün kazanmış usta bir yazard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a:t>
            </a:r>
            <a:r>
              <a:rPr b="0" i="1" lang="en-US" sz="2200" spc="-1" strike="noStrike">
                <a:solidFill>
                  <a:srgbClr val="fff39d"/>
                </a:solidFill>
                <a:latin typeface="Georgia"/>
              </a:rPr>
              <a:t>Büyük Doğu” </a:t>
            </a:r>
            <a:r>
              <a:rPr b="0" lang="en-US" sz="2200" spc="-1" strike="noStrike">
                <a:solidFill>
                  <a:srgbClr val="fff39d"/>
                </a:solidFill>
                <a:latin typeface="Georgia"/>
              </a:rPr>
              <a:t>ve “</a:t>
            </a:r>
            <a:r>
              <a:rPr b="0" i="1" lang="en-US" sz="2200" spc="-1" strike="noStrike">
                <a:solidFill>
                  <a:srgbClr val="fff39d"/>
                </a:solidFill>
                <a:latin typeface="Georgia"/>
              </a:rPr>
              <a:t>Ağaç” </a:t>
            </a:r>
            <a:r>
              <a:rPr b="0" lang="en-US" sz="2200" spc="-1" strike="noStrike">
                <a:solidFill>
                  <a:srgbClr val="fff39d"/>
                </a:solidFill>
                <a:latin typeface="Georgia"/>
              </a:rPr>
              <a:t>dergilerini çıkar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Fransız sembolistlerinden ve halk şiirinden yararlanarak heceyle kendine has, başarılı şiirler yaz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İlk dönem şiirlerinden sonra mistik konuları, madde ve ruh ilişkisini, insanın evrendeki yerini konu edinen şiirler yaz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a:t>
            </a:r>
            <a:r>
              <a:rPr b="0" i="1" lang="en-US" sz="2200" spc="-1" strike="noStrike">
                <a:solidFill>
                  <a:srgbClr val="fff39d"/>
                </a:solidFill>
                <a:latin typeface="Georgia"/>
              </a:rPr>
              <a:t>Kaldırımlar” </a:t>
            </a:r>
            <a:r>
              <a:rPr b="0" lang="en-US" sz="2200" spc="-1" strike="noStrike">
                <a:solidFill>
                  <a:srgbClr val="fff39d"/>
                </a:solidFill>
                <a:latin typeface="Georgia"/>
              </a:rPr>
              <a:t>şiiriyle geniş bir kesim tarafından tanınmış ve sevilmişt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lerini </a:t>
            </a:r>
            <a:r>
              <a:rPr b="0" i="1" lang="en-US" sz="2200" spc="-1" strike="noStrike">
                <a:solidFill>
                  <a:srgbClr val="fff39d"/>
                </a:solidFill>
                <a:latin typeface="Georgia"/>
              </a:rPr>
              <a:t>“Çile” </a:t>
            </a:r>
            <a:r>
              <a:rPr b="0" lang="en-US" sz="2200" spc="-1" strike="noStrike">
                <a:solidFill>
                  <a:srgbClr val="fff39d"/>
                </a:solidFill>
                <a:latin typeface="Georgia"/>
              </a:rPr>
              <a:t>başlığı altında bir kitapta toplamış ve bu kitapta şiir anlayışını düzyazı olarak anlatmıştır.</a:t>
            </a:r>
            <a:endParaRPr b="0" lang="en-US" sz="2200" spc="-1" strike="noStrike">
              <a:solidFill>
                <a:srgbClr val="ffffff"/>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2285640" y="428760"/>
            <a:ext cx="6172200" cy="595296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Şiir</a:t>
            </a:r>
            <a:r>
              <a:rPr b="0" i="1" lang="tr-TR" sz="2400" spc="-1" strike="noStrike">
                <a:solidFill>
                  <a:srgbClr val="fff39d"/>
                </a:solidFill>
                <a:latin typeface="Georgia"/>
              </a:rPr>
              <a:t>: </a:t>
            </a:r>
            <a:r>
              <a:rPr b="0" lang="tr-TR" sz="2400" spc="-1" strike="noStrike">
                <a:solidFill>
                  <a:srgbClr val="fff39d"/>
                </a:solidFill>
                <a:latin typeface="Georgia"/>
              </a:rPr>
              <a:t>Örümcek Ağı, Kaldırımlar, Ben ve Ötesi, Sonsuzluk Kervanı, Çil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Oyun</a:t>
            </a:r>
            <a:r>
              <a:rPr b="0" i="1" lang="tr-TR" sz="2400" spc="-1" strike="noStrike">
                <a:solidFill>
                  <a:srgbClr val="fff39d"/>
                </a:solidFill>
                <a:latin typeface="Georgia"/>
              </a:rPr>
              <a:t>: </a:t>
            </a:r>
            <a:r>
              <a:rPr b="0" lang="tr-TR" sz="2400" spc="-1" strike="noStrike">
                <a:solidFill>
                  <a:srgbClr val="fff39d"/>
                </a:solidFill>
                <a:latin typeface="Georgia"/>
              </a:rPr>
              <a:t>Tohum, Bir Adam Yaratmak, Künye, Sabırtaşı, Para, Nam-ı Diğer Parmaksız Salih, Reis Bey, Yunus Emre, Abdülhamit Han, Ahşap Konak</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Öykü</a:t>
            </a:r>
            <a:r>
              <a:rPr b="0" i="1" lang="tr-TR" sz="2400" spc="-1" strike="noStrike">
                <a:solidFill>
                  <a:srgbClr val="fff39d"/>
                </a:solidFill>
                <a:latin typeface="Georgia"/>
              </a:rPr>
              <a:t>: </a:t>
            </a:r>
            <a:r>
              <a:rPr b="0" lang="tr-TR" sz="2400" spc="-1" strike="noStrike">
                <a:solidFill>
                  <a:srgbClr val="fff39d"/>
                </a:solidFill>
                <a:latin typeface="Georgia"/>
              </a:rPr>
              <a:t>Hikayelerim</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Roman</a:t>
            </a:r>
            <a:r>
              <a:rPr b="0" i="1" lang="tr-TR" sz="2400" spc="-1" strike="noStrike">
                <a:solidFill>
                  <a:srgbClr val="fff39d"/>
                </a:solidFill>
                <a:latin typeface="Georgia"/>
              </a:rPr>
              <a:t>: </a:t>
            </a:r>
            <a:r>
              <a:rPr b="0" lang="tr-TR" sz="2400" spc="-1" strike="noStrike">
                <a:solidFill>
                  <a:srgbClr val="fff39d"/>
                </a:solidFill>
                <a:latin typeface="Georgia"/>
              </a:rPr>
              <a:t>Aynadaki Yalan</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Anı</a:t>
            </a:r>
            <a:r>
              <a:rPr b="0" i="1" lang="tr-TR" sz="2400" spc="-1" strike="noStrike">
                <a:solidFill>
                  <a:srgbClr val="fff39d"/>
                </a:solidFill>
                <a:latin typeface="Georgia"/>
              </a:rPr>
              <a:t>: </a:t>
            </a:r>
            <a:r>
              <a:rPr b="0" lang="tr-TR" sz="2400" spc="-1" strike="noStrike">
                <a:solidFill>
                  <a:srgbClr val="fff39d"/>
                </a:solidFill>
                <a:latin typeface="Georgia"/>
              </a:rPr>
              <a:t>Yılanlı Kuyudan</a:t>
            </a:r>
            <a:endParaRPr b="0" lang="en-US" sz="2400" spc="-1" strike="noStrike">
              <a:solidFill>
                <a:srgbClr val="ffffff"/>
              </a:solidFill>
              <a:latin typeface="Century School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2286000" y="285480"/>
            <a:ext cx="6500880" cy="6095880"/>
          </a:xfrm>
          <a:prstGeom prst="rect">
            <a:avLst/>
          </a:prstGeom>
          <a:noFill/>
          <a:ln w="0">
            <a:noFill/>
          </a:ln>
        </p:spPr>
        <p:txBody>
          <a:bodyPr anchor="ctr">
            <a:normAutofit fontScale="99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39d"/>
                </a:solidFill>
                <a:latin typeface="Georgia"/>
              </a:rPr>
              <a:t>ARİF NİHAT ASYA (1904— 1975)</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a:t>
            </a:r>
            <a:r>
              <a:rPr b="0" lang="en-US" sz="2000" spc="-1" strike="noStrike">
                <a:solidFill>
                  <a:srgbClr val="fff39d"/>
                </a:solidFill>
                <a:latin typeface="Georgia"/>
              </a:rPr>
              <a:t>Bayrak Şairi” olarak bilinir.</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Hece ve aruzu kullandığı şiirlerin yanı sıra serbest şiirler de yazmıştır.</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Dini ve millî duyguları, kahramanlıkları sade bir dille şiirleştirmiştir.</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Rubai türünün son ustalarındandır.</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39d"/>
                </a:solidFill>
                <a:latin typeface="Georgia"/>
              </a:rPr>
              <a:t>ESERLERİ:</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39d"/>
                </a:solidFill>
                <a:uFillTx/>
                <a:latin typeface="Georgia"/>
              </a:rPr>
              <a:t>Şiir</a:t>
            </a:r>
            <a:r>
              <a:rPr b="0" i="1" lang="en-US" sz="2000" spc="-1" strike="noStrike">
                <a:solidFill>
                  <a:srgbClr val="fff39d"/>
                </a:solidFill>
                <a:latin typeface="Georgia"/>
              </a:rPr>
              <a:t>:</a:t>
            </a:r>
            <a:r>
              <a:rPr b="0" lang="en-US" sz="2000" spc="-1" strike="noStrike">
                <a:solidFill>
                  <a:srgbClr val="fff39d"/>
                </a:solidFill>
                <a:latin typeface="Georgia"/>
              </a:rPr>
              <a:t> Bir Bayrak Rüzgâr Bekliyor, Kıbrıs Rubaileri, Köprü.</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u="sng">
                <a:solidFill>
                  <a:srgbClr val="fff39d"/>
                </a:solidFill>
                <a:uFillTx/>
                <a:latin typeface="Georgia"/>
              </a:rPr>
              <a:t>Mensur Şiir</a:t>
            </a:r>
            <a:r>
              <a:rPr b="0" i="1" lang="en-US" sz="2000" spc="-1" strike="noStrike">
                <a:solidFill>
                  <a:srgbClr val="fff39d"/>
                </a:solidFill>
                <a:latin typeface="Georgia"/>
              </a:rPr>
              <a:t>:</a:t>
            </a:r>
            <a:r>
              <a:rPr b="0" lang="en-US" sz="2000" spc="-1" strike="noStrike">
                <a:solidFill>
                  <a:srgbClr val="fff39d"/>
                </a:solidFill>
                <a:latin typeface="Georgia"/>
              </a:rPr>
              <a:t> Yastığımın Rüyası, Ayetler.</a:t>
            </a:r>
            <a:endParaRPr b="0" lang="en-US" sz="2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u="sng">
                <a:solidFill>
                  <a:srgbClr val="fff39d"/>
                </a:solidFill>
                <a:uFillTx/>
                <a:latin typeface="Georgia"/>
              </a:rPr>
              <a:t>Düzyazı</a:t>
            </a:r>
            <a:r>
              <a:rPr b="0" i="1" lang="en-US" sz="2000" spc="-1" strike="noStrike">
                <a:solidFill>
                  <a:srgbClr val="fff39d"/>
                </a:solidFill>
                <a:latin typeface="Georgia"/>
              </a:rPr>
              <a:t>:</a:t>
            </a:r>
            <a:r>
              <a:rPr b="0" lang="en-US" sz="2000" spc="-1" strike="noStrike">
                <a:solidFill>
                  <a:srgbClr val="fff39d"/>
                </a:solidFill>
                <a:latin typeface="Georgia"/>
              </a:rPr>
              <a:t> Kanatlar ve Gagalar, Terazi Kendini Tartmaz.</a:t>
            </a:r>
            <a:endParaRPr b="0" lang="en-US" sz="2000" spc="-1" strike="noStrike">
              <a:solidFill>
                <a:srgbClr val="ffffff"/>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2285640" y="785880"/>
            <a:ext cx="6172200" cy="5595840"/>
          </a:xfrm>
          <a:prstGeom prst="rect">
            <a:avLst/>
          </a:prstGeom>
          <a:noFill/>
          <a:ln w="0">
            <a:noFill/>
          </a:ln>
        </p:spPr>
        <p:txBody>
          <a:bodyPr anchor="ctr">
            <a:normAutofit fontScale="98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Özellikle 1 930’lu ve 1 940’lı yıllarda yeni akımlar ve topluluklar oluşmuştur: Yedi Meşaleciler, Birinci Yeniciler (Garipçiler), Maviciler, İkinci Yeniciler, Toplumsal Gerçekçile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umhuriyet dönemi eselerlerinde öz Türkçecilik anlayışının da etkisiyle genel olarak açık ve anlaşılır bir dil kullanılmıştı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nadolu, doğal güzellikleri, insanı, sosyal hayatı ve folkloruyla edebi eserlere yansımış, Türk tarihi ve Atatürk’le ilgili konular ağırlık kazanmış, 1940’lı yıllardan sonra ise bireysel duygu ve sorunlar da ele alınmıştır.</a:t>
            </a:r>
            <a:endParaRPr b="0" lang="en-US" sz="2400" spc="-1" strike="noStrike">
              <a:solidFill>
                <a:srgbClr val="ffffff"/>
              </a:solidFill>
              <a:latin typeface="Century School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285640" y="356760"/>
            <a:ext cx="6172200" cy="6024600"/>
          </a:xfrm>
          <a:prstGeom prst="rect">
            <a:avLst/>
          </a:prstGeom>
          <a:noFill/>
          <a:ln w="0">
            <a:noFill/>
          </a:ln>
        </p:spPr>
        <p:txBody>
          <a:bodyPr anchor="t">
            <a:normAutofit fontScale="99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39d"/>
                </a:solidFill>
                <a:latin typeface="Georgia"/>
              </a:rPr>
              <a:t>TARIK BUĞRA (1918— 1994)</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Öykü, roman, deneme ve tiyatrolarıyla tanın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Öykü ve romanlarında Türk toplumunun tarihine yönel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Psikolojik öğelere yer ver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Kurtuluş Savaşı yıllarını anlattığı ‘</a:t>
            </a:r>
            <a:r>
              <a:rPr b="0" i="1" lang="tr-TR" sz="2200" spc="-1" strike="noStrike">
                <a:solidFill>
                  <a:srgbClr val="fff39d"/>
                </a:solidFill>
                <a:latin typeface="Georgia"/>
              </a:rPr>
              <a:t>Küçük Ağa’ </a:t>
            </a:r>
            <a:r>
              <a:rPr b="0" lang="tr-TR" sz="2200" spc="-1" strike="noStrike">
                <a:solidFill>
                  <a:srgbClr val="fff39d"/>
                </a:solidFill>
                <a:latin typeface="Georgia"/>
              </a:rPr>
              <a:t>ve Osmanlı devletinin kuruluşunu anlattığı </a:t>
            </a:r>
            <a:r>
              <a:rPr b="0" i="1" lang="tr-TR" sz="2200" spc="-1" strike="noStrike">
                <a:solidFill>
                  <a:srgbClr val="fff39d"/>
                </a:solidFill>
                <a:latin typeface="Georgia"/>
              </a:rPr>
              <a:t>“Osmancık” </a:t>
            </a:r>
            <a:r>
              <a:rPr b="0" lang="tr-TR" sz="2200" spc="-1" strike="noStrike">
                <a:solidFill>
                  <a:srgbClr val="fff39d"/>
                </a:solidFill>
                <a:latin typeface="Georgia"/>
              </a:rPr>
              <a:t>romanlarıyla tanın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Roman</a:t>
            </a:r>
            <a:r>
              <a:rPr b="0" i="1" lang="tr-TR" sz="2200" spc="-1" strike="noStrike">
                <a:solidFill>
                  <a:srgbClr val="fff39d"/>
                </a:solidFill>
                <a:latin typeface="Georgia"/>
              </a:rPr>
              <a:t>:</a:t>
            </a:r>
            <a:r>
              <a:rPr b="0" lang="tr-TR" sz="2200" spc="-1" strike="noStrike">
                <a:solidFill>
                  <a:srgbClr val="fff39d"/>
                </a:solidFill>
                <a:latin typeface="Georgia"/>
              </a:rPr>
              <a:t> Küçük Ağa, Küçük Ağa Ankara’da, Osmancık, Firavun İmanı, Ibişin Rüyası</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Öykü</a:t>
            </a:r>
            <a:r>
              <a:rPr b="0" i="1" lang="tr-TR" sz="2200" spc="-1" strike="noStrike">
                <a:solidFill>
                  <a:srgbClr val="fff39d"/>
                </a:solidFill>
                <a:latin typeface="Georgia"/>
              </a:rPr>
              <a:t>:</a:t>
            </a:r>
            <a:r>
              <a:rPr b="0" lang="tr-TR" sz="2200" spc="-1" strike="noStrike">
                <a:solidFill>
                  <a:srgbClr val="fff39d"/>
                </a:solidFill>
                <a:latin typeface="Georgia"/>
              </a:rPr>
              <a:t> Yarın Diye Bir Şey Yoktur, Siyah Kehribar, Oğlumuz</a:t>
            </a:r>
            <a:endParaRPr b="0" lang="en-US" sz="2200" spc="-1" strike="noStrike">
              <a:solidFill>
                <a:srgbClr val="ffffff"/>
              </a:solidFill>
              <a:latin typeface="Century School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2285640" y="356760"/>
            <a:ext cx="6172200" cy="60246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ZİYA OSMAN SABA (1910— 1957)</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Yedi Meşaleciler içinde şiiri uzun soluklu olarak sürdüren tek kişid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Hece ölçüsüyle yazdığı şiirlerin yanında serbest şiirleri de vard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lerinde çocukluğa özlem, anılar, ev ve aile sevgisi konuları öne çıka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Öykülerinde de ağırlıklı olarak anılarından hareket etmişt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39d"/>
                </a:solidFill>
                <a:uFillTx/>
                <a:latin typeface="Georgia"/>
              </a:rPr>
              <a:t>Şiir</a:t>
            </a:r>
            <a:r>
              <a:rPr b="0" i="1" lang="en-US" sz="2200" spc="-1" strike="noStrike">
                <a:solidFill>
                  <a:srgbClr val="fff39d"/>
                </a:solidFill>
                <a:latin typeface="Georgia"/>
              </a:rPr>
              <a:t>:</a:t>
            </a:r>
            <a:r>
              <a:rPr b="0" lang="en-US" sz="2200" spc="-1" strike="noStrike">
                <a:solidFill>
                  <a:srgbClr val="fff39d"/>
                </a:solidFill>
                <a:latin typeface="Georgia"/>
              </a:rPr>
              <a:t> Sebil ve Güvercinle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39d"/>
                </a:solidFill>
                <a:uFillTx/>
                <a:latin typeface="Georgia"/>
              </a:rPr>
              <a:t>Öykü</a:t>
            </a:r>
            <a:r>
              <a:rPr b="0" lang="en-US" sz="2200" spc="-1" strike="noStrike">
                <a:solidFill>
                  <a:srgbClr val="fff39d"/>
                </a:solidFill>
                <a:latin typeface="Georgia"/>
              </a:rPr>
              <a:t>: Mesut İnsanlar Fotoğrafhanesi, Değişen İstanbul</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Schoolboo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2285640" y="1428480"/>
            <a:ext cx="6172200" cy="407196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YAŞAR NABİ NAYIR (1908— 1981)</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Yedi Meşalecilerdend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Şiirleri dışında değişik türlerde eserler de vermişt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Varlık dergisinin kurucusu olması bakımından önem taşımaktadı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 Kahramanlar, Onar Mısra</a:t>
            </a:r>
            <a:endParaRPr b="0" lang="en-US" sz="2400" spc="-1" strike="noStrike">
              <a:solidFill>
                <a:srgbClr val="ffffff"/>
              </a:solidFill>
              <a:latin typeface="Century School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2285640" y="642600"/>
            <a:ext cx="6429240" cy="573876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CEVDET KUDRET SOLOK (1907—1992)</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Yedi Meşalecilerden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de ısrarcı olamayan yazar, edebiyat araştırmalarına yönel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Deneme — Eleştiri</a:t>
            </a:r>
            <a:r>
              <a:rPr b="0" i="1" lang="en-US" sz="2400" spc="-1" strike="noStrike">
                <a:solidFill>
                  <a:srgbClr val="fff39d"/>
                </a:solidFill>
                <a:latin typeface="Georgia"/>
              </a:rPr>
              <a:t>:</a:t>
            </a:r>
            <a:r>
              <a:rPr b="0" lang="en-US" sz="2400" spc="-1" strike="noStrike">
                <a:solidFill>
                  <a:srgbClr val="fff39d"/>
                </a:solidFill>
                <a:latin typeface="Georgia"/>
              </a:rPr>
              <a:t> Dilleri Var Bizim Dile Benzemez</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Araştırma — İnceleme</a:t>
            </a:r>
            <a:r>
              <a:rPr b="0" i="1" lang="en-US" sz="2400" spc="-1" strike="noStrike">
                <a:solidFill>
                  <a:srgbClr val="fff39d"/>
                </a:solidFill>
                <a:latin typeface="Georgia"/>
              </a:rPr>
              <a:t>:</a:t>
            </a:r>
            <a:r>
              <a:rPr b="0" lang="en-US" sz="2400" spc="-1" strike="noStrike">
                <a:solidFill>
                  <a:srgbClr val="fff39d"/>
                </a:solidFill>
                <a:latin typeface="Georgia"/>
              </a:rPr>
              <a:t> Türk Edebiyatında Hikaye ve Roman, Örneklerle Edebiyat Bilgileri</a:t>
            </a:r>
            <a:endParaRPr b="0" lang="en-US" sz="2400" spc="-1" strike="noStrike">
              <a:solidFill>
                <a:srgbClr val="ffffff"/>
              </a:solidFill>
              <a:latin typeface="Century School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286000" y="213840"/>
            <a:ext cx="6500880" cy="63579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39d"/>
                </a:solidFill>
                <a:latin typeface="Georgia"/>
              </a:rPr>
              <a:t>ORHAN VELİ KANIK (1914— 1950)</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Garip Akımının öncüsüdü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Şiiriyle eski şiir geleneğini yıkmış bir şaird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Şiirde klişelere, şairaneliğe, benzetmelere, ölçüye, uyağa vb. karşı çık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Sokaktaki sade vatandaşı, onların dilini kullanarak anlat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Garip dönemi öncesinde klasik şiirler yazmış olan şair, ömrünün son yıllarında şiirlerinde halk şiirinden yararlan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Kitabe-i Seng-i Mezar, Anlatamıyorum, Hürriyete Doğru, İstanbul’u Dinliyorum vb. şiirleriyle tanınmış ve sevilmişt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a:t>
            </a:r>
            <a:r>
              <a:rPr b="0" i="1" lang="tr-TR" sz="2200" spc="-1" strike="noStrike">
                <a:solidFill>
                  <a:srgbClr val="fff39d"/>
                </a:solidFill>
                <a:latin typeface="Georgia"/>
              </a:rPr>
              <a:t>Garip’ in </a:t>
            </a:r>
            <a:r>
              <a:rPr b="0" lang="tr-TR" sz="2200" spc="-1" strike="noStrike">
                <a:solidFill>
                  <a:srgbClr val="fff39d"/>
                </a:solidFill>
                <a:latin typeface="Georgia"/>
              </a:rPr>
              <a:t>ön sözünü de o kaleme al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Sürrealizmden etkilenmiştir.</a:t>
            </a:r>
            <a:endParaRPr b="0" lang="en-US" sz="2200" spc="-1" strike="noStrike">
              <a:solidFill>
                <a:srgbClr val="ffffff"/>
              </a:solidFill>
              <a:latin typeface="Century School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2285640" y="1928520"/>
            <a:ext cx="6172200" cy="2857320"/>
          </a:xfrm>
          <a:prstGeom prst="rect">
            <a:avLst/>
          </a:prstGeom>
          <a:noFill/>
          <a:ln w="0">
            <a:noFill/>
          </a:ln>
        </p:spPr>
        <p:txBody>
          <a:bodyPr anchor="ctr">
            <a:normAutofit fontScale="94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Şiir</a:t>
            </a:r>
            <a:r>
              <a:rPr b="0" i="1" lang="tr-TR" sz="2400" spc="-1" strike="noStrike">
                <a:solidFill>
                  <a:srgbClr val="fff39d"/>
                </a:solidFill>
                <a:latin typeface="Georgia"/>
              </a:rPr>
              <a:t>:</a:t>
            </a:r>
            <a:r>
              <a:rPr b="0" lang="tr-TR" sz="2400" spc="-1" strike="noStrike">
                <a:solidFill>
                  <a:srgbClr val="fff39d"/>
                </a:solidFill>
                <a:latin typeface="Georgia"/>
              </a:rPr>
              <a:t> Garip, Vazgeçemediğim, Destan Gibi, Yenisi, Karş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Çocuk şiirleri</a:t>
            </a:r>
            <a:r>
              <a:rPr b="0" i="1" lang="tr-TR" sz="2400" spc="-1" strike="noStrike">
                <a:solidFill>
                  <a:srgbClr val="fff39d"/>
                </a:solidFill>
                <a:latin typeface="Georgia"/>
              </a:rPr>
              <a:t>:</a:t>
            </a:r>
            <a:r>
              <a:rPr b="0" lang="tr-TR" sz="2400" spc="-1" strike="noStrike">
                <a:solidFill>
                  <a:srgbClr val="fff39d"/>
                </a:solidFill>
                <a:latin typeface="Georgia"/>
              </a:rPr>
              <a:t> Nasreddin Hoca Hikayeleri, La Fontaine’ den Masallar (çeviri)</a:t>
            </a:r>
            <a:endParaRPr b="0" lang="en-US" sz="2400" spc="-1" strike="noStrike">
              <a:solidFill>
                <a:srgbClr val="ffffff"/>
              </a:solidFill>
              <a:latin typeface="Century Schoolbook"/>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2285640" y="500040"/>
            <a:ext cx="6172200" cy="588168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39d"/>
                </a:solidFill>
                <a:latin typeface="Georgia"/>
              </a:rPr>
              <a:t>MELİH CEVDET ANDAY (1916 — 2002)</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Garip akımının öncülerindend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Şiirin dışında roman, oyun, deneme, gezi türlerinde önemli eserler ver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Garip tarzı şiirlerinin ardından “zaman” sorunu etrafında, mitolojiden ve tarihten beslenen bir şiire yönel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Şiir</a:t>
            </a:r>
            <a:r>
              <a:rPr b="0" i="1" lang="tr-TR" sz="2200" spc="-1" strike="noStrike">
                <a:solidFill>
                  <a:srgbClr val="fff39d"/>
                </a:solidFill>
                <a:latin typeface="Georgia"/>
              </a:rPr>
              <a:t>:</a:t>
            </a:r>
            <a:r>
              <a:rPr b="0" lang="tr-TR" sz="2200" spc="-1" strike="noStrike">
                <a:solidFill>
                  <a:srgbClr val="fff39d"/>
                </a:solidFill>
                <a:latin typeface="Georgia"/>
              </a:rPr>
              <a:t> Garip, Rahatı Kaçan Ağaç, Telgrafhane, Kolları Bağlı Odysseus.</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Oyun</a:t>
            </a:r>
            <a:r>
              <a:rPr b="0" i="1" lang="tr-TR" sz="2200" spc="-1" strike="noStrike">
                <a:solidFill>
                  <a:srgbClr val="fff39d"/>
                </a:solidFill>
                <a:latin typeface="Georgia"/>
              </a:rPr>
              <a:t>:</a:t>
            </a:r>
            <a:r>
              <a:rPr b="0" lang="tr-TR" sz="2200" spc="-1" strike="noStrike">
                <a:solidFill>
                  <a:srgbClr val="fff39d"/>
                </a:solidFill>
                <a:latin typeface="Georgia"/>
              </a:rPr>
              <a:t> Mikado’nun Çöpleri</a:t>
            </a:r>
            <a:endParaRPr b="0" lang="en-US" sz="2200" spc="-1" strike="noStrike">
              <a:solidFill>
                <a:srgbClr val="ffffff"/>
              </a:solidFill>
              <a:latin typeface="Century School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5640" y="713880"/>
            <a:ext cx="6172200" cy="5667480"/>
          </a:xfrm>
          <a:prstGeom prst="rect">
            <a:avLst/>
          </a:prstGeom>
          <a:noFill/>
          <a:ln w="0">
            <a:noFill/>
          </a:ln>
        </p:spPr>
        <p:txBody>
          <a:bodyPr anchor="ctr">
            <a:normAutofit fontScale="97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OKTAY RİFAT HOROZCU (1914 —1988)</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Garip akımının öncülerinden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Garip döneminden sonra </a:t>
            </a:r>
            <a:r>
              <a:rPr b="0" i="1" lang="en-US" sz="2400" spc="-1" strike="noStrike">
                <a:solidFill>
                  <a:srgbClr val="fff39d"/>
                </a:solidFill>
                <a:latin typeface="Georgia"/>
              </a:rPr>
              <a:t>‘Perçemli Sokak’ </a:t>
            </a:r>
            <a:r>
              <a:rPr b="0" lang="en-US" sz="2400" spc="-1" strike="noStrike">
                <a:solidFill>
                  <a:srgbClr val="fff39d"/>
                </a:solidFill>
                <a:latin typeface="Georgia"/>
              </a:rPr>
              <a:t>kitabıyla II. Yeni tarzı şiirler yaz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Folklordan yararlandığı toplumcu çizgiye yakın durduğu eserler de ortaya koymuştu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Garip, Perçemli Sokak, Karga ile Tilki, Aşık Merdiveni.</a:t>
            </a:r>
            <a:endParaRPr b="0" lang="en-US" sz="2400" spc="-1" strike="noStrike">
              <a:solidFill>
                <a:srgbClr val="ffffff"/>
              </a:solidFill>
              <a:latin typeface="Century Schoolboo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2285640" y="428760"/>
            <a:ext cx="6429240" cy="5952960"/>
          </a:xfrm>
          <a:prstGeom prst="rect">
            <a:avLst/>
          </a:prstGeom>
          <a:noFill/>
          <a:ln w="0">
            <a:noFill/>
          </a:ln>
        </p:spPr>
        <p:txBody>
          <a:bodyPr anchor="t">
            <a:normAutofit fontScale="99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KEMAL TAHİR (1910—1973)</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Toplumcu gerçekçi bir romancıd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Cezaevi yaşamını, Kurtuluş Savaşı’nı, tarihi, köy yaşamını ve eşkıya hikayelerini konu edindiği romanlarıyla tanın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Tasvire önem veren yazar, eserlerinde anlaşılır bir dil ve yalın bir anlatım kullan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Osmanlının kuruluşunu anlattığı, Osmanlı toplumunun gelişim sürecinin Batı’dan farklı olduğunu ileri sürdüğü tezli romanı </a:t>
            </a:r>
            <a:r>
              <a:rPr b="0" i="1" lang="en-US" sz="2200" spc="-1" strike="noStrike">
                <a:solidFill>
                  <a:srgbClr val="fff39d"/>
                </a:solidFill>
                <a:latin typeface="Georgia"/>
              </a:rPr>
              <a:t>“Devlet Ana” </a:t>
            </a:r>
            <a:r>
              <a:rPr b="0" lang="en-US" sz="2200" spc="-1" strike="noStrike">
                <a:solidFill>
                  <a:srgbClr val="fff39d"/>
                </a:solidFill>
                <a:latin typeface="Georgia"/>
              </a:rPr>
              <a:t>romanıyla ve Kurtuluş Savaşı yıllarını konu edindiği </a:t>
            </a:r>
            <a:r>
              <a:rPr b="0" i="1" lang="en-US" sz="2200" spc="-1" strike="noStrike">
                <a:solidFill>
                  <a:srgbClr val="fff39d"/>
                </a:solidFill>
                <a:latin typeface="Georgia"/>
              </a:rPr>
              <a:t>“Yorgun Savaşçı” </a:t>
            </a:r>
            <a:r>
              <a:rPr b="0" lang="en-US" sz="2200" spc="-1" strike="noStrike">
                <a:solidFill>
                  <a:srgbClr val="fff39d"/>
                </a:solidFill>
                <a:latin typeface="Georgia"/>
              </a:rPr>
              <a:t>romanlarıyla tanınmıştır.</a:t>
            </a:r>
            <a:endParaRPr b="0" lang="en-US" sz="2200" spc="-1" strike="noStrike">
              <a:solidFill>
                <a:srgbClr val="ffffff"/>
              </a:solidFill>
              <a:latin typeface="Century School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2285640" y="2428920"/>
            <a:ext cx="6172200" cy="30002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Roman</a:t>
            </a:r>
            <a:r>
              <a:rPr b="0" i="1" lang="en-US" sz="2400" spc="-1" strike="noStrike">
                <a:solidFill>
                  <a:srgbClr val="fff39d"/>
                </a:solidFill>
                <a:latin typeface="Georgia"/>
              </a:rPr>
              <a:t>:</a:t>
            </a:r>
            <a:r>
              <a:rPr b="0" lang="en-US" sz="2400" spc="-1" strike="noStrike">
                <a:solidFill>
                  <a:srgbClr val="fff39d"/>
                </a:solidFill>
                <a:latin typeface="Georgia"/>
              </a:rPr>
              <a:t> Devlet Ana, Yorgun Savaşçı, Esir Şehrin İnsanları, Rahmet Yolları Kesti, Esir Şehrin Mahpusu, Bozkırdaki Çekirdek, Kurt Kanunu.</a:t>
            </a:r>
            <a:endParaRPr b="0" lang="en-US" sz="2400" spc="-1" strike="noStrike">
              <a:solidFill>
                <a:srgbClr val="ffffff"/>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2285640" y="928440"/>
            <a:ext cx="6172200" cy="5452920"/>
          </a:xfrm>
          <a:prstGeom prst="rect">
            <a:avLst/>
          </a:prstGeom>
          <a:noFill/>
          <a:ln w="0">
            <a:noFill/>
          </a:ln>
        </p:spPr>
        <p:txBody>
          <a:bodyPr anchor="ctr">
            <a:normAutofit fontScale="9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ünyaya açılma ve çağdaşlaşma çabaları edebiyatı da etkilemiş; Dünya edebiyatı daha yakından takip edilmişt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ünya edebiyatıyla kurulan bağlar sonucunda; toplumsal gerçekçilik, varoluşçuluk, dışavurumculuk, gerçeküstücülük, gelecekçilik gibi akımların etkisinde ürünler verilmişt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İlk yıllarda genellikle Halk edebiyatı nazım şekilleri ve hece ölçüsü kullanılmış; 1 940’lı yıllardan sonra ise serbest şiir yaygınlaşmış, aruzu sürdürenler oldukça azalmıştır.</a:t>
            </a:r>
            <a:endParaRPr b="0" lang="en-US" sz="2400" spc="-1" strike="noStrike">
              <a:solidFill>
                <a:srgbClr val="ffffff"/>
              </a:solidFill>
              <a:latin typeface="Century Schoolboo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2285640" y="1214280"/>
            <a:ext cx="6172200" cy="51674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AZİZ NESİN (1916— 1995)</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Toplumcu gerçekçi bir yaz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ünyaca tanınmış mizahi öykü yazarı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Roman</a:t>
            </a:r>
            <a:r>
              <a:rPr b="0" i="1" lang="tr-TR" sz="2400" spc="-1" strike="noStrike">
                <a:solidFill>
                  <a:srgbClr val="fff39d"/>
                </a:solidFill>
                <a:latin typeface="Georgia"/>
              </a:rPr>
              <a:t>:</a:t>
            </a:r>
            <a:r>
              <a:rPr b="0" lang="tr-TR" sz="2400" spc="-1" strike="noStrike">
                <a:solidFill>
                  <a:srgbClr val="fff39d"/>
                </a:solidFill>
                <a:latin typeface="Georgia"/>
              </a:rPr>
              <a:t> Yaşar Ne Yaşar Ne Yaşamaz</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Öykü</a:t>
            </a:r>
            <a:r>
              <a:rPr b="0" i="1" lang="tr-TR" sz="2400" spc="-1" strike="noStrike">
                <a:solidFill>
                  <a:srgbClr val="fff39d"/>
                </a:solidFill>
                <a:latin typeface="Georgia"/>
              </a:rPr>
              <a:t>:</a:t>
            </a:r>
            <a:r>
              <a:rPr b="0" lang="tr-TR" sz="2400" spc="-1" strike="noStrike">
                <a:solidFill>
                  <a:srgbClr val="fff39d"/>
                </a:solidFill>
                <a:latin typeface="Georgia"/>
              </a:rPr>
              <a:t> Toros Canavarı, Damda Deli Var, Fil Hamdi, Sizin Memlekette Eşek Yok Mu?</a:t>
            </a:r>
            <a:endParaRPr b="0" lang="en-US" sz="2400" spc="-1" strike="noStrike">
              <a:solidFill>
                <a:srgbClr val="ffffff"/>
              </a:solidFill>
              <a:latin typeface="Century Schoolboo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2285640" y="857160"/>
            <a:ext cx="6172200" cy="5524560"/>
          </a:xfrm>
          <a:prstGeom prst="rect">
            <a:avLst/>
          </a:prstGeom>
          <a:noFill/>
          <a:ln w="0">
            <a:noFill/>
          </a:ln>
        </p:spPr>
        <p:txBody>
          <a:bodyPr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ORHAN KEMAL (1914— 1973)</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Toplumcu gerçekçi bir yazard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Gerçek adı “Mehmet Raşit Öğütçü” olan yazar daha çok öyküleriyle tanın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Öyküleri dışında oyun, roman ve film senaryoları da yaz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Öykü ve roman kişilerini konuşturmadaki ustalığı dikkat çek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Çukurova’nın sanayileşmesini ve işçi sorunlarını, tarımın makineleşmesi ve ırgatların sıkıntılarını, mahpusları, bekçileri gardiyanları... konu edinmiştir.</a:t>
            </a:r>
            <a:endParaRPr b="0" lang="en-US" sz="2200" spc="-1" strike="noStrike">
              <a:solidFill>
                <a:srgbClr val="ffffff"/>
              </a:solidFill>
              <a:latin typeface="Century School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2285640" y="1499760"/>
            <a:ext cx="6172200" cy="435780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Öykü</a:t>
            </a:r>
            <a:r>
              <a:rPr b="0" i="1" lang="tr-TR" sz="2400" spc="-1" strike="noStrike">
                <a:solidFill>
                  <a:srgbClr val="fff39d"/>
                </a:solidFill>
                <a:latin typeface="Georgia"/>
              </a:rPr>
              <a:t>:</a:t>
            </a:r>
            <a:r>
              <a:rPr b="0" lang="tr-TR" sz="2400" spc="-1" strike="noStrike">
                <a:solidFill>
                  <a:srgbClr val="fff39d"/>
                </a:solidFill>
                <a:latin typeface="Georgia"/>
              </a:rPr>
              <a:t> Ekmek Kavgası, 72. Koğuş, Önce Ekmek, Mahalle Kavgas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Roman</a:t>
            </a:r>
            <a:r>
              <a:rPr b="0" i="1" lang="tr-TR" sz="2400" spc="-1" strike="noStrike">
                <a:solidFill>
                  <a:srgbClr val="fff39d"/>
                </a:solidFill>
                <a:latin typeface="Georgia"/>
              </a:rPr>
              <a:t>:</a:t>
            </a:r>
            <a:r>
              <a:rPr b="0" lang="tr-TR" sz="2400" spc="-1" strike="noStrike">
                <a:solidFill>
                  <a:srgbClr val="fff39d"/>
                </a:solidFill>
                <a:latin typeface="Georgia"/>
              </a:rPr>
              <a:t> Baba Evi, Murtaza, Cemile, Bereketli Topraklar Üzerinde, Hanımın Çiftliği, Avare Yıllar, Gurbet Kuşları.</a:t>
            </a:r>
            <a:endParaRPr b="0" lang="en-US" sz="2400" spc="-1" strike="noStrike">
              <a:solidFill>
                <a:srgbClr val="ffffff"/>
              </a:solidFill>
              <a:latin typeface="Century School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2285640" y="785880"/>
            <a:ext cx="6172200" cy="5595840"/>
          </a:xfrm>
          <a:prstGeom prst="rect">
            <a:avLst/>
          </a:prstGeom>
          <a:noFill/>
          <a:ln w="0">
            <a:noFill/>
          </a:ln>
        </p:spPr>
        <p:txBody>
          <a:bodyPr anchor="ctr">
            <a:normAutofit fontScale="97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YAŞAR KEMAL (1922—)</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Toplumcu gerçekçi bir yaz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Gerçek adı Kemal Sadık Göğçeli’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dını ilk olarak Cumhuriyet gazetesindeki röportajlarıyla duyurmuştu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İlk romanı </a:t>
            </a:r>
            <a:r>
              <a:rPr b="0" i="1" lang="tr-TR" sz="2400" spc="-1" strike="noStrike">
                <a:solidFill>
                  <a:srgbClr val="fff39d"/>
                </a:solidFill>
                <a:latin typeface="Georgia"/>
              </a:rPr>
              <a:t>“İnce Memed”</a:t>
            </a:r>
            <a:r>
              <a:rPr b="0" lang="tr-TR" sz="2400" spc="-1" strike="noStrike">
                <a:solidFill>
                  <a:srgbClr val="fff39d"/>
                </a:solidFill>
                <a:latin typeface="Georgia"/>
              </a:rPr>
              <a:t>le büyük ün kazanmış ve romancı kimliği öne çıkar olmuştu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Türk edebiyatının olduğu kadar dünya edebiyatının da önemli romancılarındandır.</a:t>
            </a:r>
            <a:endParaRPr b="0" lang="en-US" sz="2400" spc="-1" strike="noStrike">
              <a:solidFill>
                <a:srgbClr val="ffffff"/>
              </a:solidFill>
              <a:latin typeface="Century School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2285640" y="404640"/>
            <a:ext cx="6172200" cy="6096240"/>
          </a:xfrm>
          <a:prstGeom prst="rect">
            <a:avLst/>
          </a:prstGeom>
          <a:noFill/>
          <a:ln w="0">
            <a:noFill/>
          </a:ln>
        </p:spPr>
        <p:txBody>
          <a:bodyPr anchor="ctr">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Çukurova’yı insanıyla, sorunlarıyla doğasıyla destansı bir dille anlat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Romanlarında doğayı ustaca ve ayrıntılı olarak betimle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Masallardan, ağıtlardan, halk hikayelerinden, efsanelerden ustaca yararlanmayı bil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Roman</a:t>
            </a:r>
            <a:r>
              <a:rPr b="0" i="1" lang="tr-TR" sz="2200" spc="-1" strike="noStrike">
                <a:solidFill>
                  <a:srgbClr val="fff39d"/>
                </a:solidFill>
                <a:latin typeface="Georgia"/>
              </a:rPr>
              <a:t>:</a:t>
            </a:r>
            <a:r>
              <a:rPr b="0" lang="tr-TR" sz="2200" spc="-1" strike="noStrike">
                <a:solidFill>
                  <a:srgbClr val="fff39d"/>
                </a:solidFill>
                <a:latin typeface="Georgia"/>
              </a:rPr>
              <a:t> İnce Memed, Yer Demir Gök Bakır, Demirciler Çarşısı Cinayeti, Orta Direk, Teneke, Yılanı Öldürseler, Yusufçuk Yusuf.</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Öykü</a:t>
            </a:r>
            <a:r>
              <a:rPr b="0" i="1" lang="tr-TR" sz="2200" spc="-1" strike="noStrike">
                <a:solidFill>
                  <a:srgbClr val="fff39d"/>
                </a:solidFill>
                <a:latin typeface="Georgia"/>
              </a:rPr>
              <a:t>:</a:t>
            </a:r>
            <a:r>
              <a:rPr b="0" lang="tr-TR" sz="2200" spc="-1" strike="noStrike">
                <a:solidFill>
                  <a:srgbClr val="fff39d"/>
                </a:solidFill>
                <a:latin typeface="Georgia"/>
              </a:rPr>
              <a:t> Sarı Sıcak</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Röportaj</a:t>
            </a:r>
            <a:r>
              <a:rPr b="0" i="1" lang="tr-TR" sz="2200" spc="-1" strike="noStrike">
                <a:solidFill>
                  <a:srgbClr val="fff39d"/>
                </a:solidFill>
                <a:latin typeface="Georgia"/>
              </a:rPr>
              <a:t>:</a:t>
            </a:r>
            <a:r>
              <a:rPr b="0" lang="tr-TR" sz="2200" spc="-1" strike="noStrike">
                <a:solidFill>
                  <a:srgbClr val="fff39d"/>
                </a:solidFill>
                <a:latin typeface="Georgia"/>
              </a:rPr>
              <a:t> Bu Diyar Baştan Başa</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Derleme </a:t>
            </a:r>
            <a:r>
              <a:rPr b="0" lang="tr-TR" sz="2200" spc="-1" strike="noStrike" u="sng">
                <a:solidFill>
                  <a:srgbClr val="fff39d"/>
                </a:solidFill>
                <a:uFillTx/>
                <a:latin typeface="Georgia"/>
              </a:rPr>
              <a:t>(Özgün Anlatı)</a:t>
            </a:r>
            <a:r>
              <a:rPr b="0" lang="tr-TR" sz="2200" spc="-1" strike="noStrike">
                <a:solidFill>
                  <a:srgbClr val="fff39d"/>
                </a:solidFill>
                <a:latin typeface="Georgia"/>
              </a:rPr>
              <a:t>: Üç Anadolu Efsanesi</a:t>
            </a:r>
            <a:endParaRPr b="0" lang="en-US" sz="2200" spc="-1" strike="noStrike">
              <a:solidFill>
                <a:srgbClr val="ffffff"/>
              </a:solidFill>
              <a:latin typeface="Century Schoolbook"/>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2285640" y="214200"/>
            <a:ext cx="6172200" cy="6167520"/>
          </a:xfrm>
          <a:prstGeom prst="rect">
            <a:avLst/>
          </a:prstGeom>
          <a:noFill/>
          <a:ln w="0">
            <a:noFill/>
          </a:ln>
        </p:spPr>
        <p:txBody>
          <a:bodyPr anchor="ctr">
            <a:normAutofit fontScale="93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BEHÇET NECATİGİL (1916—1979)</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umhuriyet dönemi Türk şiirinde kendi çizgisini yaratmış şairlerdend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Heceyi kullandığı şiirleri olmakla birlikte ağırlıklı olarak serbest şiirler yazmıştı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 geleneğinden ustaca esinlenmeyi bilen söyleyişi rahat, samımı bir şiiri vardı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üyük kentte yaşayan orta tabaka insanının yaşantısını, bunalımlarını, ev-aile sorunlarını, geçim sıkıntısını işlemişt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leri kadar radyo oyunları da önemlidir.</a:t>
            </a:r>
            <a:endParaRPr b="0" lang="en-US" sz="2400" spc="-1" strike="noStrike">
              <a:solidFill>
                <a:srgbClr val="ffffff"/>
              </a:solidFill>
              <a:latin typeface="Century Schoolbook"/>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2285640" y="928800"/>
            <a:ext cx="6172200" cy="492912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Kapalıçarşı, Evler, Divançe, Arada, Çevre, Eski Toprak</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Radyo Oyunu</a:t>
            </a:r>
            <a:r>
              <a:rPr b="0" i="1" lang="en-US" sz="2400" spc="-1" strike="noStrike">
                <a:solidFill>
                  <a:srgbClr val="fff39d"/>
                </a:solidFill>
                <a:latin typeface="Georgia"/>
              </a:rPr>
              <a:t>:</a:t>
            </a:r>
            <a:r>
              <a:rPr b="0" lang="en-US" sz="2400" spc="-1" strike="noStrike">
                <a:solidFill>
                  <a:srgbClr val="fff39d"/>
                </a:solidFill>
                <a:latin typeface="Georgia"/>
              </a:rPr>
              <a:t> Yıldızlara Bakmak, Uç Turunçla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Araştırma-Biyografi</a:t>
            </a:r>
            <a:r>
              <a:rPr b="0" i="1" lang="en-US" sz="2400" spc="-1" strike="noStrike">
                <a:solidFill>
                  <a:srgbClr val="fff39d"/>
                </a:solidFill>
                <a:latin typeface="Georgia"/>
              </a:rPr>
              <a:t>:</a:t>
            </a:r>
            <a:r>
              <a:rPr b="0" lang="en-US" sz="2400" spc="-1" strike="noStrike">
                <a:solidFill>
                  <a:srgbClr val="fff39d"/>
                </a:solidFill>
                <a:latin typeface="Georgia"/>
              </a:rPr>
              <a:t> Edebiyatımızda İsimler Sözlüğü</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Araştırma</a:t>
            </a:r>
            <a:r>
              <a:rPr b="0" i="1" lang="en-US" sz="2400" spc="-1" strike="noStrike">
                <a:solidFill>
                  <a:srgbClr val="fff39d"/>
                </a:solidFill>
                <a:latin typeface="Georgia"/>
              </a:rPr>
              <a:t>:</a:t>
            </a:r>
            <a:r>
              <a:rPr b="0" lang="en-US" sz="2400" spc="-1" strike="noStrike">
                <a:solidFill>
                  <a:srgbClr val="fff39d"/>
                </a:solidFill>
                <a:latin typeface="Georgia"/>
              </a:rPr>
              <a:t> Edebiyatımızda Eserler Sözlüğü</a:t>
            </a:r>
            <a:endParaRPr b="0" lang="en-US" sz="2400" spc="-1" strike="noStrike">
              <a:solidFill>
                <a:srgbClr val="ffffff"/>
              </a:solidFill>
              <a:latin typeface="Century Schoolboo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0" y="428400"/>
            <a:ext cx="6500880" cy="6143400"/>
          </a:xfrm>
          <a:prstGeom prst="rect">
            <a:avLst/>
          </a:prstGeom>
          <a:noFill/>
          <a:ln w="0">
            <a:noFill/>
          </a:ln>
        </p:spPr>
        <p:txBody>
          <a:bodyPr anchor="ctr">
            <a:normAutofit fontScale="95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CAHİT SITKI TARANCI (1910— 1956)</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Otuz Beş Yaş, Desem ki ve Gün Eksilmesin Penceremden şiirleriyle tanın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lerinin çoğunda ölüm konusunu işle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Romantizm ve sembolizmden etkilen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Hece ölçüsüyle yazdığı şiirleri de serbest şiirleri de vardı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de biçime, kafiyeye ve ahenge önem vermiştir.</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Şiir:</a:t>
            </a:r>
            <a:r>
              <a:rPr b="0" lang="en-US" sz="2200" spc="-1" strike="noStrike">
                <a:solidFill>
                  <a:srgbClr val="fff39d"/>
                </a:solidFill>
                <a:latin typeface="Georgia"/>
              </a:rPr>
              <a:t> Otuz Beş Yaş, Düşten Güzel, Ömrümde Sükut, Sonrası</a:t>
            </a:r>
            <a:endParaRPr b="0" lang="en-US" sz="2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Mektup:</a:t>
            </a:r>
            <a:r>
              <a:rPr b="0" lang="en-US" sz="2200" spc="-1" strike="noStrike">
                <a:solidFill>
                  <a:srgbClr val="fff39d"/>
                </a:solidFill>
                <a:latin typeface="Georgia"/>
              </a:rPr>
              <a:t> Ziya’ya Mektuplar</a:t>
            </a:r>
            <a:endParaRPr b="0" lang="en-US" sz="2200" spc="-1" strike="noStrike">
              <a:solidFill>
                <a:srgbClr val="ffffff"/>
              </a:solidFill>
              <a:latin typeface="Century Schoolboo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285640" y="857160"/>
            <a:ext cx="6172200" cy="5238720"/>
          </a:xfrm>
          <a:prstGeom prst="rect">
            <a:avLst/>
          </a:prstGeom>
          <a:noFill/>
          <a:ln w="0">
            <a:noFill/>
          </a:ln>
        </p:spPr>
        <p:txBody>
          <a:bodyPr anchor="ctr">
            <a:normAutofit fontScale="96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AHMET KUTSİ TECER (1901 — 1967)</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a:t>
            </a:r>
            <a:r>
              <a:rPr b="0" i="1" lang="tr-TR" sz="2400" spc="-1" strike="noStrike">
                <a:solidFill>
                  <a:srgbClr val="fff39d"/>
                </a:solidFill>
                <a:latin typeface="Georgia"/>
              </a:rPr>
              <a:t>Neredesin?” </a:t>
            </a:r>
            <a:r>
              <a:rPr b="0" lang="tr-TR" sz="2400" spc="-1" strike="noStrike">
                <a:solidFill>
                  <a:srgbClr val="fff39d"/>
                </a:solidFill>
                <a:latin typeface="Georgia"/>
              </a:rPr>
              <a:t>şiiriyle tanınmış ve sevil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Şair ve oyun yazarı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Halk şiiri geleneğine bağlı bir şairidir; Aşık Veysel’i edebiyat dünyamıza o tanıt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Şiir</a:t>
            </a:r>
            <a:r>
              <a:rPr b="0" i="1" lang="tr-TR" sz="2400" spc="-1" strike="noStrike">
                <a:solidFill>
                  <a:srgbClr val="fff39d"/>
                </a:solidFill>
                <a:latin typeface="Georgia"/>
              </a:rPr>
              <a:t>:</a:t>
            </a:r>
            <a:r>
              <a:rPr b="0" lang="tr-TR" sz="2400" spc="-1" strike="noStrike">
                <a:solidFill>
                  <a:srgbClr val="fff39d"/>
                </a:solidFill>
                <a:latin typeface="Georgia"/>
              </a:rPr>
              <a:t> Şiirle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Oyunları</a:t>
            </a:r>
            <a:r>
              <a:rPr b="0" i="1" lang="tr-TR" sz="2400" spc="-1" strike="noStrike">
                <a:solidFill>
                  <a:srgbClr val="fff39d"/>
                </a:solidFill>
                <a:latin typeface="Georgia"/>
              </a:rPr>
              <a:t>:</a:t>
            </a:r>
            <a:r>
              <a:rPr b="0" lang="tr-TR" sz="2400" spc="-1" strike="noStrike">
                <a:solidFill>
                  <a:srgbClr val="fff39d"/>
                </a:solidFill>
                <a:latin typeface="Georgia"/>
              </a:rPr>
              <a:t> Koçyiğit Köroğlu, Köşebaşı.</a:t>
            </a:r>
            <a:endParaRPr b="0" lang="en-US" sz="2400" spc="-1" strike="noStrike">
              <a:solidFill>
                <a:srgbClr val="ffffff"/>
              </a:solidFill>
              <a:latin typeface="Century School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2143080" y="1000080"/>
            <a:ext cx="6572160" cy="51674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SABAHATTİN EYÜBOĞLU (1908— 1973)</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eneme ustalarında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raştırma ve incelemeleri de v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Deneme</a:t>
            </a:r>
            <a:r>
              <a:rPr b="0" i="1" lang="en-US" sz="2400" spc="-1" strike="noStrike">
                <a:solidFill>
                  <a:srgbClr val="fff39d"/>
                </a:solidFill>
                <a:latin typeface="Georgia"/>
              </a:rPr>
              <a:t>:</a:t>
            </a:r>
            <a:r>
              <a:rPr b="0" lang="en-US" sz="2400" spc="-1" strike="noStrike">
                <a:solidFill>
                  <a:srgbClr val="fff39d"/>
                </a:solidFill>
                <a:latin typeface="Georgia"/>
              </a:rPr>
              <a:t> Mavi ve Kara, Sanat Üzerine Denemeler</a:t>
            </a:r>
            <a:endParaRPr b="0" lang="en-US" sz="2400" spc="-1" strike="noStrike">
              <a:solidFill>
                <a:srgbClr val="ffffff"/>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285640" y="428760"/>
            <a:ext cx="6172200" cy="5952960"/>
          </a:xfrm>
          <a:prstGeom prst="rect">
            <a:avLst/>
          </a:prstGeom>
          <a:noFill/>
          <a:ln w="0">
            <a:noFill/>
          </a:ln>
        </p:spPr>
        <p:txBody>
          <a:bodyPr anchor="ctr">
            <a:normAutofit fontScale="96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Roman ve hikayelerde toplumsal ve kültürel farklılıklar, ülke ve toplum sorunları, Kurtuluş Savaşı, eski-yeni çatışması, köy ve kasaba insanın çelişkileri, tarihi konular, yanlış Batılılaşma konuları ağırlıkla işlen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Tiyatro, yeni Cumhuriyetin ilkelerini halka aktarmada bir araç olarak hızla yaygınlaşmaya başlamıştır; çocuk tiyatrosu çalışmaları yapılmış, kadınlar sahnede daha çok yer almaya başlamış, Devlet Konservatuarı açıl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Deneme, eleştiri, edebiyat tarihi alanlarında Cumhuriyet döneminde büyük ilerlemeler kaydedilir, önemli eserler verilir.</a:t>
            </a:r>
            <a:endParaRPr b="0" lang="en-US" sz="2200" spc="-1" strike="noStrike">
              <a:solidFill>
                <a:srgbClr val="ffffff"/>
              </a:solidFill>
              <a:latin typeface="Century Schoolboo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2285640" y="404280"/>
            <a:ext cx="6357960" cy="602460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CAHİT KULEBI (1917— 1997)</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t>
            </a:r>
            <a:r>
              <a:rPr b="0" lang="en-US" sz="2400" spc="-1" strike="noStrike">
                <a:solidFill>
                  <a:srgbClr val="fff39d"/>
                </a:solidFill>
                <a:latin typeface="Georgia"/>
              </a:rPr>
              <a:t>Hikâye” şiiriyle tanınmış ve sevil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Âşık edebiyatı geleneğinden beslendiği ve Anadolu’yu anlattığı kendine has bir şiir çizgisi v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Serbest şiirler yaz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Yurt ve doğa sevgisi, aşk, Kurtuluş Savaşı, yalnızlık başlıca konularıdır.</a:t>
            </a:r>
            <a:endParaRPr b="0" lang="en-US" sz="24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Atatürk Kurtuluş Savaşı’nda, Yeşeren Otlar, Türk Mavisi.</a:t>
            </a:r>
            <a:endParaRPr b="0" lang="en-US" sz="2400" spc="-1" strike="noStrike">
              <a:solidFill>
                <a:srgbClr val="ffffff"/>
              </a:solidFill>
              <a:latin typeface="Century Schoolboo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2286000" y="285840"/>
            <a:ext cx="6500880" cy="628632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39d"/>
                </a:solidFill>
                <a:latin typeface="Georgia"/>
              </a:rPr>
              <a:t>FAZIL HÜSNÜ DAĞLARCA (1914—)</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Şiire hece ölçüsüyle başladı, serbest şiire geçti.</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39d"/>
                </a:solidFill>
                <a:latin typeface="Georgia"/>
              </a:rPr>
              <a:t>“</a:t>
            </a:r>
            <a:r>
              <a:rPr b="0" i="1" lang="en-US" sz="2000" spc="-1" strike="noStrike">
                <a:solidFill>
                  <a:srgbClr val="fff39d"/>
                </a:solidFill>
                <a:latin typeface="Georgia"/>
              </a:rPr>
              <a:t>Çocuk ve Allah” </a:t>
            </a:r>
            <a:r>
              <a:rPr b="0" lang="en-US" sz="2000" spc="-1" strike="noStrike">
                <a:solidFill>
                  <a:srgbClr val="fff39d"/>
                </a:solidFill>
                <a:latin typeface="Georgia"/>
              </a:rPr>
              <a:t>kitabıyla ün kazandı.</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Biçim, içerik ve söyleyişte sağladığı uyumla dikkat çekti.</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Hayal gücünü öne çıkardığı imgeli ilk şiirlerinden sonra, aklı öne çıkardığı şiirler yazmışt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Kırkı aşkın eseriyle Türk şiirinin en verimli şairidi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Tür, biçim ve içerik bakımından kendini sürekli yenilemiş, kendine özgü bir şiir dili yaratmışt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Hemen hemen her konuda şiir yazmışt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Yerli-yabancı hiçbir akımdan etkilenmeden klasiği ve çağdaşı kaynaştırdığı özgün bir şair olmuştu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39d"/>
                </a:solidFill>
                <a:latin typeface="Georgia"/>
              </a:rPr>
              <a:t>“</a:t>
            </a:r>
            <a:r>
              <a:rPr b="0" i="1" lang="en-US" sz="2000" spc="-1" strike="noStrike">
                <a:solidFill>
                  <a:srgbClr val="fff39d"/>
                </a:solidFill>
                <a:latin typeface="Georgia"/>
              </a:rPr>
              <a:t>Türkçem benim ses bayrağım.” </a:t>
            </a:r>
            <a:r>
              <a:rPr b="0" lang="en-US" sz="2000" spc="-1" strike="noStrike">
                <a:solidFill>
                  <a:srgbClr val="fff39d"/>
                </a:solidFill>
                <a:latin typeface="Georgia"/>
              </a:rPr>
              <a:t>dizesiyle Türkçeye olan sevgisini anlatmışt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9d"/>
                </a:solidFill>
                <a:latin typeface="Georgia"/>
              </a:rPr>
              <a:t>Destan tarzında şiirler de felsefi, link, toplumcu şiirler de yazmıştır.</a:t>
            </a:r>
            <a:endParaRPr b="0" lang="en-US" sz="2000" spc="-1" strike="noStrike">
              <a:solidFill>
                <a:srgbClr val="ffffff"/>
              </a:solidFill>
              <a:latin typeface="Century Schoolboo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2285640" y="1143000"/>
            <a:ext cx="6172200" cy="523872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Havaya Çizilen Dünya, Çocuk ve Allah, Üç Şehitler Destanı, Gazi Mustafa Kemal Atatürk, İstiklal Savaşı, Sivaslı Karınca, İstanbul Fetih Destanı, Anıtkabir, Mevlana’da Olmak, Türk Olmak, Çanakkale Destanı, Vietnam Savaşımız, Hiroşima, Nötron Bombası, Malazgirt Ululaması, Yazıları Seven Ayı (Çocuk Şiirleri), Yunus Emre’de Olmak</a:t>
            </a:r>
            <a:endParaRPr b="0" lang="en-US" sz="2400" spc="-1" strike="noStrike">
              <a:solidFill>
                <a:srgbClr val="ffffff"/>
              </a:solidFill>
              <a:latin typeface="Century Schoolboo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142720" y="142920"/>
            <a:ext cx="6643800" cy="657216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39d"/>
                </a:solidFill>
                <a:latin typeface="Georgia"/>
              </a:rPr>
              <a:t>MEMDUH ŞEVKET ESENDAL (1883— 1952)</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Durum — kesit (Çehov Tarzı) öykücülüğünün ilk ustasıd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Halkın içinden kişileri (memur, esnaf), onların önemsiz görünen davranışlarını konu edinmişti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Halkı, iyi ve kötü yönleriyle, onları sevdirerek anlatmışt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Sade, süssüz, kısa cümlelerle kurulmuş, yumuşak bir dili vardı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Toplumun çektiği sıkıntıları, sorunları abartmadan ve umutsuzluğa düşürmeden göz önüne sermişti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39d"/>
                </a:solidFill>
                <a:latin typeface="Georgia"/>
              </a:rPr>
              <a:t>“</a:t>
            </a:r>
            <a:r>
              <a:rPr b="0" i="1" lang="tr-TR" sz="2000" spc="-1" strike="noStrike">
                <a:solidFill>
                  <a:srgbClr val="fff39d"/>
                </a:solidFill>
                <a:latin typeface="Georgia"/>
              </a:rPr>
              <a:t>Haşmet Gülkokan” </a:t>
            </a:r>
            <a:r>
              <a:rPr b="0" lang="tr-TR" sz="2000" spc="-1" strike="noStrike">
                <a:solidFill>
                  <a:srgbClr val="fff39d"/>
                </a:solidFill>
                <a:latin typeface="Georgia"/>
              </a:rPr>
              <a:t>ve </a:t>
            </a:r>
            <a:r>
              <a:rPr b="0" i="1" lang="tr-TR" sz="2000" spc="-1" strike="noStrike">
                <a:solidFill>
                  <a:srgbClr val="fff39d"/>
                </a:solidFill>
                <a:latin typeface="Georgia"/>
              </a:rPr>
              <a:t>“Komiser” </a:t>
            </a:r>
            <a:r>
              <a:rPr b="0" lang="tr-TR" sz="2000" spc="-1" strike="noStrike">
                <a:solidFill>
                  <a:srgbClr val="fff39d"/>
                </a:solidFill>
                <a:latin typeface="Georgia"/>
              </a:rPr>
              <a:t>hikâyeleriyle sevilmişti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39d"/>
                </a:solidFill>
                <a:latin typeface="Georgia"/>
              </a:rPr>
              <a:t>ESERLERİ:</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fff39d"/>
                </a:solidFill>
                <a:uFillTx/>
                <a:latin typeface="Georgia"/>
              </a:rPr>
              <a:t>Hikâye</a:t>
            </a:r>
            <a:r>
              <a:rPr b="0" i="1" lang="tr-TR" sz="2000" spc="-1" strike="noStrike">
                <a:solidFill>
                  <a:srgbClr val="fff39d"/>
                </a:solidFill>
                <a:latin typeface="Georgia"/>
              </a:rPr>
              <a:t>:</a:t>
            </a:r>
            <a:r>
              <a:rPr b="0" lang="tr-TR" sz="2000" spc="-1" strike="noStrike">
                <a:solidFill>
                  <a:srgbClr val="fff39d"/>
                </a:solidFill>
                <a:latin typeface="Georgia"/>
              </a:rPr>
              <a:t> Otlakçı, Mendil Altında, Temiz Sevgiler, Ev Ona Yakıştı.</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fff39d"/>
                </a:solidFill>
                <a:uFillTx/>
                <a:latin typeface="Georgia"/>
              </a:rPr>
              <a:t>Roman</a:t>
            </a:r>
            <a:r>
              <a:rPr b="0" i="1" lang="tr-TR" sz="2000" spc="-1" strike="noStrike">
                <a:solidFill>
                  <a:srgbClr val="fff39d"/>
                </a:solidFill>
                <a:latin typeface="Georgia"/>
              </a:rPr>
              <a:t>:</a:t>
            </a:r>
            <a:r>
              <a:rPr b="0" lang="tr-TR" sz="2000" spc="-1" strike="noStrike">
                <a:solidFill>
                  <a:srgbClr val="fff39d"/>
                </a:solidFill>
                <a:latin typeface="Georgia"/>
              </a:rPr>
              <a:t> Ayaşlı ve Kiracıları, Miras.</a:t>
            </a:r>
            <a:endParaRPr b="0" lang="en-US" sz="2000" spc="-1" strike="noStrike">
              <a:solidFill>
                <a:srgbClr val="ffffff"/>
              </a:solidFill>
              <a:latin typeface="Century Schoolbook"/>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286000" y="690480"/>
            <a:ext cx="6500880" cy="545328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SAİT FAİK ABASIYANIK (1906 —1954)</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Çağdaş öykücülüğün öncülerinden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Hikâyelerinde “konu” ve “olaydan çok “zamandan ve “insan yaşamı”ndan kesitler öne çıka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Maupassant tarzından çok Çehov tarzı hikayeye yakın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Genellikle gerçekçi olan yazarın bazı öykülerinde gerçeküstücü öğeler öne çıkar.</a:t>
            </a:r>
            <a:endParaRPr b="0" lang="en-US" sz="2400" spc="-1" strike="noStrike">
              <a:solidFill>
                <a:srgbClr val="ffffff"/>
              </a:solidFill>
              <a:latin typeface="Century Schoolbook"/>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2286000" y="571320"/>
            <a:ext cx="6500880" cy="5810040"/>
          </a:xfrm>
          <a:prstGeom prst="rect">
            <a:avLst/>
          </a:prstGeom>
          <a:noFill/>
          <a:ln w="0">
            <a:noFill/>
          </a:ln>
        </p:spPr>
        <p:txBody>
          <a:bodyPr anchor="ctr">
            <a:normAutofit fontScale="97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İstanbul, deniz, balık, yoksulluk, avare insanlar, doğa yaşama bağlılığın göstergesi olarak öykülerinde sıkça yer bulu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Hikâyelerini sade bir Türkçeyle yaz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Öykü</a:t>
            </a:r>
            <a:r>
              <a:rPr b="0" i="1" lang="tr-TR" sz="2200" spc="-1" strike="noStrike">
                <a:solidFill>
                  <a:srgbClr val="fff39d"/>
                </a:solidFill>
                <a:latin typeface="Georgia"/>
              </a:rPr>
              <a:t>:</a:t>
            </a:r>
            <a:r>
              <a:rPr b="0" lang="tr-TR" sz="2200" spc="-1" strike="noStrike">
                <a:solidFill>
                  <a:srgbClr val="fff39d"/>
                </a:solidFill>
                <a:latin typeface="Georgia"/>
              </a:rPr>
              <a:t> Semaver, Sarnıç, Mahalle Kahvesi, Tüneldeki Çocuk, Şahmerdan, Lüzumsuz Adam, Havada Bulut, Kumpanya, Alemdağ’da Var Bir Yılan, Son Kuşlar; Az Şekerli.</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Romanları</a:t>
            </a:r>
            <a:r>
              <a:rPr b="0" i="1" lang="tr-TR" sz="2200" spc="-1" strike="noStrike">
                <a:solidFill>
                  <a:srgbClr val="fff39d"/>
                </a:solidFill>
                <a:latin typeface="Georgia"/>
              </a:rPr>
              <a:t>:</a:t>
            </a:r>
            <a:r>
              <a:rPr b="0" lang="tr-TR" sz="2200" spc="-1" strike="noStrike">
                <a:solidFill>
                  <a:srgbClr val="fff39d"/>
                </a:solidFill>
                <a:latin typeface="Georgia"/>
              </a:rPr>
              <a:t> Medar-ı Maişet Motoru (Sonraki baskıda adı “Birtakım İnsanlar”), Kayıp Aranıyo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Şiir</a:t>
            </a:r>
            <a:r>
              <a:rPr b="0" i="1" lang="tr-TR" sz="2200" spc="-1" strike="noStrike">
                <a:solidFill>
                  <a:srgbClr val="fff39d"/>
                </a:solidFill>
                <a:latin typeface="Georgia"/>
              </a:rPr>
              <a:t>:</a:t>
            </a:r>
            <a:r>
              <a:rPr b="0" lang="tr-TR" sz="2200" spc="-1" strike="noStrike">
                <a:solidFill>
                  <a:srgbClr val="fff39d"/>
                </a:solidFill>
                <a:latin typeface="Georgia"/>
              </a:rPr>
              <a:t> Şimdi Sevişme Vakti</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Röportaj</a:t>
            </a:r>
            <a:r>
              <a:rPr b="0" i="1" lang="tr-TR" sz="2200" spc="-1" strike="noStrike">
                <a:solidFill>
                  <a:srgbClr val="fff39d"/>
                </a:solidFill>
                <a:latin typeface="Georgia"/>
              </a:rPr>
              <a:t>:</a:t>
            </a:r>
            <a:r>
              <a:rPr b="0" lang="tr-TR" sz="2200" spc="-1" strike="noStrike">
                <a:solidFill>
                  <a:srgbClr val="fff39d"/>
                </a:solidFill>
                <a:latin typeface="Georgia"/>
              </a:rPr>
              <a:t> Mahkeme Kapısı</a:t>
            </a:r>
            <a:endParaRPr b="0" lang="en-US" sz="2200" spc="-1" strike="noStrike">
              <a:solidFill>
                <a:srgbClr val="ffffff"/>
              </a:solidFill>
              <a:latin typeface="Century Schoolboo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2286000" y="500040"/>
            <a:ext cx="6572160" cy="588168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HALİKARNAS BALIKÇISI (1886—1973)</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sıl adı Cevat Şakir Kabaağaçlı’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serlerinde denizi, deniz insanlarını Bodrum’u Ege denizinin efsanelerini anlat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Üsluba ve tekniğe çok önem vermeyen yazarın, şiirsel, destanımsı ve coşkulu bir anlatımı v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ski Yunan ve Anadolu uygarlıkları ve mitoloji birikimini de eserlerinde yansıtmıştır.</a:t>
            </a:r>
            <a:endParaRPr b="0" lang="en-US" sz="2400" spc="-1" strike="noStrike">
              <a:solidFill>
                <a:srgbClr val="ffffff"/>
              </a:solidFill>
              <a:latin typeface="Century Schoolboo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285640" y="1356840"/>
            <a:ext cx="6172200" cy="502452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Öykü</a:t>
            </a:r>
            <a:r>
              <a:rPr b="0" i="1" lang="tr-TR" sz="2400" spc="-1" strike="noStrike">
                <a:solidFill>
                  <a:srgbClr val="fff39d"/>
                </a:solidFill>
                <a:latin typeface="Georgia"/>
              </a:rPr>
              <a:t>:</a:t>
            </a:r>
            <a:r>
              <a:rPr b="0" lang="tr-TR" sz="2400" spc="-1" strike="noStrike">
                <a:solidFill>
                  <a:srgbClr val="fff39d"/>
                </a:solidFill>
                <a:latin typeface="Georgia"/>
              </a:rPr>
              <a:t> Merhaba Akdeniz, Ege Kıyılarından, Yaşasın Deniz, Ege’nin Dibi, Gülen Ada, Gençlik Denizlerind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Roman</a:t>
            </a:r>
            <a:r>
              <a:rPr b="0" i="1" lang="tr-TR" sz="2400" spc="-1" strike="noStrike">
                <a:solidFill>
                  <a:srgbClr val="fff39d"/>
                </a:solidFill>
                <a:latin typeface="Georgia"/>
              </a:rPr>
              <a:t>:</a:t>
            </a:r>
            <a:r>
              <a:rPr b="0" lang="tr-TR" sz="2400" spc="-1" strike="noStrike">
                <a:solidFill>
                  <a:srgbClr val="fff39d"/>
                </a:solidFill>
                <a:latin typeface="Georgia"/>
              </a:rPr>
              <a:t> Aganta Burina Burinata, Ötelerin Çocuğu, Uluç Reis, Turgut Reis, Deniz Gurbetçi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Anı</a:t>
            </a:r>
            <a:r>
              <a:rPr b="0" i="1" lang="tr-TR" sz="2400" spc="-1" strike="noStrike">
                <a:solidFill>
                  <a:srgbClr val="fff39d"/>
                </a:solidFill>
                <a:latin typeface="Georgia"/>
              </a:rPr>
              <a:t>:</a:t>
            </a:r>
            <a:r>
              <a:rPr b="0" lang="tr-TR" sz="2400" spc="-1" strike="noStrike">
                <a:solidFill>
                  <a:srgbClr val="fff39d"/>
                </a:solidFill>
                <a:latin typeface="Georgia"/>
              </a:rPr>
              <a:t> Mavi Sürgün</a:t>
            </a:r>
            <a:endParaRPr b="0" lang="en-US" sz="2400" spc="-1" strike="noStrike">
              <a:solidFill>
                <a:srgbClr val="ffffff"/>
              </a:solidFill>
              <a:latin typeface="Century Schoolboo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2285640" y="285840"/>
            <a:ext cx="6429240" cy="6215040"/>
          </a:xfrm>
          <a:prstGeom prst="rect">
            <a:avLst/>
          </a:prstGeom>
          <a:noFill/>
          <a:ln w="0">
            <a:noFill/>
          </a:ln>
        </p:spPr>
        <p:txBody>
          <a:bodyPr anchor="ctr">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f39d"/>
                </a:solidFill>
                <a:latin typeface="Georgia"/>
              </a:rPr>
              <a:t>HALDUN TANER (1916—1986)</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Öykü ve oyun yazarıd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Eserlerinde çağının sorunlarını ortaya koymuş, eser kişilerinden hareketle çözümler de sunmuştu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Epik tiyatronun bizdeki öncüsüdü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Öykü</a:t>
            </a:r>
            <a:r>
              <a:rPr b="0" i="1" lang="tr-TR" sz="2200" spc="-1" strike="noStrike">
                <a:solidFill>
                  <a:srgbClr val="fff39d"/>
                </a:solidFill>
                <a:latin typeface="Georgia"/>
              </a:rPr>
              <a:t>:</a:t>
            </a:r>
            <a:r>
              <a:rPr b="0" lang="tr-TR" sz="2200" spc="-1" strike="noStrike">
                <a:solidFill>
                  <a:srgbClr val="fff39d"/>
                </a:solidFill>
                <a:latin typeface="Georgia"/>
              </a:rPr>
              <a:t> Yaşasın Demokrasi, Şişhane’ye Yağmur Yağıyordu,On İkiye Bir Var, Sancho’nun Sabah Yürüyüşü, Ayışığında Çalışkur, Konçinalar, Yalıda Sabah</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fff39d"/>
                </a:solidFill>
                <a:uFillTx/>
                <a:latin typeface="Georgia"/>
              </a:rPr>
              <a:t>Tiyatro</a:t>
            </a:r>
            <a:r>
              <a:rPr b="0" i="1" lang="tr-TR" sz="2200" spc="-1" strike="noStrike">
                <a:solidFill>
                  <a:srgbClr val="fff39d"/>
                </a:solidFill>
                <a:latin typeface="Georgia"/>
              </a:rPr>
              <a:t>:</a:t>
            </a:r>
            <a:r>
              <a:rPr b="0" lang="tr-TR" sz="2200" spc="-1" strike="noStrike">
                <a:solidFill>
                  <a:srgbClr val="fff39d"/>
                </a:solidFill>
                <a:latin typeface="Georgia"/>
              </a:rPr>
              <a:t> Günün Adamı, Dışarıdakiler, Huzur Çıkmazı, Keşanlı Ali Destanı, Gözlerimi Kaparım Vazifemi Yaparım, Fazilet Eczanesi, Zilli Zarife</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f39d"/>
                </a:solidFill>
                <a:latin typeface="Georgia"/>
              </a:rPr>
              <a:t>Portre / Anı:</a:t>
            </a:r>
            <a:r>
              <a:rPr b="0" lang="tr-TR" sz="2200" spc="-1" strike="noStrike">
                <a:solidFill>
                  <a:srgbClr val="fff39d"/>
                </a:solidFill>
                <a:latin typeface="Georgia"/>
              </a:rPr>
              <a:t> Ölür İse Ten Ölür Canlar Ölesi Değil</a:t>
            </a:r>
            <a:endParaRPr b="0" lang="en-US" sz="2200" spc="-1" strike="noStrike">
              <a:solidFill>
                <a:srgbClr val="ffffff"/>
              </a:solidFill>
              <a:latin typeface="Century Schoolboo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2285640" y="857160"/>
            <a:ext cx="6429240" cy="552456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ATTİLA İLHAN (1925—2005)</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Mavi akımının öncüsüdü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 roman, deneme, anı, gezi yazısı türlerinde eserler ver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aha çok bireysel ve toplumsal konuları işlediği şiirleriyle tanınmıştır.</a:t>
            </a:r>
            <a:endParaRPr b="0" lang="en-US" sz="2400" spc="-1" strike="noStrike">
              <a:solidFill>
                <a:srgbClr val="ffffff"/>
              </a:solidFill>
              <a:latin typeface="Century Schoolbook"/>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Şiir</a:t>
            </a:r>
            <a:r>
              <a:rPr b="0" i="1" lang="en-US" sz="2400" spc="-1" strike="noStrike">
                <a:solidFill>
                  <a:srgbClr val="fff39d"/>
                </a:solidFill>
                <a:latin typeface="Georgia"/>
              </a:rPr>
              <a:t>:</a:t>
            </a:r>
            <a:r>
              <a:rPr b="0" lang="en-US" sz="2400" spc="-1" strike="noStrike">
                <a:solidFill>
                  <a:srgbClr val="fff39d"/>
                </a:solidFill>
                <a:latin typeface="Georgia"/>
              </a:rPr>
              <a:t> Duvar, Sisler Bulvarı, Ben Sana Mecburum </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Roman</a:t>
            </a:r>
            <a:r>
              <a:rPr b="0" i="1" lang="en-US" sz="2400" spc="-1" strike="noStrike">
                <a:solidFill>
                  <a:srgbClr val="fff39d"/>
                </a:solidFill>
                <a:latin typeface="Georgia"/>
              </a:rPr>
              <a:t>:</a:t>
            </a:r>
            <a:r>
              <a:rPr b="0" lang="en-US" sz="2400" spc="-1" strike="noStrike">
                <a:solidFill>
                  <a:srgbClr val="fff39d"/>
                </a:solidFill>
                <a:latin typeface="Georgia"/>
              </a:rPr>
              <a:t> Kurtlar Sofrası, Bıçağın Ucu</a:t>
            </a:r>
            <a:endParaRPr b="0" lang="en-US" sz="2400" spc="-1" strike="noStrike">
              <a:solidFill>
                <a:srgbClr val="ffffff"/>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Georgia"/>
              </a:rPr>
              <a:t>CUMHURİYET DÖNEMİ TÜRK EDEBİYATINDA TOPLULUKLAR</a:t>
            </a: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2285640" y="928440"/>
            <a:ext cx="6172200" cy="5452920"/>
          </a:xfrm>
          <a:prstGeom prst="rect">
            <a:avLst/>
          </a:prstGeom>
          <a:noFill/>
          <a:ln w="0">
            <a:noFill/>
          </a:ln>
        </p:spPr>
        <p:txBody>
          <a:bodyPr anchor="ctr">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NECATİ CUMALI (1921 —2001)</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Şiir, hikâye, roman ve tiyatro türlerinde eserler vermişti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Gözlemlerinden yola çıkarak toplumsal sorunları ele al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Şiir</a:t>
            </a:r>
            <a:r>
              <a:rPr b="0" i="1" lang="tr-TR" sz="2400" spc="-1" strike="noStrike">
                <a:solidFill>
                  <a:srgbClr val="fff39d"/>
                </a:solidFill>
                <a:latin typeface="Georgia"/>
              </a:rPr>
              <a:t>:</a:t>
            </a:r>
            <a:r>
              <a:rPr b="0" lang="tr-TR" sz="2400" spc="-1" strike="noStrike">
                <a:solidFill>
                  <a:srgbClr val="fff39d"/>
                </a:solidFill>
                <a:latin typeface="Georgia"/>
              </a:rPr>
              <a:t> Kızılçullu Yolu</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Roman</a:t>
            </a:r>
            <a:r>
              <a:rPr b="0" i="1" lang="tr-TR" sz="2400" spc="-1" strike="noStrike">
                <a:solidFill>
                  <a:srgbClr val="fff39d"/>
                </a:solidFill>
                <a:latin typeface="Georgia"/>
              </a:rPr>
              <a:t>:</a:t>
            </a:r>
            <a:r>
              <a:rPr b="0" lang="tr-TR" sz="2400" spc="-1" strike="noStrike">
                <a:solidFill>
                  <a:srgbClr val="fff39d"/>
                </a:solidFill>
                <a:latin typeface="Georgia"/>
              </a:rPr>
              <a:t> Tütün Zamanı (Zeliş)</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Oyun</a:t>
            </a:r>
            <a:r>
              <a:rPr b="0" i="1" lang="tr-TR" sz="2400" spc="-1" strike="noStrike">
                <a:solidFill>
                  <a:srgbClr val="fff39d"/>
                </a:solidFill>
                <a:latin typeface="Georgia"/>
              </a:rPr>
              <a:t>:</a:t>
            </a:r>
            <a:r>
              <a:rPr b="0" lang="tr-TR" sz="2400" spc="-1" strike="noStrike">
                <a:solidFill>
                  <a:srgbClr val="fff39d"/>
                </a:solidFill>
                <a:latin typeface="Georgia"/>
              </a:rPr>
              <a:t> Boş Beşik, Ezik Otlar, Susuz Yaz, Yeni Çıkan Şarkılar ya da Juliet</a:t>
            </a:r>
            <a:endParaRPr b="0" lang="en-US" sz="2400" spc="-1" strike="noStrike">
              <a:solidFill>
                <a:srgbClr val="ffffff"/>
              </a:solidFill>
              <a:latin typeface="Century Schoolbook"/>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2285640" y="1071720"/>
            <a:ext cx="6172200" cy="5310000"/>
          </a:xfrm>
          <a:prstGeom prst="rect">
            <a:avLst/>
          </a:prstGeom>
          <a:noFill/>
          <a:ln w="0">
            <a:noFill/>
          </a:ln>
        </p:spPr>
        <p:txBody>
          <a:bodyPr anchor="ctr">
            <a:normAutofit fontScale="98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NURULLAH ATAÇ (1898— 1957)</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eneme ve eleştiri türünde usta bir isimdi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atılı anlamda ilk deneme ve eleştiri yazılarının yazarıdı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1940’tan sonraki yazılarında Türkçeyi özleştirme çabası öne çıka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Deneme /</a:t>
            </a:r>
            <a:r>
              <a:rPr b="0" lang="en-US" sz="2400" spc="-1" strike="noStrike" u="sng">
                <a:solidFill>
                  <a:srgbClr val="fff39d"/>
                </a:solidFill>
                <a:uFillTx/>
                <a:latin typeface="Georgia"/>
              </a:rPr>
              <a:t> </a:t>
            </a:r>
            <a:r>
              <a:rPr b="0" i="1" lang="en-US" sz="2400" spc="-1" strike="noStrike" u="sng">
                <a:solidFill>
                  <a:srgbClr val="fff39d"/>
                </a:solidFill>
                <a:uFillTx/>
                <a:latin typeface="Georgia"/>
              </a:rPr>
              <a:t>Eleştiri</a:t>
            </a:r>
            <a:r>
              <a:rPr b="0" i="1" lang="en-US" sz="2400" spc="-1" strike="noStrike">
                <a:solidFill>
                  <a:srgbClr val="fff39d"/>
                </a:solidFill>
                <a:latin typeface="Georgia"/>
              </a:rPr>
              <a:t>:</a:t>
            </a:r>
            <a:r>
              <a:rPr b="0" lang="en-US" sz="2400" spc="-1" strike="noStrike">
                <a:solidFill>
                  <a:srgbClr val="fff39d"/>
                </a:solidFill>
                <a:latin typeface="Georgia"/>
              </a:rPr>
              <a:t> Günlerin Getirdiği, Karalama Defteri, Sözden Söze, Ararken, Diyelim Söz Arasında, Günce</a:t>
            </a:r>
            <a:endParaRPr b="0" lang="en-US" sz="2400" spc="-1" strike="noStrike">
              <a:solidFill>
                <a:srgbClr val="ffffff"/>
              </a:solidFill>
              <a:latin typeface="Century Schoolboo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2285640" y="642600"/>
            <a:ext cx="6172200" cy="573876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39d"/>
                </a:solidFill>
                <a:latin typeface="Georgia"/>
              </a:rPr>
              <a:t>SUUT KEMAL YETKIN (1903—1980)</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Deneme ve eleştiriyle tanın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Sanat, estetik, resim ve felsefe alanlarında eserler vermişt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Düşüncelerini açık ve yalın bir anlatımla kaleme almışt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39d"/>
                </a:solidFill>
                <a:latin typeface="Georgia"/>
              </a:rPr>
              <a:t>ESERLERİ:</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39d"/>
                </a:solidFill>
                <a:uFillTx/>
                <a:latin typeface="Georgia"/>
              </a:rPr>
              <a:t>Deneme</a:t>
            </a:r>
            <a:r>
              <a:rPr b="0" i="1" lang="en-US" sz="2200" spc="-1" strike="noStrike">
                <a:solidFill>
                  <a:srgbClr val="fff39d"/>
                </a:solidFill>
                <a:latin typeface="Georgia"/>
              </a:rPr>
              <a:t>:</a:t>
            </a:r>
            <a:r>
              <a:rPr b="0" lang="en-US" sz="2200" spc="-1" strike="noStrike">
                <a:solidFill>
                  <a:srgbClr val="fff39d"/>
                </a:solidFill>
                <a:latin typeface="Georgia"/>
              </a:rPr>
              <a:t> Edebiyat Konuşmaları, Edebiyat Üzerine, Günlerin Götürdüğü, Düşün Payı, Yokuşa Doğru, Şiir Üzerine Düşünceler, Denemele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fff39d"/>
                </a:solidFill>
                <a:uFillTx/>
                <a:latin typeface="Georgia"/>
              </a:rPr>
              <a:t>İnceleme — Araştırma</a:t>
            </a:r>
            <a:r>
              <a:rPr b="0" i="1" lang="en-US" sz="2200" spc="-1" strike="noStrike">
                <a:solidFill>
                  <a:srgbClr val="fff39d"/>
                </a:solidFill>
                <a:latin typeface="Georgia"/>
              </a:rPr>
              <a:t>:</a:t>
            </a:r>
            <a:r>
              <a:rPr b="0" lang="en-US" sz="2200" spc="-1" strike="noStrike">
                <a:solidFill>
                  <a:srgbClr val="fff39d"/>
                </a:solidFill>
                <a:latin typeface="Georgia"/>
              </a:rPr>
              <a:t> Ahmet Haşim ve Sembolizm, Sanat Felsefesi, Edebiyatta Akımlar.</a:t>
            </a:r>
            <a:endParaRPr b="0" lang="en-US" sz="2200" spc="-1" strike="noStrike">
              <a:solidFill>
                <a:srgbClr val="ffffff"/>
              </a:solidFill>
              <a:latin typeface="Century Schoolbook"/>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2285640" y="642600"/>
            <a:ext cx="6286680" cy="573876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CEMİL MERİÇ (1917—1987)</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eneme türünün usta isimlerinden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enemeleri dışında, edebiyat tarihi, felsefe, tarih çalışmaları ve çevirileri de v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Deneme</a:t>
            </a:r>
            <a:r>
              <a:rPr b="0" i="1" lang="tr-TR" sz="2400" spc="-1" strike="noStrike">
                <a:solidFill>
                  <a:srgbClr val="fff39d"/>
                </a:solidFill>
                <a:latin typeface="Georgia"/>
              </a:rPr>
              <a:t>:</a:t>
            </a:r>
            <a:r>
              <a:rPr b="0" lang="tr-TR" sz="2400" spc="-1" strike="noStrike">
                <a:solidFill>
                  <a:srgbClr val="fff39d"/>
                </a:solidFill>
                <a:latin typeface="Georgia"/>
              </a:rPr>
              <a:t> Bu Ülke, Mağaradakiler </a:t>
            </a:r>
            <a:r>
              <a:rPr b="0" i="1" lang="tr-TR" sz="2400" spc="-1" strike="noStrike" u="sng">
                <a:solidFill>
                  <a:srgbClr val="fff39d"/>
                </a:solidFill>
                <a:uFillTx/>
                <a:latin typeface="Georgia"/>
              </a:rPr>
              <a:t>Araştırıma/İnceleme</a:t>
            </a:r>
            <a:r>
              <a:rPr b="0" i="1" lang="tr-TR" sz="2400" spc="-1" strike="noStrike">
                <a:solidFill>
                  <a:srgbClr val="fff39d"/>
                </a:solidFill>
                <a:latin typeface="Georgia"/>
              </a:rPr>
              <a:t>:</a:t>
            </a:r>
            <a:r>
              <a:rPr b="0" lang="tr-TR" sz="2400" spc="-1" strike="noStrike">
                <a:solidFill>
                  <a:srgbClr val="fff39d"/>
                </a:solidFill>
                <a:latin typeface="Georgia"/>
              </a:rPr>
              <a:t> Umrandan Uygarlığa, Kırk Ambar, Bir Dünyanın Eşiğinde.</a:t>
            </a:r>
            <a:endParaRPr b="0" lang="en-US" sz="2400" spc="-1" strike="noStrike">
              <a:solidFill>
                <a:srgbClr val="ffffff"/>
              </a:solidFill>
              <a:latin typeface="Century Schoolbook"/>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2285640" y="785520"/>
            <a:ext cx="6172200" cy="53816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RECEP BİLGİNER (1922—2005)</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leri de olmasına karşın tiyatrocu olarak tanın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Oyunlarında toplumsal konuları işle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Tiyatro</a:t>
            </a:r>
            <a:r>
              <a:rPr b="0" i="1" lang="en-US" sz="2400" spc="-1" strike="noStrike">
                <a:solidFill>
                  <a:srgbClr val="fff39d"/>
                </a:solidFill>
                <a:latin typeface="Georgia"/>
              </a:rPr>
              <a:t>:</a:t>
            </a:r>
            <a:r>
              <a:rPr b="0" lang="en-US" sz="2400" spc="-1" strike="noStrike">
                <a:solidFill>
                  <a:srgbClr val="fff39d"/>
                </a:solidFill>
                <a:latin typeface="Georgia"/>
              </a:rPr>
              <a:t> İsyancılar, Sarı Naciye, Yunus Emre, Parkta Bir Sonbahar Günüydü, Mevlana, Ben Kimim, Karım ve Kızım</a:t>
            </a:r>
            <a:endParaRPr b="0" lang="en-US" sz="2400" spc="-1" strike="noStrike">
              <a:solidFill>
                <a:srgbClr val="ffffff"/>
              </a:solidFill>
              <a:latin typeface="Century Schoolboo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2286000" y="999720"/>
            <a:ext cx="6572160" cy="509580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39d"/>
                </a:solidFill>
                <a:latin typeface="Georgia"/>
              </a:rPr>
              <a:t>TURAN OFLAZOĞLU (1932—)</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Tiyatro yazarı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Oyunlarının konusunu, köyden ve Türk tarihinden ald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39d"/>
                </a:solidFill>
                <a:uFillTx/>
                <a:latin typeface="Georgia"/>
              </a:rPr>
              <a:t>Tiyatro</a:t>
            </a:r>
            <a:r>
              <a:rPr b="0" i="1" lang="en-US" sz="2400" spc="-1" strike="noStrike">
                <a:solidFill>
                  <a:srgbClr val="fff39d"/>
                </a:solidFill>
                <a:latin typeface="Georgia"/>
              </a:rPr>
              <a:t>:</a:t>
            </a:r>
            <a:r>
              <a:rPr b="0" lang="en-US" sz="2400" spc="-1" strike="noStrike">
                <a:solidFill>
                  <a:srgbClr val="fff39d"/>
                </a:solidFill>
                <a:latin typeface="Georgia"/>
              </a:rPr>
              <a:t> IV. Murat, Deli İbrahim, Genç Osman, Kösem Sultan, Bizans Düştü, Sokrates Savunuyor</a:t>
            </a:r>
            <a:endParaRPr b="0" lang="en-US" sz="2400" spc="-1" strike="noStrike">
              <a:solidFill>
                <a:srgbClr val="ffffff"/>
              </a:solidFill>
              <a:latin typeface="Century Schoolboo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2285640" y="905040"/>
            <a:ext cx="6172200" cy="531000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39d"/>
                </a:solidFill>
                <a:latin typeface="Georgia"/>
              </a:rPr>
              <a:t>ORHAN ASENA (1922—2001)</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Tiyatro yazarı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Tarihten aldığı olayları ve topluma mal olmuş kişileri konu edin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39d"/>
                </a:solidFill>
                <a:latin typeface="Georgia"/>
              </a:rPr>
              <a:t>ESERLERİ:</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u="sng">
                <a:solidFill>
                  <a:srgbClr val="fff39d"/>
                </a:solidFill>
                <a:uFillTx/>
                <a:latin typeface="Georgia"/>
              </a:rPr>
              <a:t>Tiyatro</a:t>
            </a:r>
            <a:r>
              <a:rPr b="0" i="1" lang="tr-TR" sz="2400" spc="-1" strike="noStrike">
                <a:solidFill>
                  <a:srgbClr val="fff39d"/>
                </a:solidFill>
                <a:latin typeface="Georgia"/>
              </a:rPr>
              <a:t>:</a:t>
            </a:r>
            <a:r>
              <a:rPr b="0" lang="tr-TR" sz="2400" spc="-1" strike="noStrike">
                <a:solidFill>
                  <a:srgbClr val="fff39d"/>
                </a:solidFill>
                <a:latin typeface="Georgia"/>
              </a:rPr>
              <a:t> Tohum ve Toprak, Hürrem Sultan, Tanrılar ve İnsanlar, Fadik Kız, Atçalı Kel Mehmet</a:t>
            </a:r>
            <a:endParaRPr b="0" lang="en-US" sz="2400" spc="-1" strike="noStrike">
              <a:solidFill>
                <a:srgbClr val="ffffff"/>
              </a:solidFill>
              <a:latin typeface="Century Schoolbook"/>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39d"/>
                </a:solidFill>
                <a:latin typeface="Georgia"/>
              </a:rPr>
              <a:t>KONUYLA İLGİLİ SORULAR</a:t>
            </a:r>
            <a:endParaRPr b="0" lang="en-US" sz="44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2285640" y="357120"/>
            <a:ext cx="6172200" cy="6143760"/>
          </a:xfrm>
          <a:prstGeom prst="rect">
            <a:avLst/>
          </a:prstGeom>
          <a:noFill/>
          <a:ln w="0">
            <a:noFill/>
          </a:ln>
        </p:spPr>
        <p:txBody>
          <a:bodyPr anchor="ctr">
            <a:normAutofit fontScale="9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39d"/>
                </a:solidFill>
                <a:latin typeface="Georgia"/>
              </a:rPr>
              <a:t>Öykülerinde konu ve olaydan çok, şiirselliğe ve etkiye önem veren, zaman parçaları üzerinde duran bir sanatçıdır. Bir İstanbul öykücüsüdür o. “Kadersiz” denilebilecek insanlarda çoğu kez kendi sıkıntı ve avareliklerinin dramını yaşamıştır. “Kötülükler” Ie karşılaştıkça kırlara, kıyılara, sakin adalara, balıkçılara sığındı. Öyküleriyle bizi de oralara götürdü tabi. “Dünyayı güzellik kurtaracak, bir insanı sevmekle başlayacak her şey.” diyen öykücü kalemini güzelliklerin hakkını vermek uğrunda kullandı.</a:t>
            </a:r>
            <a:endParaRPr b="0" lang="en-US" sz="1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39d"/>
                </a:solidFill>
                <a:latin typeface="Georgia"/>
              </a:rPr>
              <a:t>1. </a:t>
            </a:r>
            <a:r>
              <a:rPr b="1" i="1" lang="tr-TR" sz="1900" spc="-1" strike="noStrike">
                <a:solidFill>
                  <a:srgbClr val="fff39d"/>
                </a:solidFill>
                <a:latin typeface="Georgia"/>
              </a:rPr>
              <a:t>Yukarıdaki parçada aşağıdaki sanatçılardan hangisi anlatılmaktadır?</a:t>
            </a:r>
            <a:endParaRPr b="0" lang="en-US" sz="1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39d"/>
                </a:solidFill>
                <a:latin typeface="Georgia"/>
              </a:rPr>
              <a:t>A)Haldun Taner</a:t>
            </a:r>
            <a:endParaRPr b="0" lang="en-US" sz="1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39d"/>
                </a:solidFill>
                <a:latin typeface="Georgia"/>
              </a:rPr>
              <a:t>B)Aziz Nesin</a:t>
            </a:r>
            <a:endParaRPr b="0" lang="en-US" sz="1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39d"/>
                </a:solidFill>
                <a:latin typeface="Georgia"/>
              </a:rPr>
              <a:t>C)Memduh Şevket Esendal</a:t>
            </a:r>
            <a:endParaRPr b="0" lang="en-US" sz="1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39d"/>
                </a:solidFill>
                <a:latin typeface="Georgia"/>
              </a:rPr>
              <a:t>D)Halikarnas Balıkçısı</a:t>
            </a:r>
            <a:endParaRPr b="0" lang="en-US" sz="19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39d"/>
                </a:solidFill>
                <a:latin typeface="Georgia"/>
              </a:rPr>
              <a:t>E)Sait Faik Abasıyanık</a:t>
            </a:r>
            <a:endParaRPr b="0" lang="en-US" sz="1900" spc="-1" strike="noStrike">
              <a:solidFill>
                <a:srgbClr val="ffffff"/>
              </a:solidFill>
              <a:latin typeface="Century Schoolbook"/>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2285640" y="999720"/>
            <a:ext cx="6172200" cy="502452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Georgia"/>
              </a:rPr>
              <a:t>2. Aşağıdakilerden hangisi “deneme” türünde yazılmışt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 Tohum ve Toprak</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 Otlakç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 Havaya Çizilen Dünya</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 Mavi ve Kara</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E) Duvar</a:t>
            </a:r>
            <a:endParaRPr b="0" lang="en-US" sz="2400" spc="-1" strike="noStrike">
              <a:solidFill>
                <a:srgbClr val="ffffff"/>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285640" y="428400"/>
            <a:ext cx="6172200" cy="157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39d"/>
                </a:solidFill>
                <a:latin typeface="Georgia"/>
              </a:rPr>
              <a:t>YEDİ MEŞALECİLER</a:t>
            </a:r>
            <a:endParaRPr b="0" lang="en-US" sz="3200" spc="-1" strike="noStrike">
              <a:solidFill>
                <a:srgbClr val="fff39d"/>
              </a:solidFill>
              <a:latin typeface="Century Schoolbook"/>
            </a:endParaRPr>
          </a:p>
        </p:txBody>
      </p:sp>
      <p:sp>
        <p:nvSpPr>
          <p:cNvPr id="358" name="PlaceHolder 2"/>
          <p:cNvSpPr>
            <a:spLocks noGrp="1"/>
          </p:cNvSpPr>
          <p:nvPr>
            <p:ph/>
          </p:nvPr>
        </p:nvSpPr>
        <p:spPr>
          <a:xfrm>
            <a:off x="2285640" y="1714680"/>
            <a:ext cx="6172200" cy="466704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39d"/>
                </a:solidFill>
                <a:latin typeface="Georgia"/>
              </a:rPr>
              <a:t>Kenan Hulisi Koray (Öykücü), Cevdet Kudret Solok, Muammer Lütfi Bahşi. Sabri Esat Siyavuşgil, Yaşar Nabi Nayır, Vasfi Mahir Kocatürk, Ziya Osman Saba.</a:t>
            </a:r>
            <a:endParaRPr b="0" lang="en-US" sz="2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39d"/>
                </a:solidFill>
                <a:latin typeface="Georgia"/>
              </a:rPr>
              <a:t>1 928’de “Yedi Meşale” adlı ortak bir kitap yayımlayan biri öykücü, altısı şair yedi kişinin oluşturduğu bir topluluktur.</a:t>
            </a:r>
            <a:endParaRPr b="0" lang="en-US" sz="2800" spc="-1" strike="noStrike">
              <a:solidFill>
                <a:srgbClr val="ffffff"/>
              </a:solidFill>
              <a:latin typeface="Century Schoolbook"/>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2285640" y="785880"/>
            <a:ext cx="6172200" cy="55958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39d"/>
                </a:solidFill>
                <a:latin typeface="Georgia"/>
              </a:rPr>
              <a:t>3. Aşağıdaki sanatçı/eser eşleştirmelerinin hangisi </a:t>
            </a:r>
            <a:r>
              <a:rPr b="1" lang="tr-TR" sz="2400" spc="-1" strike="noStrike" u="sng">
                <a:solidFill>
                  <a:srgbClr val="fff39d"/>
                </a:solidFill>
                <a:uFillTx/>
                <a:latin typeface="Georgia"/>
              </a:rPr>
              <a:t>yanlıştır</a:t>
            </a:r>
            <a:r>
              <a:rPr b="1" lang="tr-TR" sz="2400" spc="-1" strike="noStrike">
                <a:solidFill>
                  <a:srgbClr val="fff39d"/>
                </a:solidFill>
                <a:latin typeface="Georgia"/>
              </a:rPr>
              <a:t>?</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 Necip Fazıl Kısakürek / Koçyiğit Köroğlu</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B) Cahit Külebi / Hikây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C) Memduh Şevket Esendal / Ayaşlı ve Kiracılar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 Sait Faik Abasıyanık / Havada Bulut</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 Haldun Taner / Sancho’nun Sabah Yürüyüşü</a:t>
            </a:r>
            <a:endParaRPr b="0" lang="en-US" sz="2400" spc="-1" strike="noStrike">
              <a:solidFill>
                <a:srgbClr val="ffffff"/>
              </a:solidFill>
              <a:latin typeface="Century Schoolbook"/>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2285640" y="1285560"/>
            <a:ext cx="6172200" cy="480996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Georgia"/>
              </a:rPr>
              <a:t>4. Aşağıdakilerden hangisi “tiyatro” türünde yazılmış bir eser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 Bingöl Çobanlar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 Gözlerimi Kaparım Vazifemi Yaparım</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 Çil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 Devlet Ana</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E) Kaldırımlar</a:t>
            </a:r>
            <a:endParaRPr b="0" lang="en-US" sz="2400" spc="-1" strike="noStrike">
              <a:solidFill>
                <a:srgbClr val="ffffff"/>
              </a:solidFill>
              <a:latin typeface="Century Schoolbook"/>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142720" y="713880"/>
            <a:ext cx="6643800" cy="566748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Şiirde kırk yılını, doğumundan ölümüne, orta halli bir vatandaşın, birey olarak başından geçecek durumları hatırlatmaya; ev-aile —yakın çevre üçgeninde, gerçek ve hayal yaşantılarını iletmeye, duyurmaya harcadı. Kapalı Çarşı, Evler, Arada... belli başlı şiir kitaplarıd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39d"/>
                </a:solidFill>
                <a:latin typeface="Georgia"/>
              </a:rPr>
              <a:t>5. </a:t>
            </a:r>
            <a:r>
              <a:rPr b="1" i="1" lang="tr-TR" sz="2200" spc="-1" strike="noStrike">
                <a:solidFill>
                  <a:srgbClr val="fff39d"/>
                </a:solidFill>
                <a:latin typeface="Georgia"/>
              </a:rPr>
              <a:t>Bu parçada aşağıdaki şairlerden hangisinden bahsedilmekted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A) Sabahattin Kudret Aksal</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B) Fazıl Hüsnü Dağlarca</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C) Behçet Necatigil</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D) Necati Cumalı</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39d"/>
                </a:solidFill>
                <a:latin typeface="Georgia"/>
              </a:rPr>
              <a:t>E) Orhan Veli Kanık</a:t>
            </a:r>
            <a:endParaRPr b="0" lang="en-US" sz="2200" spc="-1" strike="noStrike">
              <a:solidFill>
                <a:srgbClr val="ffffff"/>
              </a:solidFill>
              <a:latin typeface="Century Schoolbook"/>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2285640" y="571320"/>
            <a:ext cx="6286680" cy="5810040"/>
          </a:xfrm>
          <a:prstGeom prst="rect">
            <a:avLst/>
          </a:prstGeom>
          <a:noFill/>
          <a:ln w="0">
            <a:noFill/>
          </a:ln>
        </p:spPr>
        <p:txBody>
          <a:bodyPr anchor="t">
            <a:normAutofit fontScale="99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39d"/>
                </a:solidFill>
                <a:latin typeface="Georgia"/>
              </a:rPr>
              <a:t>6. Aşağıdaki seçeneklerin hangisinde adı verilen sanatçıyla ilgili doğru bilgi </a:t>
            </a:r>
            <a:r>
              <a:rPr b="1" lang="en-US" sz="2200" spc="-1" strike="noStrike" u="sng">
                <a:solidFill>
                  <a:srgbClr val="fff39d"/>
                </a:solidFill>
                <a:uFillTx/>
                <a:latin typeface="Georgia"/>
              </a:rPr>
              <a:t>verilmemiştir</a:t>
            </a:r>
            <a:r>
              <a:rPr b="1" lang="en-US" sz="2200" spc="-1" strike="noStrike">
                <a:solidFill>
                  <a:srgbClr val="fff39d"/>
                </a:solidFill>
                <a:latin typeface="Georgia"/>
              </a:rPr>
              <a:t>?</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A) Faruk Nafiz Çamlıbel: Hece ölçüsüyle yazdığı şiirlerinde Anadolu’yu anlat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B) Memduh Şevket Esendal: Küçük olayları, sıradan insanları anlattığı öyküleriyle anıl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C) Peyami Safa: Romanlarında psikolojik çözümlemelere ağırlık ver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D) Cahit Sıtkı Tarancı: Şiirlerinde iyimserlik ve umut konularını sıkça işlemişt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E) Ahmet Hamdi Tanpınar: Eserlerinde zaman, aşk, Doğu- Batı çelişkisi gibi konuları ele almıştır.</a:t>
            </a:r>
            <a:endParaRPr b="0" lang="en-US" sz="2200" spc="-1" strike="noStrike">
              <a:solidFill>
                <a:srgbClr val="ffffff"/>
              </a:solidFill>
              <a:latin typeface="Century Schoolbook"/>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2285640" y="1428840"/>
            <a:ext cx="6172200" cy="457200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39d"/>
                </a:solidFill>
                <a:latin typeface="Georgia"/>
              </a:rPr>
              <a:t>7. Aşağıdakilerden hangisi Kurtuluş Savaşı’nı konu edinmekte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 Bereketli Topraklar Üzerind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B) Küçük Ağa</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C) Saatleri Ayarlama Enstitüsü</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 İnce Memed</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 Aganta Burma Burinata</a:t>
            </a:r>
            <a:endParaRPr b="0" lang="en-US" sz="2400" spc="-1" strike="noStrike">
              <a:solidFill>
                <a:srgbClr val="ffffff"/>
              </a:solidFill>
              <a:latin typeface="Century Schoolbook"/>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285640" y="571320"/>
            <a:ext cx="6172200" cy="581004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Şiirlerinde bir imge ve müzik kaygısı taşıdığı, hikaye ve romanlarında da, başta ‘zaman” teması olmak üzere, psikolojik anları, bilinçaltını aradığı, yansıttığı görülür. Sahnenin Dışındakiler, Mahur Beste, 19. Asır Türk Edebiyatı Tarihi eserlerinden bazılarıdı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39d"/>
                </a:solidFill>
                <a:latin typeface="Georgia"/>
              </a:rPr>
              <a:t>8. </a:t>
            </a:r>
            <a:r>
              <a:rPr b="1" i="1" lang="en-US" sz="2200" spc="-1" strike="noStrike">
                <a:solidFill>
                  <a:srgbClr val="fff39d"/>
                </a:solidFill>
                <a:latin typeface="Georgia"/>
              </a:rPr>
              <a:t>Bu parçada aşağıdaki sanatçılardan hangisinden bahsedilmekted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A) Ahmet Hamdi Tanpına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B) Kemal Tahir</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C) Sait Faik Abasıyanık</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D) Orhan Kemal</a:t>
            </a:r>
            <a:endParaRPr b="0" lang="en-US" sz="2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E) Sabahattin Ali</a:t>
            </a:r>
            <a:endParaRPr b="0" lang="en-US" sz="2200" spc="-1" strike="noStrike">
              <a:solidFill>
                <a:srgbClr val="ffffff"/>
              </a:solidFill>
              <a:latin typeface="Century Schoolbook"/>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2286000" y="857160"/>
            <a:ext cx="6500880" cy="51674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Georgia"/>
              </a:rPr>
              <a:t>9. Aşağıdakilerden hangisi türü bakımından diğer seçeneklerdekilerden farklı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 Parkta Bir Sonbahar Günüydü</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 IV. Murat</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 Sarı Naciy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 Kayıp Aranıyo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E) Genç Osman</a:t>
            </a:r>
            <a:endParaRPr b="0" lang="en-US" sz="2400" spc="-1" strike="noStrike">
              <a:solidFill>
                <a:srgbClr val="ffffff"/>
              </a:solidFill>
              <a:latin typeface="Century Schoolbook"/>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2000160" y="785880"/>
            <a:ext cx="6786720" cy="559584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39d"/>
                </a:solidFill>
                <a:latin typeface="Georgia"/>
              </a:rPr>
              <a:t>10. Aşağıdaki eşleştirmelerin hangisinde ismi anılan edebiyatçıyla eser verdiği edebi tür arasında bir uygunluk </a:t>
            </a:r>
            <a:r>
              <a:rPr b="1" lang="tr-TR" sz="2400" spc="-1" strike="noStrike" u="sng">
                <a:solidFill>
                  <a:srgbClr val="fff39d"/>
                </a:solidFill>
                <a:uFillTx/>
                <a:latin typeface="Georgia"/>
              </a:rPr>
              <a:t>yoktur</a:t>
            </a:r>
            <a:r>
              <a:rPr b="1" lang="tr-TR" sz="2400" spc="-1" strike="noStrike">
                <a:solidFill>
                  <a:srgbClr val="fff39d"/>
                </a:solidFill>
                <a:latin typeface="Georgia"/>
              </a:rPr>
              <a:t>?</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 Haldun Taner — Tiyatro</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B) Sait Faik Abasıyanık — Öykü</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C) Suut Kemal Yetkin — Deneme</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 Necip Fazıl Kısakürek — Şi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 Ahmet Muhip Dranas — Roman</a:t>
            </a:r>
            <a:endParaRPr b="0" lang="en-US" sz="2400" spc="-1" strike="noStrike">
              <a:solidFill>
                <a:srgbClr val="ffffff"/>
              </a:solidFill>
              <a:latin typeface="Century Schoolbook"/>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2285640" y="785880"/>
            <a:ext cx="6429240" cy="5595840"/>
          </a:xfrm>
          <a:prstGeom prst="rect">
            <a:avLst/>
          </a:prstGeom>
          <a:noFill/>
          <a:ln w="0">
            <a:noFill/>
          </a:ln>
        </p:spPr>
        <p:txBody>
          <a:bodyPr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39d"/>
                </a:solidFill>
                <a:latin typeface="Georgia"/>
              </a:rPr>
              <a:t>11. Aşağıdakilerden hangisinde bir bilgi yanlışlığı yapılmışt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A) Yedi Meşaleciler, memleketçi edebiyat anlayışına tepki olarak doğmuştu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B) Toplumsal gerçekçiler, edebiyatı toplumu politik olarak bilinçlendirme aracı olarak görmüşlerd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C) Oktay Rıfat, Melih Cevdet Anday ve Orhan Veli, Garip akımının öncüleridi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D) İkinci Yenicilere tepki olarak doğan Garipçiler soyutlaşan bir şiirden yanadır.</a:t>
            </a:r>
            <a:endParaRPr b="0" lang="en-US" sz="22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9d"/>
                </a:solidFill>
                <a:latin typeface="Georgia"/>
              </a:rPr>
              <a:t>E) “Mavi” adlı dergi etrafında toplanan Maviciler, Garip şiirine karşıdırlar.</a:t>
            </a:r>
            <a:endParaRPr b="0" lang="en-US" sz="2200" spc="-1" strike="noStrike">
              <a:solidFill>
                <a:srgbClr val="ffffff"/>
              </a:solidFill>
              <a:latin typeface="Century Schoolbook"/>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2285640" y="928440"/>
            <a:ext cx="6172200" cy="4857480"/>
          </a:xfrm>
          <a:prstGeom prst="rect">
            <a:avLst/>
          </a:prstGeom>
          <a:noFill/>
          <a:ln w="0">
            <a:noFill/>
          </a:ln>
        </p:spPr>
        <p:txBody>
          <a:bodyPr anchor="ctr">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39d"/>
                </a:solidFill>
                <a:latin typeface="Georgia"/>
              </a:rPr>
              <a:t>12. Aşağıdaki şairlerden hangisi tiyatro türünde de eser vermişt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 Faruk Nafiz Çamlıbel</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B) Orhan Veli Kanık</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C) Ahmet Muhip Dranas</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 Cahit Sıtkı Tarancı</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 Ziya Osman Saba</a:t>
            </a:r>
            <a:endParaRPr b="0" lang="en-US" sz="2400" spc="-1" strike="noStrike">
              <a:solidFill>
                <a:srgbClr val="ffffff"/>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2285640" y="642600"/>
            <a:ext cx="6172200" cy="5738760"/>
          </a:xfrm>
          <a:prstGeom prst="rect">
            <a:avLst/>
          </a:prstGeom>
          <a:noFill/>
          <a:ln w="0">
            <a:noFill/>
          </a:ln>
        </p:spPr>
        <p:txBody>
          <a:bodyPr anchor="ctr">
            <a:normAutofit fontScale="9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Sanat için sanat anlayışını savunmuşlar, samimiyeti ve içtenliği öne çıkaran bir sanat istemişlerd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Beş Hececilerin sürdürdüğü memleketçi edebiyat anlayışına tepki duymuşlar, sanatta Batılı ilkelerin savunucusu olmuşlardı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Hece ölçüsüyle özellikle Fransız sembolistlerini örnek alarak şiirler yazmışlardı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Yedi Meş’aleciler de Fecr-i Âtîciler gibi etkin olamamışlar; “Meşale” adlı dergiyi sekiz sayı yayımladıktan sonra dağılmışlardır.</a:t>
            </a:r>
            <a:endParaRPr b="0" lang="en-US" sz="2400" spc="-1" strike="noStrike">
              <a:solidFill>
                <a:srgbClr val="ffffff"/>
              </a:solidFill>
              <a:latin typeface="Century Schoolbook"/>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2143080" y="928800"/>
            <a:ext cx="6572160" cy="5238720"/>
          </a:xfrm>
          <a:prstGeom prst="rect">
            <a:avLst/>
          </a:prstGeom>
          <a:noFill/>
          <a:ln w="0">
            <a:noFill/>
          </a:ln>
        </p:spPr>
        <p:txBody>
          <a:bodyPr anchor="t">
            <a:normAutofit fontScale="92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Georgia"/>
              </a:rPr>
              <a:t>13. Aşağıdakilerden hangisi Garip akımının özelliklerinden biridir?</a:t>
            </a:r>
            <a:br>
              <a:rPr sz="2400"/>
            </a:b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Biçimi anlamdan daha önemli görmüşler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Şiiri akıldan çok duyguya dayandırmışl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Kafiyeyi, ölçüyü, söz sanatlarını dışlamışlardı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 Olağanüstü olayları ve kahramanlıkları işlemişler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E) Şiirselliği her şeyin üstünde bir değer kabul etmişlerdir.</a:t>
            </a: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856880" y="356760"/>
            <a:ext cx="6929640" cy="60246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I. Huzu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II. Han Duvarları</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III.Otuz Beş Yaş</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IV. Dokuzuncu Hariciye Koğuşu</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39d"/>
                </a:solidFill>
                <a:latin typeface="Georgia"/>
              </a:rPr>
              <a:t>Yukarıdaki eserler sırasıyla hangi edebiyatçılara aittir?</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A) A. H. Tanpınar — F. N. Çamlıbel — C. S. Tarancı — Peyami Safa</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B) Peyami Safa — F. N. Çamlıbel — C. S. Tarancı — F. H. Dağlarca</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C) A. M. Dranas — F. N. Çamlıbel — N. F. Kısakürek M. Ş. Esendal</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D) A. H. Tanpınar — F. N. Çamlıbel — F. H. Dağlarca — Behçet Necatigil</a:t>
            </a:r>
            <a:endParaRPr b="0" lang="en-US" sz="2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39d"/>
                </a:solidFill>
                <a:latin typeface="Georgia"/>
              </a:rPr>
              <a:t>E) Behçet Necatigil — F. N. Çamlıbel — C. S. Tarancı — Peyami Safa</a:t>
            </a:r>
            <a:endParaRPr b="0" lang="en-US" sz="2000" spc="-1" strike="noStrike">
              <a:solidFill>
                <a:srgbClr val="ffffff"/>
              </a:solidFill>
              <a:latin typeface="Century Schoolbook"/>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2071800" y="1500120"/>
            <a:ext cx="6572160" cy="421488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Georgia"/>
              </a:rPr>
              <a:t>15. Aşağıdakilerden hangisi tiyatro”du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 Tüneldeki Çocuk</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 Keşanlı Ali Destanı</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 Karalama Defteri</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 On İkiye Bir Va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E) Ben Sana Mecburum</a:t>
            </a:r>
            <a:endParaRPr b="0" lang="en-US" sz="2400" spc="-1" strike="noStrike">
              <a:solidFill>
                <a:srgbClr val="ffffff"/>
              </a:solidFill>
              <a:latin typeface="Century Schoolbook"/>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2143080" y="857160"/>
            <a:ext cx="6500880" cy="514368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Georgia"/>
              </a:rPr>
              <a:t>16. </a:t>
            </a:r>
            <a:r>
              <a:rPr b="0" lang="en-US" sz="2400" spc="-1" strike="noStrike">
                <a:solidFill>
                  <a:srgbClr val="fff39d"/>
                </a:solidFill>
                <a:latin typeface="Georgia"/>
              </a:rPr>
              <a:t>‘Beş Şehir’ adlı denemesinde Ankara, Bursa, İstanbul, Erzurum ve Konya şehirlerini tarihi, coğrafi ve kültürel zenginliklerini anlatan yazarımız aşağıdakilerden hangisidir?</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 Cahit Sıtkı Tarancı</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B) Falih Rıfkı Atay</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C) Nurullah Ataç</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D) Memduh Şevket Esendal</a:t>
            </a:r>
            <a:endParaRPr b="0" lang="en-US" sz="24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E) Ahmet Hamdi Tanpınar</a:t>
            </a:r>
            <a:endParaRPr b="0" lang="en-US" sz="2400" spc="-1" strike="noStrike">
              <a:solidFill>
                <a:srgbClr val="ffffff"/>
              </a:solidFill>
              <a:latin typeface="Century Schoolbook"/>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1928880" y="285840"/>
            <a:ext cx="6929280" cy="62863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I. Peyami Safa</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II. Sait Faik Abasıyanık</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III. Nurullah Ataç</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39d"/>
                </a:solidFill>
                <a:latin typeface="Georgia"/>
              </a:rPr>
              <a:t>17. Yukarıdaki edebiyatçıların eserleri sırasıyla aşağıdakilerden hangisidi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A) Saatleri Ayarlama Enstitüsü — Son Kuşlar — Şiir Üzerine Düşüncele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B) Fatih-Harbiye — Alemdağ’da Var Bir Yılan — Karalama Defteri</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C) Sözde Kızlar — Semaver — On İkiye Bir Va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D) Saatleri Ayarlama Enstitüsü — Havuzbaşı — Keşanlı Ali Destanı</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39d"/>
                </a:solidFill>
                <a:latin typeface="Georgia"/>
              </a:rPr>
              <a:t>E) Ayaşlı ve Kiracıları — Kiralık Konak — Sebil ve Güvercinler</a:t>
            </a:r>
            <a:endParaRPr b="0" lang="en-US" sz="24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d2611c"/>
                </a:solidFill>
                <a:uFillTx/>
                <a:latin typeface="Arial"/>
                <a:hlinkClick r:id="rId1"/>
              </a:rPr>
              <a:t>www.edebiyatogretmeni.net</a:t>
            </a:r>
            <a:r>
              <a:rPr b="0" lang="tr-TR" sz="2400" spc="-1" strike="noStrike">
                <a:solidFill>
                  <a:srgbClr val="fff39d"/>
                </a:solidFill>
                <a:latin typeface="Arial"/>
              </a:rPr>
              <a:t> </a:t>
            </a:r>
            <a:endParaRPr b="0" lang="en-US" sz="2400" spc="-1" strike="noStrike">
              <a:solidFill>
                <a:srgbClr val="ffffff"/>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571320"/>
            <a:ext cx="6172200" cy="46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39d"/>
                </a:solidFill>
                <a:latin typeface="Georgia"/>
              </a:rPr>
              <a:t>BİRİNCİ</a:t>
            </a:r>
            <a:r>
              <a:rPr b="1" i="1" lang="en-US" sz="2900" spc="-1" strike="noStrike">
                <a:solidFill>
                  <a:srgbClr val="fff39d"/>
                </a:solidFill>
                <a:latin typeface="Georgia"/>
              </a:rPr>
              <a:t> YENİ (GARİPÇİLER)</a:t>
            </a:r>
            <a:endParaRPr b="0" lang="en-US" sz="2900" spc="-1" strike="noStrike">
              <a:solidFill>
                <a:srgbClr val="fff39d"/>
              </a:solidFill>
              <a:latin typeface="Century Schoolbook"/>
            </a:endParaRPr>
          </a:p>
        </p:txBody>
      </p:sp>
      <p:sp>
        <p:nvSpPr>
          <p:cNvPr id="361" name="PlaceHolder 2"/>
          <p:cNvSpPr>
            <a:spLocks noGrp="1"/>
          </p:cNvSpPr>
          <p:nvPr>
            <p:ph/>
          </p:nvPr>
        </p:nvSpPr>
        <p:spPr>
          <a:xfrm>
            <a:off x="2285640" y="1214280"/>
            <a:ext cx="6172200" cy="5167440"/>
          </a:xfrm>
          <a:prstGeom prst="rect">
            <a:avLst/>
          </a:prstGeom>
          <a:noFill/>
          <a:ln w="0">
            <a:noFill/>
          </a:ln>
        </p:spPr>
        <p:txBody>
          <a:bodyPr anchor="ctr">
            <a:normAutofit fontScale="93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Orhan Veli Kanık, Melih Cevdet Anday, Oktay Rıfat Horozcu.</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Akım, üç şairin 1941 ‘de ortak yayımladıkları Garip adlı şiir kitabıyla başlamıştı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Şiir ve edebiyat hakkındaki düşüncelerini kitabın girişinde Orhan Veli tarafından (imzası olmamakla birlikte) yazıldığı düşünülen Garip Bildirgesi ile ortaya koymuşlardır.</a:t>
            </a:r>
            <a:endParaRPr b="0" lang="en-US" sz="24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Schoolbook"/>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9d"/>
                </a:solidFill>
                <a:latin typeface="Georgia"/>
              </a:rPr>
              <a:t>Sürrealizmden etkilendikleri yönler vardır.</a:t>
            </a:r>
            <a:endParaRPr b="0" lang="en-US" sz="2400" spc="-1" strike="noStrike">
              <a:solidFill>
                <a:srgbClr val="ffffff"/>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18:13:05Z</dcterms:created>
  <dc:creator>AS</dc:creator>
  <dc:description/>
  <dc:language>en-US</dc:language>
  <cp:lastModifiedBy>Ekrem</cp:lastModifiedBy>
  <dcterms:modified xsi:type="dcterms:W3CDTF">2009-01-30T14:47:23Z</dcterms:modified>
  <cp:revision>208</cp:revision>
  <dc:subject/>
  <dc:title>Slayt 1</dc:title>
</cp:coreProperties>
</file>