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2B8-49E4-4BD1-82D1-500E49AB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459-B2C6-4CC4-AA88-53A1C8C0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8E5-5BD2-4679-8F64-A3C059DF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E06-BF4F-46EE-8B9E-2FABEACA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FA25-29BD-4271-AA29-F8FBA081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A9A9-48E6-4A86-A245-EAB30976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89CA-B872-4891-8C56-4751D1AB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E5D3-0837-45D6-95F7-0DB5C122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8795-0FC6-4BB6-B81F-365F6949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115A-4B25-4045-9694-1B1A4BF1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7F01-B75A-4FA6-B752-5E43950A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198-9DCD-46E0-85AD-2B28C23B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422D-F178-4073-BE5D-A575D01B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CAFC-6CA5-4231-983B-C16CE45F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6B7F-38A0-4BCC-9342-605DF325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0EC-23BB-4BC5-8E5F-859AEFF1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9783-5639-4E99-AA3A-D0CD7992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A3C-B62D-4C0E-913D-5E436690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6F1-F89E-46BC-972F-086EE3D8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182-489A-4595-8C34-CDC29713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049-D984-4F3E-B109-4F7472FC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E52-03A1-4CF7-8421-5AE8FF9E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B50-F955-443A-B701-DD5ECCE4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EE0E-0EA4-4DC5-AC64-575CFCB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.xml"/><Relationship Id="rId36" Type="http://schemas.openxmlformats.org/officeDocument/2006/relationships/slideLayout" Target="../slideLayouts/slideLayout2.xml"/><Relationship Id="rId37" Type="http://schemas.openxmlformats.org/officeDocument/2006/relationships/slideLayout" Target="../slideLayouts/slideLayout3.xml"/><Relationship Id="rId38" Type="http://schemas.openxmlformats.org/officeDocument/2006/relationships/slideLayout" Target="../slideLayouts/slideLayout4.xml"/><Relationship Id="rId39" Type="http://schemas.openxmlformats.org/officeDocument/2006/relationships/slideLayout" Target="../slideLayouts/slideLayout5.xml"/><Relationship Id="rId40" Type="http://schemas.openxmlformats.org/officeDocument/2006/relationships/slideLayout" Target="../slideLayouts/slideLayout6.xml"/><Relationship Id="rId41" Type="http://schemas.openxmlformats.org/officeDocument/2006/relationships/slideLayout" Target="../slideLayouts/slideLayout7.xml"/><Relationship Id="rId42" Type="http://schemas.openxmlformats.org/officeDocument/2006/relationships/slideLayout" Target="../slideLayouts/slideLayout8.xml"/><Relationship Id="rId43" Type="http://schemas.openxmlformats.org/officeDocument/2006/relationships/slideLayout" Target="../slideLayouts/slideLayout9.xml"/><Relationship Id="rId44" Type="http://schemas.openxmlformats.org/officeDocument/2006/relationships/slideLayout" Target="../slideLayouts/slideLayout10.xml"/><Relationship Id="rId45" Type="http://schemas.openxmlformats.org/officeDocument/2006/relationships/slideLayout" Target="../slideLayouts/slideLayout11.xml"/><Relationship Id="rId4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2.wmf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slideLayout" Target="../slideLayouts/slideLayout13.xml"/><Relationship Id="rId36" Type="http://schemas.openxmlformats.org/officeDocument/2006/relationships/slideLayout" Target="../slideLayouts/slideLayout14.xml"/><Relationship Id="rId37" Type="http://schemas.openxmlformats.org/officeDocument/2006/relationships/slideLayout" Target="../slideLayouts/slideLayout15.xml"/><Relationship Id="rId38" Type="http://schemas.openxmlformats.org/officeDocument/2006/relationships/slideLayout" Target="../slideLayouts/slideLayout16.xml"/><Relationship Id="rId39" Type="http://schemas.openxmlformats.org/officeDocument/2006/relationships/slideLayout" Target="../slideLayouts/slideLayout17.xml"/><Relationship Id="rId40" Type="http://schemas.openxmlformats.org/officeDocument/2006/relationships/slideLayout" Target="../slideLayouts/slideLayout18.xml"/><Relationship Id="rId41" Type="http://schemas.openxmlformats.org/officeDocument/2006/relationships/slideLayout" Target="../slideLayouts/slideLayout19.xml"/><Relationship Id="rId42" Type="http://schemas.openxmlformats.org/officeDocument/2006/relationships/slideLayout" Target="../slideLayouts/slideLayout20.xml"/><Relationship Id="rId43" Type="http://schemas.openxmlformats.org/officeDocument/2006/relationships/slideLayout" Target="../slideLayouts/slideLayout21.xml"/><Relationship Id="rId44" Type="http://schemas.openxmlformats.org/officeDocument/2006/relationships/slideLayout" Target="../slideLayouts/slideLayout22.xml"/><Relationship Id="rId45" Type="http://schemas.openxmlformats.org/officeDocument/2006/relationships/slideLayout" Target="../slideLayouts/slideLayout23.xml"/><Relationship Id="rId4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BC6E-6A3D-45D5-859E-0926E570AA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5"/>
    <p:sldLayoutId id="2147483650" r:id="rId36"/>
    <p:sldLayoutId id="2147483651" r:id="rId37"/>
    <p:sldLayoutId id="2147483652" r:id="rId38"/>
    <p:sldLayoutId id="2147483653" r:id="rId39"/>
    <p:sldLayoutId id="2147483654" r:id="rId40"/>
    <p:sldLayoutId id="2147483655" r:id="rId41"/>
    <p:sldLayoutId id="2147483656" r:id="rId42"/>
    <p:sldLayoutId id="2147483657" r:id="rId43"/>
    <p:sldLayoutId id="2147483658" r:id="rId44"/>
    <p:sldLayoutId id="2147483659" r:id="rId45"/>
    <p:sldLayoutId id="2147483660" r:id="rId4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CF39-1B7D-4100-9655-2CC3F571FFD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5"/>
    <p:sldLayoutId id="2147483663" r:id="rId36"/>
    <p:sldLayoutId id="2147483664" r:id="rId37"/>
    <p:sldLayoutId id="2147483665" r:id="rId38"/>
    <p:sldLayoutId id="2147483666" r:id="rId39"/>
    <p:sldLayoutId id="2147483667" r:id="rId40"/>
    <p:sldLayoutId id="2147483668" r:id="rId41"/>
    <p:sldLayoutId id="2147483669" r:id="rId42"/>
    <p:sldLayoutId id="2147483670" r:id="rId43"/>
    <p:sldLayoutId id="2147483671" r:id="rId44"/>
    <p:sldLayoutId id="2147483672" r:id="rId45"/>
    <p:sldLayoutId id="2147483673" r:id="rId4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ebiyatogretmeni.net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ebiyatogretmeni.net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9"/>
          <p:cNvSpPr txBox="1"/>
          <p:nvPr/>
        </p:nvSpPr>
        <p:spPr>
          <a:xfrm>
            <a:off x="3276720" y="5734080"/>
            <a:ext cx="37908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DİVAN EDEBİYAT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93" name="WordArt 10"/>
          <p:cNvSpPr txBox="1"/>
          <p:nvPr/>
        </p:nvSpPr>
        <p:spPr>
          <a:xfrm>
            <a:off x="755640" y="981000"/>
            <a:ext cx="5229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İSLAMİ DÖNEM TÜRK EDEBİYATI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 rot="16200000">
            <a:off x="-276120" y="1365120"/>
            <a:ext cx="16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 Narrow"/>
              </a:rPr>
              <a:t>K I T’ A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740880" y="981000"/>
            <a:ext cx="6006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Bir nükte, bir yergi, bir düşünce gibi özel konular işl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En az iki en çok on iki beyitten oluşu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Beyitler arasında konu birliği vard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Şair mahlasını kullanmaz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Kafiye düzeni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                           ……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a          ……c             …….ç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                           ……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b          ……b             ….…b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900000" y="3357720"/>
            <a:ext cx="7344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 rot="16200000">
            <a:off x="-709200" y="438840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 Narrow"/>
              </a:rPr>
              <a:t>M Ü S T E Z A 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755640" y="3357720"/>
            <a:ext cx="748836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Uzun ve kısa mısralardan oluşan müstezat, gazelin özel bir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biçimid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Uzun mısradan sonra gelen kısa mısraya “ziyade” d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Aşk, şarap konularının yanında din ve felsefe konularında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da yazıl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Bülbül yetişir bağrımı hun etti figanı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                                                                            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Zapt eyle dehanı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                        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Hançer gibi deldi yüreğim tiğ-ı zebanı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                                                                                   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e’sir-i lisanı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4"/>
          <p:cNvSpPr/>
          <p:nvPr/>
        </p:nvSpPr>
        <p:spPr>
          <a:xfrm>
            <a:off x="0" y="0"/>
            <a:ext cx="9144000" cy="104292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487520" y="260280"/>
            <a:ext cx="60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 Narrow"/>
              </a:rPr>
              <a:t>BENDLERLE KURULAN NAZIM BİÇİMLERİ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0" y="1052640"/>
            <a:ext cx="9144000" cy="580536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2701440" y="126828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TEK BENDDEN OLUŞANLA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 rot="16200000">
            <a:off x="-334080" y="2503440"/>
            <a:ext cx="160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 Narrow"/>
              </a:rPr>
              <a:t>R U B A İ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597960" y="1773360"/>
            <a:ext cx="6345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Tek dörtlükten oluşu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Aruzun özel kalıplarıyla yazıl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Kafiye düzeni:a-a-x-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Dizeler arasında anlam birliği vard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Daha çok felsefi konular, aşk, şarap, din, tasavvufla ilgilid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En büyük ustası İranlı Ömer Hayyam’ d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Türk edebiyatında : Yahya Kemal, Arif Nihat Asy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755640" y="4076640"/>
            <a:ext cx="763272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 rot="16200000">
            <a:off x="-389880" y="486144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 Narrow"/>
              </a:rPr>
              <a:t>T U Y U 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600840" y="4365720"/>
            <a:ext cx="58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Türk şairleri tarafından bulunmuştur. Rubai’ye benze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Önemli şairleri: Ali Şir Nevai, Kadı Burhanettin, Nesim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Halk şiirindeki “maniye” benze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Azeri ve Çağatay edebiyatında gelişmiştir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4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2843280" y="189000"/>
            <a:ext cx="37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ÇOK BENDDEN OLUŞANLA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(MUSAMMATLAR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 rot="16200000">
            <a:off x="-500400" y="1737000"/>
            <a:ext cx="216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 Narrow"/>
              </a:rPr>
              <a:t>M U R A B B 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868320" y="903240"/>
            <a:ext cx="4721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En az 3, en çok 7 bendden oluşu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Kafiye düzeni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                      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a             b            c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      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a             b            c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                      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a             b            c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                      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a             a            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Övgü, yergi, dini ve öğretici konular işl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Namık Kemal bu türde çok başarılıd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826920" y="3500280"/>
            <a:ext cx="741708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 rot="16200000">
            <a:off x="-70920" y="4482360"/>
            <a:ext cx="14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 Narrow"/>
              </a:rPr>
              <a:t>Ş A R K 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879480" y="3639960"/>
            <a:ext cx="736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Aşk ve güzellik konusunu işle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Bestelenmiş şiirlerd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Halk edebiyatı etkisiyle özellikle koşmaya ve türküye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benzetilere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  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oluşturulmuştu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Nedim öncülüğünü yapmışt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Türklerin oluşturduğu bir türdür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4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 rot="16200000">
            <a:off x="-662400" y="1971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 Narrow"/>
              </a:rPr>
              <a:t>TERKİB-İ BEN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808200" y="831960"/>
            <a:ext cx="743580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Bend satısı 5-10 arasında değiş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Her bend 10-20 dizeden oluşu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Gazeldeki gibi kafiyel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Her bendin sonunda “vasıta beyiti” bulunur. Her bendin so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nund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değiş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Bendler, beyitlere ayrılabil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Felsefi ve sosyal düşünceler, zamandan yakınmalar, ağıtlar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konusunu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oluşturu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Bağdatlı Ruhi, Ziya Paşa bu türün ustalarıd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900000" y="3645000"/>
            <a:ext cx="734400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Text Box 9"/>
          <p:cNvSpPr/>
          <p:nvPr/>
        </p:nvSpPr>
        <p:spPr>
          <a:xfrm rot="16200000">
            <a:off x="-484200" y="445860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 Narrow"/>
              </a:rPr>
              <a:t>TERCİ-İ BEN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818640" y="3691080"/>
            <a:ext cx="4711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Biçim yönünden “terkib-i bend” e benze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Vasıta beyiti bendlerin sonunda değişmez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Daha çok dini konular işl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Ziya Paşa bu türle tanınmışt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4"/>
          <p:cNvSpPr/>
          <p:nvPr/>
        </p:nvSpPr>
        <p:spPr>
          <a:xfrm>
            <a:off x="0" y="0"/>
            <a:ext cx="9144000" cy="86364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495880" y="1890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 Narrow"/>
              </a:rPr>
              <a:t>DİVAN EDEBİYATINDA NESİ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0" y="981000"/>
            <a:ext cx="9144000" cy="5877000"/>
          </a:xfrm>
          <a:prstGeom prst="flowChartMultidocumen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971640" y="907920"/>
            <a:ext cx="817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Divan edebiyatında nesir, şiirden daha az gelişmiştir. Bunda düzyazının edebi ürün </a:t>
            </a:r>
            <a:r>
              <a:rPr b="1" lang="tr-TR" sz="1400" spc="-1" strike="noStrike">
                <a:solidFill>
                  <a:srgbClr val="2f1311"/>
                </a:solidFill>
                <a:latin typeface="Arial"/>
              </a:rPr>
              <a:t>sayılmaması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400" spc="-1" strike="noStrike">
                <a:solidFill>
                  <a:srgbClr val="2f1311"/>
                </a:solidFill>
                <a:latin typeface="Arial"/>
              </a:rPr>
              <a:t>nın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etkisi büyüktü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3440" y="14842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 Narrow"/>
              </a:rPr>
              <a:t>Nesir Türle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-356040" y="2082960"/>
            <a:ext cx="774936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f1311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2f1311"/>
                </a:solidFill>
                <a:uFillTx/>
                <a:latin typeface="Arial Narrow"/>
              </a:rPr>
              <a:t>Münşeat: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Mektup ve düzyazı örneklerid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2.   </a:t>
            </a:r>
            <a:r>
              <a:rPr b="1" lang="tr-TR" sz="2400" spc="-1" strike="noStrike" u="sng">
                <a:solidFill>
                  <a:srgbClr val="2f1311"/>
                </a:solidFill>
                <a:uFillTx/>
                <a:latin typeface="Arial Narrow"/>
              </a:rPr>
              <a:t>Tarih: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Dönemin tarihi olayları anlatıl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3.   </a:t>
            </a:r>
            <a:r>
              <a:rPr b="1" lang="tr-TR" sz="2400" spc="-1" strike="noStrike" u="sng">
                <a:solidFill>
                  <a:srgbClr val="2f1311"/>
                </a:solidFill>
                <a:uFillTx/>
                <a:latin typeface="Arial Narrow"/>
              </a:rPr>
              <a:t>Siyer: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Peygamberimizin hayatı ve savaşları anlatıl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4.   </a:t>
            </a:r>
            <a:r>
              <a:rPr b="1" lang="tr-TR" sz="2400" spc="-1" strike="noStrike" u="sng">
                <a:solidFill>
                  <a:srgbClr val="2f1311"/>
                </a:solidFill>
                <a:uFillTx/>
                <a:latin typeface="Arial Narrow"/>
              </a:rPr>
              <a:t>Tezkire: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Çeşitli sınıflardan meşhur insanların biyografileri veril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5.   </a:t>
            </a:r>
            <a:r>
              <a:rPr b="1" lang="tr-TR" sz="2400" spc="-1" strike="noStrike" u="sng">
                <a:solidFill>
                  <a:srgbClr val="2f1311"/>
                </a:solidFill>
                <a:uFillTx/>
                <a:latin typeface="Arial Narrow"/>
              </a:rPr>
              <a:t>Surname: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Büyük düğün törenleri anlatıl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6.   </a:t>
            </a:r>
            <a:r>
              <a:rPr b="1" lang="tr-TR" sz="2400" spc="-1" strike="noStrike" u="sng">
                <a:solidFill>
                  <a:srgbClr val="2f1311"/>
                </a:solidFill>
                <a:uFillTx/>
                <a:latin typeface="Arial Narrow"/>
              </a:rPr>
              <a:t>Gazavatname: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Büyük kahramanların savaş hikayeleri anlatıl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7.   </a:t>
            </a:r>
            <a:r>
              <a:rPr b="1" lang="tr-TR" sz="2400" spc="-1" strike="noStrike" u="sng">
                <a:solidFill>
                  <a:srgbClr val="2f1311"/>
                </a:solidFill>
                <a:uFillTx/>
                <a:latin typeface="Arial Narrow"/>
              </a:rPr>
              <a:t>Seyahatname: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Gezi yazılarıd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6000"/>
                            </p:stCondLst>
                            <p:childTnLst>
                              <p:par>
                                <p:cTn id="3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"/>
          <p:cNvSpPr/>
          <p:nvPr/>
        </p:nvSpPr>
        <p:spPr>
          <a:xfrm>
            <a:off x="0" y="0"/>
            <a:ext cx="9144000" cy="6858000"/>
          </a:xfrm>
          <a:prstGeom prst="flowChartInternalStorag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2199960" y="476280"/>
            <a:ext cx="48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 Narrow"/>
              </a:rPr>
              <a:t>Divan Nesri Üç Bölümde İnceleni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-92160" y="133524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1. Sade Nesir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1692360" y="1268280"/>
            <a:ext cx="7632720" cy="1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Türkçe bir anlatımla halkı bilgilendirmek için yazılır. Genel olarak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tef</a:t>
            </a:r>
            <a:r>
              <a:rPr b="1" lang="tr-TR" sz="1400" spc="-1" strike="noStrike">
                <a:solidFill>
                  <a:srgbClr val="2f1311"/>
                </a:solidFill>
                <a:latin typeface="Arial"/>
              </a:rPr>
              <a:t>sir ve hadis</a:t>
            </a: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400" spc="-1" strike="noStrike">
                <a:solidFill>
                  <a:srgbClr val="2f1311"/>
                </a:solidFill>
                <a:latin typeface="Arial"/>
              </a:rPr>
              <a:t>kitapları,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dini ve tasavvufi eserler, menakıpnameler, destan </a:t>
            </a:r>
            <a:r>
              <a:rPr b="1" lang="tr-TR" sz="1400" spc="-1" strike="noStrike">
                <a:solidFill>
                  <a:srgbClr val="2f1311"/>
                </a:solidFill>
                <a:latin typeface="Arial"/>
              </a:rPr>
              <a:t>niteliği taşıyan eserler bu türde yazıl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Mercimek Ahmet &gt; Kabusnam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Sehi Bey &gt; Heşt Behiş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Katip Çelebi, Evliya Çeleb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-720" y="3068640"/>
            <a:ext cx="169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2. Süslü Nesir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692360" y="3141720"/>
            <a:ext cx="76676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Ustalık göstermek amacıyla yazılmış, yabancı sözcük ve tamlamalarla </a:t>
            </a:r>
            <a:r>
              <a:rPr b="1" lang="tr-TR" sz="1400" spc="-1" strike="noStrike">
                <a:solidFill>
                  <a:srgbClr val="2f1311"/>
                </a:solidFill>
                <a:latin typeface="Arial"/>
              </a:rPr>
              <a:t>yüklü, söz ve      anlam</a:t>
            </a:r>
            <a:r>
              <a:rPr b="0" lang="tr-TR" sz="1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sanatlarıyla yüklü,uzun ve zor anlaşılır bir nesirdi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Sinan Paşa &gt; Tazarrunam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Fuzuli &gt; Şikayetnam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Veysi, Nergisi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-720" y="4797360"/>
            <a:ext cx="155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3. Orta Nesir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1692360" y="4749840"/>
            <a:ext cx="756108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Halkın konuştuğu dilden ayrılmış, yer yer süslü nesrin özelliklerini taşımakla </a:t>
            </a:r>
            <a:r>
              <a:rPr b="1" lang="tr-TR" sz="1400" spc="-1" strike="noStrike">
                <a:solidFill>
                  <a:srgbClr val="2f1311"/>
                </a:solidFill>
                <a:latin typeface="Arial"/>
              </a:rPr>
              <a:t>beraber;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amacı, anlatmak istenileni anlaşılır biçimde ortaya koymaktır. Ustalık göstermek </a:t>
            </a:r>
            <a:r>
              <a:rPr b="1" lang="tr-TR" sz="1400" spc="-1" strike="noStrike">
                <a:solidFill>
                  <a:srgbClr val="2f1311"/>
                </a:solidFill>
                <a:latin typeface="Arial"/>
              </a:rPr>
              <a:t>düşünülmez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Öğretici amaç taşıyan bilim ve kültür konularında yazılmış eserler bu türdendi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Aşıkpaşazade &gt; Tevarih-i Al-i Osman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Naima &gt; Naima Tarihi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Silahtar Mehmet Ağa, Mütercim Asım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6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6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4"/>
          <p:cNvSpPr/>
          <p:nvPr/>
        </p:nvSpPr>
        <p:spPr>
          <a:xfrm>
            <a:off x="0" y="0"/>
            <a:ext cx="9144000" cy="83664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350800" y="189000"/>
            <a:ext cx="47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 Narrow"/>
              </a:rPr>
              <a:t>DİVAN EDEBİYATI SANATÇILAR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0" y="4005360"/>
            <a:ext cx="4716360" cy="285264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AutoShape 8"/>
          <p:cNvSpPr/>
          <p:nvPr/>
        </p:nvSpPr>
        <p:spPr>
          <a:xfrm>
            <a:off x="4356000" y="4005360"/>
            <a:ext cx="4788000" cy="285264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AutoShape 9"/>
          <p:cNvSpPr/>
          <p:nvPr/>
        </p:nvSpPr>
        <p:spPr>
          <a:xfrm>
            <a:off x="0" y="907920"/>
            <a:ext cx="4859280" cy="273528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AutoShape 10"/>
          <p:cNvSpPr/>
          <p:nvPr/>
        </p:nvSpPr>
        <p:spPr>
          <a:xfrm>
            <a:off x="4500720" y="907920"/>
            <a:ext cx="4643280" cy="273708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1692360" y="907920"/>
            <a:ext cx="18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HOCA DEHHANİ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230520" y="90792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SEYYİD NESİM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81800" y="400536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AŞIK PAŞ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5940360" y="400536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KADI BURHANETTİ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242640" y="1197000"/>
            <a:ext cx="4420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13.yy’da yaşamıştır.Horasan Türklerindendir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İran edebiyatı etkisiyle din dışı şiirler yazdı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Divan edebiyatının ilk şairi olarak kabul edilir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Şiirlerinin en önemli teması aşktır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Farsa’ça bir Selçuk Sehnamesi yazdığı da söyleni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4788000" y="1197000"/>
            <a:ext cx="4088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14.yy’da tasavvuf alanında şiirler yazan Seyyid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Nesim’i görürüz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Eserlerinde Azeri Türkçesini kullanmıştır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Dili oldukça sadedir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Şiirleri son derece liriktir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Divanı vardır.Tuyuğları önemlidir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Tasavvuf inancından yola çıkarak “enel hak”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(ben Tanrıyım) dediği için Halep’te derisi yüzül-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müştü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43360" y="4365720"/>
            <a:ext cx="4077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Anadolu Türkleri arasında Tasavvufu yaymak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için uğraşmışt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Yunus’un etkisinde kalmış, hem aruzla hem de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heceyle şiirler söylemişti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En önemli eseri Türklere tasavvufu öğretmek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için yazdığı “ GARİBNAME “ di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4710960" y="4321080"/>
            <a:ext cx="40636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2f1311"/>
                </a:solidFill>
                <a:latin typeface="Arial Narrow"/>
              </a:rPr>
              <a:t>Eğlenceye düşkün, adil, cömert,bilgin, şair bir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Arial Narrow"/>
              </a:rPr>
              <a:t>hükümdard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2f1311"/>
                </a:solidFill>
                <a:latin typeface="Arial Narrow"/>
              </a:rPr>
              <a:t>Dili Azeri Türkçesinin özelliklerini taş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2f1311"/>
                </a:solidFill>
                <a:latin typeface="Arial Narrow"/>
              </a:rPr>
              <a:t>Aruz kusurlarına çokça rastlan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 Narrow"/>
              </a:rPr>
              <a:t> “</a:t>
            </a:r>
            <a:r>
              <a:rPr b="1" lang="en-US" sz="1600" spc="-1" strike="noStrike">
                <a:solidFill>
                  <a:srgbClr val="2f1311"/>
                </a:solidFill>
                <a:latin typeface="Arial Narrow"/>
              </a:rPr>
              <a:t>Divan”ı vardır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 Narrow"/>
              </a:rPr>
              <a:t>Gazel ve tuyuglarıyla tanınmış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500"/>
                            </p:stCondLst>
                            <p:childTnLst>
                              <p:par>
                                <p:cTn id="4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500"/>
                            </p:stCondLst>
                            <p:childTnLst>
                              <p:par>
                                <p:cTn id="41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7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8000"/>
                            </p:stCondLst>
                            <p:childTnLst>
                              <p:par>
                                <p:cTn id="4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7"/>
          <p:cNvSpPr/>
          <p:nvPr/>
        </p:nvSpPr>
        <p:spPr>
          <a:xfrm>
            <a:off x="0" y="3645000"/>
            <a:ext cx="4643280" cy="302400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4356000" y="3645000"/>
            <a:ext cx="4788000" cy="302400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4427640" y="260280"/>
            <a:ext cx="4716360" cy="331308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0" y="260280"/>
            <a:ext cx="4643280" cy="331308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836000" y="260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AHMEDİ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321480" y="620640"/>
            <a:ext cx="394200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in dışı şiirler yazmışt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leri liriktir.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ivan edebiyatını geliştiren şaird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İran edebiyatının güzelliklerini edebiyatımıza aktar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maya çalışmış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Aruzu ustalıkla kullanmış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Büyük bir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“DİVAN”ı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,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“İSKENDERNAME”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v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CEŞİD Ü HURŞİD”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adlı eserleri vard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6228000" y="26028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ALİ ŞİR NEVAİ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4784040" y="692280"/>
            <a:ext cx="39420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Büyük bir devlet adamı ve büyük bir edebiyatçıd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Muhakemet’ül Lügateyn adlı eserinde Türkçeyl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Farsçayı karşılaştırarak Türkçenin daha üstün bir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il olduğunu söyle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Türk dilini yabancı kelimelerden koruma iste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Türk dil kurumunu kurmaya çalışmış ve bu amaçl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leri yazmışt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Çağatay lehçesini kullanmıştı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5 Mesneviden meydana gelen hamse sahibid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üz yazıları da vard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MAHZEN’ÜL ESRAR ,MECALİS’ÜN NEFAİS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MİZAN’ÜL EZVAN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1405080" y="3645000"/>
            <a:ext cx="15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AHMET PAŞ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Text Box 19"/>
          <p:cNvSpPr/>
          <p:nvPr/>
        </p:nvSpPr>
        <p:spPr>
          <a:xfrm>
            <a:off x="372240" y="4073400"/>
            <a:ext cx="39006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Fatih Sultan Mehmet’in öğretmenid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Devrinde “şairler sultanı” olarak bilin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Zarif söyleyişleri olan nüktedan birid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Bir ara zindana atılmış yazdığı </a:t>
            </a:r>
            <a:r>
              <a:rPr b="1" lang="en-US" sz="1800" spc="-1" strike="noStrike">
                <a:solidFill>
                  <a:srgbClr val="2f1311"/>
                </a:solidFill>
                <a:latin typeface="Arial Narrow"/>
              </a:rPr>
              <a:t>“kerem”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redifli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gazel oradan kurtulmasını sağlamış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Eserlerinde sağlam bir mısra yapısı vard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Dili ve mecazları kullanışı devrinin şairlerinden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üstündü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Günlük sorunları işlemiş, aruzu Türkçeye ustalıkl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uyarlamış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6302520" y="362124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NECATİ BE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4714200" y="4076640"/>
            <a:ext cx="41446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lerinde atasözlerine yer vererek Divan edebiyatı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nda mahallileşme akımını başlatmış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ivan şiirine millilik ve ulusal zevk getirmişt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Açık yapmacıksız bir Türkçeyle derin anlamlar söyle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miş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Kastamonu’da nakkaşlık yaparken tanınmış ve saray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çağrılmış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0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8000"/>
                            </p:stCondLst>
                            <p:childTnLst>
                              <p:par>
                                <p:cTn id="47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8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4"/>
          <p:cNvSpPr/>
          <p:nvPr/>
        </p:nvSpPr>
        <p:spPr>
          <a:xfrm>
            <a:off x="0" y="0"/>
            <a:ext cx="4356000" cy="335772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23184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3" name="Picture 7" descr="süleyman çelebi"/>
          <p:cNvPicPr/>
          <p:nvPr/>
        </p:nvPicPr>
        <p:blipFill>
          <a:blip r:embed="rId2"/>
          <a:stretch/>
        </p:blipFill>
        <p:spPr>
          <a:xfrm>
            <a:off x="0" y="0"/>
            <a:ext cx="914400" cy="119052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8"/>
          <p:cNvSpPr/>
          <p:nvPr/>
        </p:nvSpPr>
        <p:spPr>
          <a:xfrm>
            <a:off x="4716360" y="0"/>
            <a:ext cx="4427640" cy="335772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AutoShape 9"/>
          <p:cNvSpPr/>
          <p:nvPr/>
        </p:nvSpPr>
        <p:spPr>
          <a:xfrm>
            <a:off x="0" y="3500280"/>
            <a:ext cx="4427640" cy="335772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4716360" y="3500280"/>
            <a:ext cx="4427640" cy="335772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4984920" y="6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18" name="Picture 13" descr="FUZULİ"/>
          <p:cNvPicPr/>
          <p:nvPr/>
        </p:nvPicPr>
        <p:blipFill>
          <a:blip r:embed="rId3"/>
          <a:stretch/>
        </p:blipFill>
        <p:spPr>
          <a:xfrm>
            <a:off x="4716360" y="0"/>
            <a:ext cx="971640" cy="12762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5"/>
          <p:cNvSpPr/>
          <p:nvPr/>
        </p:nvSpPr>
        <p:spPr>
          <a:xfrm>
            <a:off x="-92160" y="359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0" name="Picture 16" descr="nef'i"/>
          <p:cNvPicPr/>
          <p:nvPr/>
        </p:nvPicPr>
        <p:blipFill>
          <a:blip r:embed="rId4"/>
          <a:stretch/>
        </p:blipFill>
        <p:spPr>
          <a:xfrm>
            <a:off x="0" y="3500280"/>
            <a:ext cx="914400" cy="13240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7"/>
          <p:cNvSpPr/>
          <p:nvPr/>
        </p:nvSpPr>
        <p:spPr>
          <a:xfrm>
            <a:off x="1405080" y="0"/>
            <a:ext cx="22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 Narrow"/>
              </a:rPr>
              <a:t>SÜLEYMAN ÇELEBİ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6658920" y="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 Narrow"/>
              </a:rPr>
              <a:t>FUZULİ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2124360" y="350028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 Narrow"/>
              </a:rPr>
              <a:t>NEF’İ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Text Box 20"/>
          <p:cNvSpPr/>
          <p:nvPr/>
        </p:nvSpPr>
        <p:spPr>
          <a:xfrm>
            <a:off x="-1440" y="333360"/>
            <a:ext cx="4469040" cy="28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İyi bir eğitim alarak yetiştiği eserlerinden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               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anlaşılmaktad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Yıldırım Beyazıt zamanında Ulu Cami’d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                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imamlık yapmış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airin tek eseri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Vesilet’ün Necat (Mevlid)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’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Süleyman Çelebi Mevlidi Hz. Muhammed’in diğer peygam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berlerden üstün olduğunu ifade etmek için yazmış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Mevlid XV. yy Batı Türkçesinin gramer ve ses özelliklerini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bütün yönleriyle göstermesi bakımından da önemli bir e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serd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Text Box 21"/>
          <p:cNvSpPr/>
          <p:nvPr/>
        </p:nvSpPr>
        <p:spPr>
          <a:xfrm>
            <a:off x="4639320" y="260280"/>
            <a:ext cx="46231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ivan edebiyatının en büyük şairidir.Kerbela’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a yaşamıştır.Türbedarlık yapmış iyi bir eği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tim görmüştü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lerin Azeri Türkçesi ile yazılmıştır,Dönemine göre dili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sadedir.Gazel şairi olarak bilin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i bir ilim işi olarak görür.İlimsiz şiiri temasız duvara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benzet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de tasavvuf önemlid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iğer önemli konu aşktır..Günlük yaşamdan bahsetmemişt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lerindeki aşk ilahi aşk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Türkçe Divan, Farsça Divan, Şikayetname, Beng ü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Bade, Leyla vü Mecnun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-2160" y="3789360"/>
            <a:ext cx="4414320" cy="33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Padişahlara ve ileri gelenlere yazdığı kaside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leri ve hicivleriyle tanınır. 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Ölçüsüz biridir.Övdüğünü göklere çıkarır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kötülediğini yerin dibine soka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Kasideleriyle tanın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ili süslü ve sanatlıdır.Dilini çok iyi kullan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Hicivlerini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“Siham-ı Kaza”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isimli eserinde toplar 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lerindeki ahenk ve musuki onu diğer şairlerden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ayır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Text Box 24"/>
          <p:cNvSpPr/>
          <p:nvPr/>
        </p:nvSpPr>
        <p:spPr>
          <a:xfrm>
            <a:off x="6445800" y="3500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 Narrow"/>
              </a:rPr>
              <a:t>ŞEYHİ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714560" y="3860640"/>
            <a:ext cx="457740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Germiyanoğulları ve Osmanlı saraylarında bulunmuş devlet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büyüklerine kasideler sunmuştu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Padişahtan aldığı tımarın verilmemesi üzerine” Harname”yi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yazmıştır.İkinci Murat’a sunduğu söylen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Harname dışında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“Hüsrev ile Şirin”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adlı mesnevisi vard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Tasavvufun etkisinded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Çağının Türkçesini büyük ustalıkla kullanmış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7000"/>
                            </p:stCondLst>
                            <p:childTnLst>
                              <p:par>
                                <p:cTn id="5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8000"/>
                            </p:stCondLst>
                            <p:childTnLst>
                              <p:par>
                                <p:cTn id="5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4"/>
          <p:cNvSpPr/>
          <p:nvPr/>
        </p:nvSpPr>
        <p:spPr>
          <a:xfrm>
            <a:off x="0" y="0"/>
            <a:ext cx="4427640" cy="328464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4788000" y="3573360"/>
            <a:ext cx="4356000" cy="328464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4716360" y="0"/>
            <a:ext cx="4427640" cy="328464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0" y="3573360"/>
            <a:ext cx="4500720" cy="328464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1478520" y="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 Narrow"/>
              </a:rPr>
              <a:t>SİNAN PAŞ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5650560" y="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 Narrow"/>
              </a:rPr>
              <a:t>BAKİ (ŞAİRLER SULTANI)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1836000" y="357336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 Narrow"/>
              </a:rPr>
              <a:t>NABİ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6157080" y="350028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 Narrow"/>
              </a:rPr>
              <a:t>KATİP ÇELEBİ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4766400" y="330120"/>
            <a:ext cx="44280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İyi bir Medrese eğitimi görmüş ve çeşitli medreselerd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müderrislik yapmışt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lerde tasavvufa yer vermemişt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Aşk,tabiat ve devrinin ihtişamı şiirlerinde yer alan başlıca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konulard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Gazel türünün tanınmış şairlerindendir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ili kullanmada başarılıd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Ahenkli,akıcı,zevkli bir dili vard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Söz sanatlarını başarıyla kullan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İstanbul şivesini eserlerinde yansıtmış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Osmanlı şiir dili onunla zengin ve klasik bir dil haline gel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mişt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Divan, Fezail Mekke, Kanuni Mersiyesi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Text Box 17"/>
          <p:cNvSpPr/>
          <p:nvPr/>
        </p:nvSpPr>
        <p:spPr>
          <a:xfrm>
            <a:off x="86400" y="401760"/>
            <a:ext cx="415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Süslü nesir yazarıd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En önemli eseri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“Tazarruname”dir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.(Tasavvufi bir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eserdir.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-1800" y="4076640"/>
            <a:ext cx="464904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 ile düşünceyi birleştiren şair olarak görülü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lerinde hikmetli sözlere atasözleri yer vermişt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Kötülükleri, fakirliği ve mevki düşkünlüğünü eleştir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ili akıcıd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lerde toplumun düzensizliklerini, hayatın; kişiyi kötülük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lere götüren yönlerini göstermeye çalışmışt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Hayriye,Hayrabat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adlı iki didaktik mesnevisinin yanında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üfetül Haremyn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ve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Minşeat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adlı kitapları da vard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ivan edebiyatında hikmetli ve öğretici şiir devrini başlatmış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4709880" y="3860640"/>
            <a:ext cx="458496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Tanınmış tarih ve coğrafya bilginid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1" lang="tr-TR" sz="1600" spc="-1" strike="noStrike">
                <a:solidFill>
                  <a:srgbClr val="2f1311"/>
                </a:solidFill>
                <a:latin typeface="Arial Narrow"/>
              </a:rPr>
              <a:t>Mizanü'l-Hakk fi İhtiyari'l-Ahakk'da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” da din bilgilerinin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tartıştıkları konular hakkında düşüncelerini açıkla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Tarih alanındaki yapıtlarının ilki Arapça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Fezleke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'd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ört bölümden oluşan kitapta tarihin anlamı, konusu ve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yararı anlatıl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Arapça Fezleke'nin devamı niteliğindeki Türkçe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Fezleke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1591-1654 arasındaki olayları anlatan bir Osmanlı tarihid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Tuhfetü'l-Kibar fi Esfari'l-Bihar'da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kuruluş döne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minden 1656'ya kadar Osmanlı denizciliğini anla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Cihannüma,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Batı kaynaklarını Osmanlı coğrafya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cılığına tanıtması bakımından büyük önem taş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0"/>
                            </p:stCondLst>
                            <p:childTnLst>
                              <p:par>
                                <p:cTn id="5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000"/>
                            </p:stCondLst>
                            <p:childTnLst>
                              <p:par>
                                <p:cTn id="5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8000"/>
                            </p:stCondLst>
                            <p:childTnLst>
                              <p:par>
                                <p:cTn id="5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6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5"/>
          <p:cNvSpPr/>
          <p:nvPr/>
        </p:nvSpPr>
        <p:spPr>
          <a:xfrm rot="5400000">
            <a:off x="-2864160" y="2863800"/>
            <a:ext cx="6699240" cy="971640"/>
          </a:xfrm>
          <a:prstGeom prst="rightArrow">
            <a:avLst>
              <a:gd name="adj1" fmla="val 50000"/>
              <a:gd name="adj2" fmla="val 17236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 rot="16200000">
            <a:off x="-1616400" y="240372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Ö n e m l i   Ö z e l l i k l e r 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85440" y="47520"/>
            <a:ext cx="4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971640" y="0"/>
            <a:ext cx="8172360" cy="685800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040760" y="333360"/>
            <a:ext cx="80154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Şiirde aruz ölçüsü kullanılmış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Dil; Türkçe, Arapça ve Farsça sözcüklerden oluşan “Osmanlıca”dı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Şairler anlatıma (üslup) çok önem vermişler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Her konuda kurallar vard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Kendi içinde mazmunlardan oluşan bir mecaz sistemi vard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Soyut kavramlar anlatılmıştır.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Sosyal problemler anlatılmamışt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Bir övgü edebiyatıdır.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Sevgiliye ve Sultana sitem önemli bir yer tuta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Konular: Aşk, güzellik, güçlülük, yaşama sevinci, kadın, şarap, maddi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ve manevi sarhoşluktu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2520" y="611352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www.edebiyatogretmeni.net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4"/>
          <p:cNvSpPr/>
          <p:nvPr/>
        </p:nvSpPr>
        <p:spPr>
          <a:xfrm>
            <a:off x="0" y="0"/>
            <a:ext cx="4500720" cy="4653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4500720" y="0"/>
            <a:ext cx="4643280" cy="4653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1619280" y="4653000"/>
            <a:ext cx="6048360" cy="2205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1333800" y="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EVLİYA ÇELEBİ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6589080" y="0"/>
            <a:ext cx="91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NEDİM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3852720" y="4581360"/>
            <a:ext cx="15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ŞEYH GALİP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445320" y="473040"/>
            <a:ext cx="3403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İzmit, Trabzon ve Girit yolculuklarına çıkan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Evliya Çelebi, 50 yıl boyunca Avusturya,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Hicaz, Mısır, Sudan, Habeşistan, Dağıstan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gibi ülkelerde dolaştı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0" lang="tr-TR" sz="1400" spc="-1" strike="noStrike" u="sng">
                <a:solidFill>
                  <a:srgbClr val="2f1311"/>
                </a:solidFill>
                <a:uFillTx/>
                <a:latin typeface="Arial Narrow"/>
              </a:rPr>
              <a:t>Seyahatname</a:t>
            </a:r>
            <a:r>
              <a:rPr b="0" lang="tr-TR" sz="1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edebiyatımızın gezi türünden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ilk ve en büyük eserid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Evliya Çelebi, Seyahatnâme'sinde gezip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gördüğü yerleri kendi üslûbu ile anlatmak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tadır. Olaylara çoğu defa alaycı bir tavırl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yaklaşan Evliya Çelebi, bazen naklettiği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olayları renklendirmek amacıyla uydurma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haberler ve olaylar da ortaya atmış, okuyu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cunun ilgisini çekmek için aklın alamaya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cağı garip olaylara da yer vermişt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5001840" y="549360"/>
            <a:ext cx="3736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Lale devrini yaşamış ve şiirlerinde yansıtmışt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Şiirlerdeki zevk,sefa,eğlence,nükte,musiki bir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aradad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Şiirdeki inceliğe büyük önem veril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Divan edebiyatının kuralları dışına çıkmıştı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Kendine özgü bir dil oluşturmuştu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Edebiyatımızda mahallileşme cereyanını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geliştirmişti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İstanbul Türkçesini şiire getirmişt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Şiirde İstanbul’un Mesire yerlerini anlat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Dini konulara hiç yer vermemişt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Dili açık,yalın,ahenklidir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Şarkı türünün önemli bir ismid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Gazelleriyle ünlüdür, divanı vard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Divanda hece vezniyle yazılmış bir türkü vard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2f1311"/>
                </a:solidFill>
                <a:latin typeface="Arial Narrow"/>
              </a:rPr>
              <a:t>Mesnevisi yoktu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1881720" y="5010120"/>
            <a:ext cx="54583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ivan edebiyatının son büyük şairid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Süslü ve çeşitli söz sanatları ile yüklü,ağır bir dili vardı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Sebk-i Hindi adı verilen üslubun edebiyatımızdaki temsilcisid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Düşünce ve tasvirlerle örülü yoğun bir hayal gücü vardır. Şiirinin anlaşıl-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  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ması güçtür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Şiirlerinde musiki önemlidir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Divan ve Hüsn-i Aşk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1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3000"/>
                            </p:stCondLst>
                            <p:childTnLst>
                              <p:par>
                                <p:cTn id="6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0"/>
                            </p:stCondLst>
                            <p:childTnLst>
                              <p:par>
                                <p:cTn id="6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8000"/>
                            </p:stCondLst>
                            <p:childTnLst>
                              <p:par>
                                <p:cTn id="6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6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4"/>
          <p:cNvSpPr/>
          <p:nvPr/>
        </p:nvSpPr>
        <p:spPr>
          <a:xfrm>
            <a:off x="684360" y="0"/>
            <a:ext cx="7848360" cy="1440000"/>
          </a:xfrm>
          <a:prstGeom prst="horizont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Comic Sans MS"/>
              </a:rPr>
              <a:t>HAZIRLAYA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Comic Sans MS"/>
              </a:rPr>
              <a:t>TÜRK DİLİ VE EDEBİYATI ÖĞRETMENİ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Comic Sans MS"/>
              </a:rPr>
              <a:t>SERDAR GÜ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684360" y="5943600"/>
            <a:ext cx="7848360" cy="914400"/>
          </a:xfrm>
          <a:prstGeom prst="roundRect">
            <a:avLst>
              <a:gd name="adj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Comic Sans MS"/>
              </a:rPr>
              <a:t>YAPABİLİYORLAR; ÇÜNKÜ YAPABİLECEKLERİNİ DÜŞÜNÜYORL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23800" y="532116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www.edebiyatogretmeni.net</a:t>
            </a:r>
            <a:r>
              <a:rPr b="0" lang="en-US" sz="1800" spc="-1" strike="noStrike" u="sng">
                <a:solidFill>
                  <a:srgbClr val="2f1311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4"/>
          <p:cNvSpPr/>
          <p:nvPr/>
        </p:nvSpPr>
        <p:spPr>
          <a:xfrm rot="5400000">
            <a:off x="-2864160" y="2863800"/>
            <a:ext cx="6699240" cy="971640"/>
          </a:xfrm>
          <a:prstGeom prst="rightArrow">
            <a:avLst>
              <a:gd name="adj1" fmla="val 50000"/>
              <a:gd name="adj2" fmla="val 17236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 rot="16200000">
            <a:off x="-1616400" y="218772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Ö n e m l i   Ö z e l l i k l e r 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735120" y="136440"/>
            <a:ext cx="36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1116000" y="549360"/>
            <a:ext cx="7812000" cy="5040360"/>
          </a:xfrm>
          <a:prstGeom prst="foldedCorner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219680" y="907920"/>
            <a:ext cx="77533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Her şair sevgilisinden şikayetçidir. Hiçbir şair sevgilisine kavuşmak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istemez. Şairler aşk acısı çekmekten mutludurla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Bütün şairler aynı sevgili tipini çize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Nazım birimi beyit ve bendd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Şiirlerin başlığı yoktur.( kaside ve mesnevi hariç 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Her şair divan hazırlamak için uğraşmıştır. Divan hazırlamayanlar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şair sayılmamış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Nesir alanında da eserler verilmiştir.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Divan şiirinde beyitler arasında konu bütünlüğü yoktu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Göz için kafiye anlayışı benimsenmiş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8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385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385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Organization Chart 5"/>
          <p:cNvGrpSpPr/>
          <p:nvPr/>
        </p:nvGrpSpPr>
        <p:grpSpPr>
          <a:xfrm>
            <a:off x="539640" y="1782720"/>
            <a:ext cx="7605720" cy="2543400"/>
            <a:chOff x="539640" y="1782720"/>
            <a:chExt cx="7605720" cy="2543400"/>
          </a:xfrm>
        </p:grpSpPr>
        <p:cxnSp>
          <p:nvCxnSpPr>
            <p:cNvPr id="206" name="_s1028"/>
            <p:cNvCxnSpPr>
              <a:stCxn id="207" idx="0"/>
              <a:endCxn id="208" idx="2"/>
            </p:cNvCxnSpPr>
            <p:nvPr/>
          </p:nvCxnSpPr>
          <p:spPr>
            <a:xfrm flipV="1" rot="16200000">
              <a:off x="5513040" y="1069560"/>
              <a:ext cx="229320" cy="2568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09" name="_s1029"/>
            <p:cNvCxnSpPr>
              <a:stCxn id="210" idx="0"/>
              <a:endCxn id="208" idx="2"/>
            </p:cNvCxnSpPr>
            <p:nvPr/>
          </p:nvCxnSpPr>
          <p:spPr>
            <a:xfrm flipV="1">
              <a:off x="4343400" y="2239200"/>
              <a:ext cx="1440" cy="229320"/>
            </a:xfrm>
            <a:prstGeom prst="bentConnector2">
              <a:avLst/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1" name="_s1030"/>
            <p:cNvCxnSpPr>
              <a:stCxn id="212" idx="0"/>
              <a:endCxn id="208" idx="2"/>
            </p:cNvCxnSpPr>
            <p:nvPr/>
          </p:nvCxnSpPr>
          <p:spPr>
            <a:xfrm flipH="1" flipV="1" rot="5400000">
              <a:off x="2944080" y="1069200"/>
              <a:ext cx="229320" cy="256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08" name="_s1031"/>
            <p:cNvSpPr/>
            <p:nvPr/>
          </p:nvSpPr>
          <p:spPr>
            <a:xfrm>
              <a:off x="2774880" y="1782720"/>
              <a:ext cx="3134880" cy="45720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2f1311"/>
                  </a:solidFill>
                  <a:latin typeface="Arial"/>
                </a:rPr>
                <a:t>Divan Şiiri Nazım Biçimleri</a:t>
              </a:r>
              <a:endParaRPr b="0" lang="en-US" sz="19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_s1032"/>
            <p:cNvSpPr/>
            <p:nvPr/>
          </p:nvSpPr>
          <p:spPr>
            <a:xfrm>
              <a:off x="539640" y="2468520"/>
              <a:ext cx="2469240" cy="185760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2f1311"/>
                  </a:solidFill>
                  <a:uFillTx/>
                  <a:latin typeface="Arial"/>
                </a:rPr>
                <a:t>Araplardan Gelenler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GAZEL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KASİDE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KIT’A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MUSAMMAT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_s1033"/>
            <p:cNvSpPr/>
            <p:nvPr/>
          </p:nvSpPr>
          <p:spPr>
            <a:xfrm>
              <a:off x="3107880" y="2468520"/>
              <a:ext cx="2469240" cy="185760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2f1311"/>
                  </a:solidFill>
                  <a:uFillTx/>
                  <a:latin typeface="Arial"/>
                </a:rPr>
                <a:t>Farslardan Gelenler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MESNEVİ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RUBAİ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_s1034"/>
            <p:cNvSpPr/>
            <p:nvPr/>
          </p:nvSpPr>
          <p:spPr>
            <a:xfrm>
              <a:off x="5676120" y="2468520"/>
              <a:ext cx="2469240" cy="185760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720" rIns="18720" tIns="9360" bIns="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2f1311"/>
                  </a:solidFill>
                  <a:uFillTx/>
                  <a:latin typeface="Arial"/>
                </a:rPr>
                <a:t>Türklerden Gelenler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TUYUG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f1311"/>
                  </a:solidFill>
                  <a:latin typeface="Arial"/>
                </a:rPr>
                <a:t>ŞARKI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transition spd="slow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116000" y="260280"/>
            <a:ext cx="363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41400"/>
                <a:tab algn="l" pos="114480"/>
                <a:tab algn="l" pos="228600"/>
                <a:tab algn="l" pos="4143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AutoShape 25"/>
          <p:cNvSpPr/>
          <p:nvPr/>
        </p:nvSpPr>
        <p:spPr>
          <a:xfrm>
            <a:off x="0" y="0"/>
            <a:ext cx="9144000" cy="907920"/>
          </a:xfrm>
          <a:prstGeom prst="horizontalScroll">
            <a:avLst>
              <a:gd name="adj" fmla="val 17134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Text Box 28"/>
          <p:cNvSpPr/>
          <p:nvPr/>
        </p:nvSpPr>
        <p:spPr>
          <a:xfrm>
            <a:off x="-82080" y="189000"/>
            <a:ext cx="917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Divan edebiyatı nazım biçimleri kullanılan nazım birimlerine göre iki bölümde inceleni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AutoShape 29"/>
          <p:cNvSpPr/>
          <p:nvPr/>
        </p:nvSpPr>
        <p:spPr>
          <a:xfrm>
            <a:off x="0" y="1125360"/>
            <a:ext cx="2843280" cy="251964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538200" y="105264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 Narrow"/>
              </a:rPr>
              <a:t>Beyitlerle Kurulanla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Text Box 32"/>
          <p:cNvSpPr/>
          <p:nvPr/>
        </p:nvSpPr>
        <p:spPr>
          <a:xfrm>
            <a:off x="609840" y="1700280"/>
            <a:ext cx="169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GAZE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KASİD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ESNEVİ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KIT’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ÜSTEZA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AutoShape 33"/>
          <p:cNvSpPr/>
          <p:nvPr/>
        </p:nvSpPr>
        <p:spPr>
          <a:xfrm>
            <a:off x="2556000" y="1125360"/>
            <a:ext cx="6588000" cy="251964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5001480" y="105264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Bendlerle Kurulanla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AutoShape 36"/>
          <p:cNvSpPr/>
          <p:nvPr/>
        </p:nvSpPr>
        <p:spPr>
          <a:xfrm>
            <a:off x="3059280" y="1844640"/>
            <a:ext cx="2665080" cy="158436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Text Box 38"/>
          <p:cNvSpPr/>
          <p:nvPr/>
        </p:nvSpPr>
        <p:spPr>
          <a:xfrm>
            <a:off x="3353040" y="1795320"/>
            <a:ext cx="244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2f1311"/>
                </a:solidFill>
                <a:latin typeface="Arial"/>
              </a:rPr>
              <a:t>Tek Bendden Oluşanlar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Text Box 39"/>
          <p:cNvSpPr/>
          <p:nvPr/>
        </p:nvSpPr>
        <p:spPr>
          <a:xfrm>
            <a:off x="3418560" y="227664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RUBAİ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UYU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AutoShape 40"/>
          <p:cNvSpPr/>
          <p:nvPr/>
        </p:nvSpPr>
        <p:spPr>
          <a:xfrm>
            <a:off x="5940360" y="1844640"/>
            <a:ext cx="2664000" cy="1584360"/>
          </a:xfrm>
          <a:prstGeom prst="verticalScrol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Text Box 41"/>
          <p:cNvSpPr/>
          <p:nvPr/>
        </p:nvSpPr>
        <p:spPr>
          <a:xfrm>
            <a:off x="6306120" y="1773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 Narrow"/>
              </a:rPr>
              <a:t>Çok Bendden Oluşanl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Text Box 42"/>
          <p:cNvSpPr/>
          <p:nvPr/>
        </p:nvSpPr>
        <p:spPr>
          <a:xfrm>
            <a:off x="6156000" y="2205000"/>
            <a:ext cx="20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URABB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ERKİB-İ BEN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TERCİ-İ BEND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AutoShape 43"/>
          <p:cNvSpPr/>
          <p:nvPr/>
        </p:nvSpPr>
        <p:spPr>
          <a:xfrm>
            <a:off x="0" y="5300640"/>
            <a:ext cx="9144000" cy="1041480"/>
          </a:xfrm>
          <a:prstGeom prst="flowChartPredefinedProcess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Text Box 45"/>
          <p:cNvSpPr/>
          <p:nvPr/>
        </p:nvSpPr>
        <p:spPr>
          <a:xfrm>
            <a:off x="828360" y="5300640"/>
            <a:ext cx="698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1" lang="tr-TR" sz="2800" spc="-1" strike="noStrike">
                <a:solidFill>
                  <a:srgbClr val="2f1311"/>
                </a:solidFill>
                <a:latin typeface="Arial Narrow"/>
              </a:rPr>
              <a:t>Ne tende can ile sensiz ümid-i sıhhat olu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2800" spc="-1" strike="noStrike">
                <a:solidFill>
                  <a:srgbClr val="2f1311"/>
                </a:solidFill>
                <a:latin typeface="Arial Narrow"/>
              </a:rPr>
              <a:t>Ne can bedende gam-ı firkatinle rahat olu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4"/>
          <p:cNvSpPr/>
          <p:nvPr/>
        </p:nvSpPr>
        <p:spPr>
          <a:xfrm>
            <a:off x="0" y="0"/>
            <a:ext cx="9144000" cy="104292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054080" y="260280"/>
            <a:ext cx="60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 Narrow"/>
              </a:rPr>
              <a:t>BEYİTLERLE KURULAN NAZIM BİÇİMLERİ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0" y="1052640"/>
            <a:ext cx="9144000" cy="580536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 rot="16200000">
            <a:off x="-801360" y="3586320"/>
            <a:ext cx="242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f1311"/>
                </a:solidFill>
                <a:latin typeface="Arial Narrow"/>
              </a:rPr>
              <a:t>G A Z E L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684360" y="1916280"/>
            <a:ext cx="7848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Genellikle sevgi, aşk, güzellik, kadın ve içki konuları işlenir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( Düşünceye yönelik felsefi ve öğretici konuları işleyenleri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de vardır.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En az 5 en çok 15 beyitten oluşu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İlk beyitine “matla”, son beyitine “makta” d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En güzel beyitine “beyt’ül gazel” , bütün beyitlerinde aynı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konu işlenen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lere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“yekahenk gazel”  d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Kafiyelenişi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---- a           ----b          ----c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	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---- a           ----a          ----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Konu bakımından Halk şiirindeki “ koşma”ya benze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En ünlü gazel şairleri: FUZULİ, BAKİ, NAİLİ, NEDİM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5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 rot="16200000">
            <a:off x="-634320" y="3092400"/>
            <a:ext cx="233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f1311"/>
                </a:solidFill>
                <a:latin typeface="Arial Narrow"/>
              </a:rPr>
              <a:t>K A S İ D E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958680" y="1197000"/>
            <a:ext cx="578736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Ünlü kişilerin övüldüğü şiird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Gazel gibi kafiyel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Sanatçıları: NEF’İ, BAKİ, FUZULİ, NEDİ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Aşağıdaki gibi belli bir yazılış kuralı (bölümleri) vard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Nesib-Teşbip : Tasvir yapılı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Girizgah         : Asıl konuya girili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Methiye          : Esere konu olan kişi övülü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Fahriye           : Şairin kendini övdüğü bölümdür</a:t>
            </a: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Tegazzül        : Araya alınan gazeldir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Taç                    : Şairin adının geçtiği bölümdü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Dua                   : Allah’a, Peygamber’e dua edil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4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 rot="16200000">
            <a:off x="-282960" y="2887200"/>
            <a:ext cx="21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 Narrow"/>
              </a:rPr>
              <a:t>K A S İ D 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964440" y="189000"/>
            <a:ext cx="61725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Kasideler işledikleri konulara göre şu adları alır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TEVHİD: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llah’ın bir olduğunu ve yüceliğini anlat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MÜNACAAT: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Allah’a yalvarıp yakarmak için yazıl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NAAT: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z. Peygamberi ve dört halifeyi öven şiirle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MEDHİYE: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Devrin önde gelen kişilerini öven şi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HİCVİYE: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Yöneticileri yermek için yazılan şi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MERSİYE: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Tanınmış birinin ölümüyle yazılan şi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BAHARİYE: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Baharın güzelliklerinin anlatıldığı şi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IYDİYE: 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Bayramları anlatan şi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CÜLUSİYE: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Padişahın tahta çıkışını anlatan şi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 rot="16200000">
            <a:off x="-504720" y="317700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 Narrow"/>
              </a:rPr>
              <a:t>M E S N E V İ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755640" y="907920"/>
            <a:ext cx="7488360" cy="47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Bugünkü hikaye ve romanın, sözlü edebiyat dönemindeki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destanı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divan edebiyatındaki karşılığıdı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Divan edebiyatının en uzun nazım şeklid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Savaş, aşk, din, ahlak, menkıbeler… gibi birçok konu işleni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Her beyiti kendi arasında kafiyelenir : 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                                                      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---- a     ---- b     ---- c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                                                         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---- a     ---- b     ---- c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Divan şiirinde bir şairin beş mesnevisine “hamse” denir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( Fuzuli, Ali Şir Nevai hamse sahibidir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tr-TR" sz="2000" spc="-1" strike="noStrike">
                <a:solidFill>
                  <a:srgbClr val="2f1311"/>
                </a:solidFill>
                <a:latin typeface="Arial Narrow"/>
              </a:rPr>
              <a:t>En tanınmış mesnevilerimiz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Aşk konulu            &gt; Leyla vü Mecnun ( Fuzuli)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                               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Hüsn ü Aşk (Şeyh Galip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Mizahi                    &gt; Harname ( Şeyhi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Bir şehri anlatan   &gt; Şehrengiz ( Taşlıcalı Yahya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Dini ve Tasavvufi  &gt; Mevlit ( Süleyman Çelebi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tr-TR" sz="1800" spc="-1" strike="noStrike">
                <a:solidFill>
                  <a:srgbClr val="2f1311"/>
                </a:solidFill>
                <a:latin typeface="Arial"/>
              </a:rPr>
              <a:t>Ahlaki ve Öğretici &gt; Hayriye ( Nabi ), Kutadgu Bilig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8:08:31Z</dcterms:created>
  <dc:creator>serdar gül</dc:creator>
  <dc:description/>
  <dc:language>en-US</dc:language>
  <cp:lastModifiedBy>Yusuf Durmuşoğlu</cp:lastModifiedBy>
  <dcterms:modified xsi:type="dcterms:W3CDTF">2009-02-03T16:12:09Z</dcterms:modified>
  <cp:revision>20</cp:revision>
  <dc:subject/>
  <dc:title>Slayt 1</dc:title>
</cp:coreProperties>
</file>