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51B2D-06E1-4FC6-8B6F-08A32C35C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ACF88-E6C5-4777-B1F9-FC4CAA485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BFD9B-34C5-45E5-8AD7-16920492B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8E654-71CB-4B2E-92D2-7BD16DF3A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5BDC56-1229-4C92-8227-18560F2C0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0A2BCD-ECA4-49CD-8876-CA6089F3E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5A4B8B-0428-4967-B4DC-BD3611ABE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3431CE-2F60-4595-9D34-A629A9DF3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30B5BE-D1B5-4A19-8813-7D2853536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FB5089-7CA8-41A0-849C-CD0C6F1A9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312A8A-855D-4411-AE21-FB4650901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2F3CC-095D-4C8F-A7ED-92E26901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3843FC-78F5-4FCD-84F4-2DF9CC2C2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BFF41C-8ABB-407F-9F23-A40D338FA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100EF6-6BFE-4F55-8C3B-327D55042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94E6FE-FB59-4D4C-9276-DB69427D4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0ED1ECF-DB8F-4AAB-BFE6-ABE5C33D0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5EB33B-1123-413F-87C4-4A230BC5FD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BB33B-8658-4C94-940F-55FBA99F5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2A669-2758-4D98-9134-B65D2D646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6ACDB-D6BE-4CD8-AAA6-DE4E83025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0DB32-386F-47F3-9E67-20E1D3537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9899-3B9C-4B5F-99E3-F159C4C23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96A67-2C2B-457C-9EFC-41CCE015F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3DF20-A47C-4BCE-86BE-551CFFB03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6877B-A9A6-49EC-8133-7D3E8012E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4698B-F628-49E8-B0BD-8EF2A4F0F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57661-0F28-49E6-94E8-B356E8374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827601-1B76-4A6A-A3E5-004DA3AC4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7431E4-84B5-4CB4-B11E-1059CA0423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C8443D7-A851-4928-A4B6-0986B32B582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87A1DFA-0C5D-4275-B6BF-67EC05820E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343037D-44E0-4FDC-BD14-32D54860062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CC5C7-CEDD-4B20-A494-4ED02DA6F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98CA5A2-4DB4-45F9-BA59-5C48ECB3B62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9CB7B63-C2DB-4FB8-B062-FFF9E14FEF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06D2D49-AD27-4C4A-8AC4-94ADDD9B91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2801424-5A8C-4241-A710-D71FE3FCC6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D725CE1-2B23-4EC2-9DF6-62E67E1F013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CE2EDD1-4585-4AEB-89FF-2657A0B2DE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8128C2D-8382-4A66-8D94-98CF9C39885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87E4537-6762-4E19-895D-1E671FA031B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17304BE-69B4-4AD8-BE4E-E74AE4A862E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3F7585D-B60C-4E52-B0E2-23DF125DF2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652D-82BA-457B-A3F9-BA667A7A1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D429CAF-FFE9-415A-B1A5-3506968DED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1CDF85-F9F6-46CC-803E-A86F32BBF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33BA61-7FA3-4B9C-BCDA-57404D366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4AFED8-8049-455A-9DB8-5F52CCC14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A33CEC-5378-4B3B-B250-9447D22A5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B831DD-E591-487B-AD6B-805677751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BB182B-10FC-4288-A17C-A67147C3F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3E46BD-A04F-4C3B-BE08-49FE11852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B9AB41-F375-4681-8F43-40AA9ABE7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00F3EA0-0CDD-40FF-9E14-3DE7914692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187F-4421-4423-B6CF-D590A4CC8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D544360-BDF8-4F34-932F-2A78BAE3B7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C15502C-C6EE-4B1B-9043-EF89BB17BF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55C9F65-A408-4C59-A357-0F7AA6E4E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AD570CC-75FC-4E70-98E0-5E60BA0E2E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EAE1E62-DF93-47A1-ADCD-57B076C498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7E16D12-B899-45B6-A327-BC0E598D5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018109E-8BAB-4A2E-92E5-D1337697E6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2DFDD4C-47BA-450E-A533-6D29495BE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D558C6-E033-47B3-941A-ADC05F22C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BAB73A-0D76-4F50-9864-A87555B927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4D78-5E1B-4FC1-8E29-2EC3E5F0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4845B9C-4174-44B2-BE0A-35085B2962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D55E5DE-4114-4D9D-A306-4A88B46803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D696673-C814-4695-80FB-8E34402282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D343-2272-4402-B26D-55421C20B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F0F5-4BE7-4107-BEC0-BEC9927B6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57F2-A50C-4C93-80F2-18A454DA1AE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Düz Bağlayıcı"/>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7 Düz Bağlayıcı"/>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10 Oval"/>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D165-B930-4E06-BF2A-D2C18C4339B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6 Düz Bağlayıcı"/>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2DBA-9CD2-4C5A-88EF-7E70CCCB160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6 Düz Bağlayıcı"/>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7 Düz Bağlayıcı"/>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6AC8-541C-45B9-B324-150598A31D7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2901-A1C3-420D-A6FA-3A72C7AED43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CEC4-D908-4D3D-AC92-C44FF8AEB28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ebiyatogretmeni.net/"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56760"/>
            <a:ext cx="8305920" cy="54291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EDEBİYATIN BİLİMLERLE İLİŞKİSİ</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 </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	</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Edebiyat insanın duygu, düşünce ve hayallerini, ilgilerini konu edinir. Bunun içindir ki edebiyat araştırmacılarının insanı ve toplumu değişik yönleriyle incelerken edebiyat tarihi, psikoloji, sosyoloji, tarih, felsefe gibi bilim dallarıyla yakın ilişkisi vardır. Meselâ edebiyat araştırmacısı, bir edebî eseri incelerken yazarın ruh halini anlayabilmesi için psikolojiden yararlanır. Yine toplumu ve sosyolojiden, tarihe mal olmuş edebi eserler ve şahsiyetleri araştırırken de tarihten faydalanması gerekir.</a:t>
            </a:r>
            <a:endParaRPr b="0" lang="en-US" sz="22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e58b6"/>
                </a:solidFill>
                <a:uFillTx/>
                <a:latin typeface="Arial"/>
                <a:hlinkClick r:id="rId2"/>
              </a:rPr>
              <a:t>www.edebiyatogretmeni.net</a:t>
            </a:r>
            <a:r>
              <a:rPr b="0" lang="en-US" sz="2200" spc="-1" strike="noStrike" u="sng">
                <a:solidFill>
                  <a:srgbClr val="fefac9"/>
                </a:solidFill>
                <a:uFillTx/>
                <a:latin typeface="Arial"/>
              </a:rPr>
              <a:t>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252">
                                            <p:txEl>
                                              <p:pRg st="0" end="0"/>
                                            </p:txEl>
                                          </p:spTgt>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2000" fill="hold"/>
                                        <p:tgtEl>
                                          <p:spTgt spid="252">
                                            <p:txEl>
                                              <p:pRg st="1" end="1"/>
                                            </p:txEl>
                                          </p:spTgt>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252">
                                            <p:txEl>
                                              <p:pRg st="2" end="2"/>
                                            </p:txEl>
                                          </p:spTgt>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2000" fill="hold"/>
                                        <p:tgtEl>
                                          <p:spTgt spid="252">
                                            <p:txEl>
                                              <p:pRg st="3" end="3"/>
                                            </p:txEl>
                                          </p:spTgt>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1 İçerik Yer Tutucusu" descr=""/>
          <p:cNvPicPr/>
          <p:nvPr/>
        </p:nvPicPr>
        <p:blipFill>
          <a:blip r:embed="rId2"/>
          <a:stretch/>
        </p:blipFill>
        <p:spPr>
          <a:xfrm>
            <a:off x="450720" y="274680"/>
            <a:ext cx="8242560" cy="582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1 İçerik Yer Tutucusu" descr=""/>
          <p:cNvPicPr/>
          <p:nvPr/>
        </p:nvPicPr>
        <p:blipFill>
          <a:blip r:embed="rId2"/>
          <a:stretch/>
        </p:blipFill>
        <p:spPr>
          <a:xfrm>
            <a:off x="450720" y="133200"/>
            <a:ext cx="8242560" cy="656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1 İçerik Yer Tutucusu" descr=""/>
          <p:cNvPicPr/>
          <p:nvPr/>
        </p:nvPicPr>
        <p:blipFill>
          <a:blip r:embed="rId2"/>
          <a:stretch/>
        </p:blipFill>
        <p:spPr>
          <a:xfrm>
            <a:off x="450720" y="353880"/>
            <a:ext cx="8242560" cy="574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1 İçerik Yer Tutucusu" descr=""/>
          <p:cNvPicPr/>
          <p:nvPr/>
        </p:nvPicPr>
        <p:blipFill>
          <a:blip r:embed="rId2"/>
          <a:stretch/>
        </p:blipFill>
        <p:spPr>
          <a:xfrm>
            <a:off x="450720" y="208080"/>
            <a:ext cx="8242560" cy="589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1 İçerik Yer Tutucusu" descr=""/>
          <p:cNvPicPr/>
          <p:nvPr/>
        </p:nvPicPr>
        <p:blipFill>
          <a:blip r:embed="rId2"/>
          <a:stretch/>
        </p:blipFill>
        <p:spPr>
          <a:xfrm>
            <a:off x="450720" y="281160"/>
            <a:ext cx="8242560" cy="621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1 İçerik Yer Tutucusu" descr=""/>
          <p:cNvPicPr/>
          <p:nvPr/>
        </p:nvPicPr>
        <p:blipFill>
          <a:blip r:embed="rId2"/>
          <a:stretch/>
        </p:blipFill>
        <p:spPr>
          <a:xfrm>
            <a:off x="450720" y="274680"/>
            <a:ext cx="8242560" cy="586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a:rPr>
              <a:t>EYÜP KÖKSAL</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a:rPr>
              <a:t>İSTANBUL</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a:rPr>
              <a:t>BAĞCILAR</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a:rPr>
              <a:t>ABDURRAHMAN VE NERMİN BİLİMLİ </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a:rPr>
              <a:t>ATL, AML, TL, EML</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457200" y="642600"/>
            <a:ext cx="8229600" cy="545292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nstantia"/>
              </a:rPr>
              <a:t>Edebiyat ve Edebiyat Tarihi İlişkisi</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nstantia"/>
              </a:rPr>
              <a:t>	</a:t>
            </a:r>
            <a:r>
              <a:rPr b="0" lang="tr-TR" sz="2600" spc="-1" strike="noStrike">
                <a:solidFill>
                  <a:srgbClr val="ffffff"/>
                </a:solidFill>
                <a:latin typeface="Constantia"/>
              </a:rPr>
              <a:t>Bir milletin tarih boyunca ortaya koyduğu edebi eserler ve yetiştirdiği edebi şahsiyetleri tarihi bir sıra ile inceleyen, araştıran, tertip ve tahlil eden bilim dalına edebiyat tarihi denir. Edebiyat tarihi, bir milletin tarihi boyunca geçirdiği kültür ve medeniyet devrelerini, hayat tarzını, büyük acı ve seviçlerini, inançlarını ve bütün değerlerini edebî eserler vasıtasıyla ortaya koyması bakımından büyük önem taşır.</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mph" presetID="8">
                                  <p:stCondLst>
                                    <p:cond delay="0"/>
                                  </p:stCondLst>
                                  <p:childTnLst>
                                    <p:animRot by="21600000">
                                      <p:cBhvr>
                                        <p:cTn id="28" dur="2000" fill="hold"/>
                                        <p:tgtEl>
                                          <p:spTgt spid="253">
                                            <p:txEl>
                                              <p:pRg st="0" end="0"/>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253">
                                            <p:txEl>
                                              <p:pRg st="1" end="1"/>
                                            </p:txEl>
                                          </p:spTgt>
                                        </p:tgtEl>
                                        <p:attrNameLst>
                                          <p:attrName>r</p:attrName>
                                        </p:attrNameLst>
                                      </p:cBhvr>
                                    </p:animRot>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8">
                                  <p:stCondLst>
                                    <p:cond delay="0"/>
                                  </p:stCondLst>
                                  <p:childTnLst>
                                    <p:animRot by="21600000">
                                      <p:cBhvr>
                                        <p:cTn id="36" dur="2000" fill="hold"/>
                                        <p:tgtEl>
                                          <p:spTgt spid="25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457200" y="785880"/>
            <a:ext cx="8229600" cy="5310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Edebiyat ve Tarih İlişkisi</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Edebî metinlerde sosyal  ve siyasî  çevre üzerinde durulur, her türlü insan ilişkilerinden söz edilebilir. Edebi metinlerin ve edebiyatla ilgili konulardaki değişmelerin ortaya konması gerekir. Bunların incelenmesinde tarihin metotlarından yararlanılı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9">
                                  <p:stCondLst>
                                    <p:cond delay="0"/>
                                  </p:stCondLst>
                                  <p:childTnLst>
                                    <p:set>
                                      <p:cBhvr>
                                        <p:cTn id="42" dur="indefinite"/>
                                        <p:tgtEl>
                                          <p:spTgt spid="254">
                                            <p:txEl>
                                              <p:pRg st="0" end="0"/>
                                            </p:txEl>
                                          </p:spTgt>
                                        </p:tgtEl>
                                        <p:attrNameLst>
                                          <p:attrName>style.opacity</p:attrName>
                                        </p:attrNameLst>
                                      </p:cBhvr>
                                      <p:to>
                                        <p:strVal val="0.5"/>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9">
                                  <p:stCondLst>
                                    <p:cond delay="0"/>
                                  </p:stCondLst>
                                  <p:childTnLst>
                                    <p:set>
                                      <p:cBhvr>
                                        <p:cTn id="46" dur="indefinite"/>
                                        <p:tgtEl>
                                          <p:spTgt spid="254">
                                            <p:txEl>
                                              <p:pRg st="1" end="1"/>
                                            </p:txEl>
                                          </p:spTgt>
                                        </p:tgtEl>
                                        <p:attrNameLst>
                                          <p:attrName>style.opacity</p:attrName>
                                        </p:attrNameLst>
                                      </p:cBhvr>
                                      <p:to>
                                        <p:strVal val="0.5"/>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9">
                                  <p:stCondLst>
                                    <p:cond delay="0"/>
                                  </p:stCondLst>
                                  <p:childTnLst>
                                    <p:set>
                                      <p:cBhvr>
                                        <p:cTn id="50" dur="indefinite"/>
                                        <p:tgtEl>
                                          <p:spTgt spid="254">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txBox="1"/>
          <p:nvPr/>
        </p:nvSpPr>
        <p:spPr>
          <a:xfrm>
            <a:off x="457200" y="642600"/>
            <a:ext cx="8229600" cy="545292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nstantia"/>
              </a:rPr>
              <a:t>Edebiyat ve Sosyoloji İlişkisi</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nstantia"/>
              </a:rPr>
              <a:t>	</a:t>
            </a:r>
            <a:r>
              <a:rPr b="0" lang="tr-TR" sz="2600" spc="-1" strike="noStrike">
                <a:solidFill>
                  <a:srgbClr val="ffffff"/>
                </a:solidFill>
                <a:latin typeface="Constantia"/>
              </a:rPr>
              <a:t>Edebî metinler sosyal çevrede ortaya çıkar. Bu sosyal çevrede yaşananlar, konuşulup tartışılanlar belirli bir oranda edebi metinlerde dile getirilir. Ayrıca sosyal hayatı düzenleyen ilişkiler edebi metinlerdeki kişi ilişkilerine model olur. Edebi metinlerin teması ile sosyal hayat arasında da ilişki vardır. Ayrıca edebi metnin yazarı da sosyal bi çevrede varlığını sürdürür. İşte bütün bunlar sosyolojinin konularıdır. Bir sosyolog, sosyolojinin metotlarıyla edebi metinleri inceler ve değerlendiri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6">
                                  <p:stCondLst>
                                    <p:cond delay="0"/>
                                  </p:stCondLst>
                                  <p:childTnLst>
                                    <p:animScale>
                                      <p:cBhvr>
                                        <p:cTn id="56" dur="2000" fill="hold"/>
                                        <p:tgtEl>
                                          <p:spTgt spid="255">
                                            <p:txEl>
                                              <p:pRg st="0" end="0"/>
                                            </p:txEl>
                                          </p:spTgt>
                                        </p:tgtEl>
                                      </p:cBhvr>
                                      <p:to x="150000" y="15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255">
                                            <p:txEl>
                                              <p:pRg st="1" end="1"/>
                                            </p:txEl>
                                          </p:spTgt>
                                        </p:tgtEl>
                                      </p:cBhvr>
                                      <p:to x="150000" y="15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255">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428760"/>
            <a:ext cx="8229600" cy="5667120"/>
          </a:xfrm>
          <a:prstGeom prst="rect">
            <a:avLst/>
          </a:prstGeom>
          <a:noFill/>
          <a:ln w="0">
            <a:noFill/>
          </a:ln>
        </p:spPr>
        <p:txBody>
          <a:bodyPr lIns="90000" rIns="90000" tIns="46800" bIns="46800" anchor="t">
            <a:normAutofit fontScale="96000"/>
          </a:bodyPr>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r>
              <a:rPr b="1" lang="en-US" sz="2600" spc="-1" strike="noStrike">
                <a:solidFill>
                  <a:srgbClr val="ffffff"/>
                </a:solidFill>
                <a:latin typeface="Constantia"/>
              </a:rPr>
              <a:t>Edebiyat ve Psikoloji İlişkisi</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	</a:t>
            </a:r>
            <a:r>
              <a:rPr b="0" lang="en-US" sz="2600" spc="-1" strike="noStrike">
                <a:solidFill>
                  <a:srgbClr val="ffffff"/>
                </a:solidFill>
                <a:latin typeface="Constantia"/>
              </a:rPr>
              <a:t>Edebi eser, şair veya da yazarın iç dünyasında, ruhunun derinliklerinde yoğrulur, onun kişiliğini yansıtır. Bu yönüyle o, psikolojiyi yakından ilgilendirir.</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Edebi metinlerdeki kişilerin de psikolojik halleri vardır. Onlar da bazı olaylar, kişiler, görüşler karşısında duygulanır; kendi kendileriyle hesaplaşırlar. Bunların anlaşılıp yorumlanması için psikolojiyi ilgilendiren çok malzeme vardır. İşte bütün bu nedenlerden dolayı bir edebi metin incelenirken psikolojinin metotlarından yararlanmak gereklidi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256">
                                            <p:txEl>
                                              <p:pRg st="0" end="0"/>
                                            </p:txEl>
                                          </p:spTgt>
                                        </p:tgtEl>
                                        <p:attrNameLst>
                                          <p:attrName>style.visibility</p:attrName>
                                        </p:attrNameLst>
                                      </p:cBhvr>
                                      <p:to>
                                        <p:strVal val="visible"/>
                                      </p:to>
                                    </p:set>
                                    <p:animEffect filter="checkerboard(across)" transition="in">
                                      <p:cBhvr additive="repl">
                                        <p:cTn id="71" dur="500"/>
                                        <p:tgtEl>
                                          <p:spTgt spid="25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256">
                                            <p:txEl>
                                              <p:pRg st="1" end="1"/>
                                            </p:txEl>
                                          </p:spTgt>
                                        </p:tgtEl>
                                        <p:attrNameLst>
                                          <p:attrName>style.visibility</p:attrName>
                                        </p:attrNameLst>
                                      </p:cBhvr>
                                      <p:to>
                                        <p:strVal val="visible"/>
                                      </p:to>
                                    </p:set>
                                    <p:animEffect filter="checkerboard(across)" transition="in">
                                      <p:cBhvr additive="repl">
                                        <p:cTn id="76" dur="500"/>
                                        <p:tgtEl>
                                          <p:spTgt spid="25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256">
                                            <p:txEl>
                                              <p:pRg st="2" end="2"/>
                                            </p:txEl>
                                          </p:spTgt>
                                        </p:tgtEl>
                                        <p:attrNameLst>
                                          <p:attrName>style.visibility</p:attrName>
                                        </p:attrNameLst>
                                      </p:cBhvr>
                                      <p:to>
                                        <p:strVal val="visible"/>
                                      </p:to>
                                    </p:set>
                                    <p:animEffect filter="checkerboard(across)" transition="in">
                                      <p:cBhvr additive="repl">
                                        <p:cTn id="81" dur="500"/>
                                        <p:tgtEl>
                                          <p:spTgt spid="25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256">
                                            <p:txEl>
                                              <p:pRg st="3" end="3"/>
                                            </p:txEl>
                                          </p:spTgt>
                                        </p:tgtEl>
                                        <p:attrNameLst>
                                          <p:attrName>style.visibility</p:attrName>
                                        </p:attrNameLst>
                                      </p:cBhvr>
                                      <p:to>
                                        <p:strVal val="visible"/>
                                      </p:to>
                                    </p:set>
                                    <p:animEffect filter="checkerboard(across)" transition="in">
                                      <p:cBhvr additive="repl">
                                        <p:cTn id="86"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457200" y="214200"/>
            <a:ext cx="8229600" cy="5881680"/>
          </a:xfrm>
          <a:prstGeom prst="rect">
            <a:avLst/>
          </a:prstGeom>
          <a:noFill/>
          <a:ln w="0">
            <a:noFill/>
          </a:ln>
        </p:spPr>
        <p:txBody>
          <a:bodyPr lIns="90000" rIns="90000" tIns="46800" bIns="46800"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Edebiyat ve Felsefe İlişkisi</a:t>
            </a:r>
            <a:endParaRPr b="0" lang="en-US" sz="24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 </a:t>
            </a:r>
            <a:endParaRPr b="0" lang="en-US" sz="24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Her edebi metnin özünde bir düşünce vardır. Böyle bir düşünce bulunmazsa edebi metni bir bütün halinde incelemek mümkün olmaz. Ancak bu düşünce çok defa bir veya Birkaç cümleyle felsefeye özgü bir dille anlatılır. İşte edebi metinlerde işlenen düşünce sistemi felsefenin metotlarıyla incelenir. Bu yönüyle edebiyat ve felsefe arasında sıkı bir ilişki vardır, diyebiliriz.</a:t>
            </a:r>
            <a:endParaRPr b="0" lang="en-US" sz="24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Bütün bu açıklamalar da gösteriyor ki bir edebi metin hayatı bütün alanlarıyla ilgili olabilir. Bu nedenle onu değerlendirmek, bazen tüm bilgi alanlarını gerekli kılabilir. İşte bu nedenler edebiyatın diğer bilimlerle ilişki kurmasını zorunlu hale getirmiştir.</a:t>
            </a:r>
            <a:endParaRPr b="0" lang="en-US" sz="24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257">
                                            <p:txEl>
                                              <p:pRg st="0" end="0"/>
                                            </p:txEl>
                                          </p:spTgt>
                                        </p:tgtEl>
                                        <p:attrNameLst>
                                          <p:attrName>style.visibility</p:attrName>
                                        </p:attrNameLst>
                                      </p:cBhvr>
                                      <p:to>
                                        <p:strVal val="visible"/>
                                      </p:to>
                                    </p:set>
                                    <p:animEffect filter="diamond(in)" transition="in">
                                      <p:cBhvr additive="repl">
                                        <p:cTn id="93" dur="2000"/>
                                        <p:tgtEl>
                                          <p:spTgt spid="257">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257">
                                            <p:txEl>
                                              <p:pRg st="1" end="1"/>
                                            </p:txEl>
                                          </p:spTgt>
                                        </p:tgtEl>
                                        <p:attrNameLst>
                                          <p:attrName>style.visibility</p:attrName>
                                        </p:attrNameLst>
                                      </p:cBhvr>
                                      <p:to>
                                        <p:strVal val="visible"/>
                                      </p:to>
                                    </p:set>
                                    <p:animEffect filter="diamond(in)" transition="in">
                                      <p:cBhvr additive="repl">
                                        <p:cTn id="98" dur="2000"/>
                                        <p:tgtEl>
                                          <p:spTgt spid="257">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257">
                                            <p:txEl>
                                              <p:pRg st="2" end="2"/>
                                            </p:txEl>
                                          </p:spTgt>
                                        </p:tgtEl>
                                        <p:attrNameLst>
                                          <p:attrName>style.visibility</p:attrName>
                                        </p:attrNameLst>
                                      </p:cBhvr>
                                      <p:to>
                                        <p:strVal val="visible"/>
                                      </p:to>
                                    </p:set>
                                    <p:animEffect filter="diamond(in)" transition="in">
                                      <p:cBhvr additive="repl">
                                        <p:cTn id="103" dur="2000"/>
                                        <p:tgtEl>
                                          <p:spTgt spid="25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57">
                                            <p:txEl>
                                              <p:pRg st="3" end="3"/>
                                            </p:txEl>
                                          </p:spTgt>
                                        </p:tgtEl>
                                        <p:attrNameLst>
                                          <p:attrName>style.visibility</p:attrName>
                                        </p:attrNameLst>
                                      </p:cBhvr>
                                      <p:to>
                                        <p:strVal val="visible"/>
                                      </p:to>
                                    </p:set>
                                    <p:animEffect filter="diamond(in)" transition="in">
                                      <p:cBhvr additive="repl">
                                        <p:cTn id="108" dur="20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213840"/>
            <a:ext cx="8229600" cy="628668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nstantia"/>
              </a:rPr>
              <a:t>AŞAĞIDA VERİLEN İFADELERİN DOĞRU YA DA YANLIŞ OLDUĞUNU</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nstantia"/>
              </a:rPr>
              <a:t>                             </a:t>
            </a:r>
            <a:r>
              <a:rPr b="1" lang="en-US" sz="1600" spc="-1" strike="noStrike">
                <a:solidFill>
                  <a:srgbClr val="ffffff"/>
                </a:solidFill>
                <a:latin typeface="Constantia"/>
              </a:rPr>
              <a:t>PARANTEZ İÇERİSİNE (D) veya (Y) YAZARAK BELİRTİNİZ.</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 Edebiyat, anlatım biçimlerini ve dili araç olarak kullanan bütün bilim dallarıyla ilişkilidir. Edebiyat, insanın duygu, düşünce ve hayallerini, birikimleri konu edinir.</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 Yazar sosyal bir çevrede yaşadığı için edebi eser ortaya çıktığı dönemin sosyal durumunu yansıtır. Ama yazarın düşündükleri edebi metne yansımaz.</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 Edebi metinler diğer sanat eserlerinde olduğu gibi, dış dünyada var olan nesnelerden, yaşanmış olaylardan ve yaşanacaklardan hareketle sanatçı tarafından meydana getirilen kurgudur.</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a:t>
            </a:r>
            <a:r>
              <a:rPr b="0" lang="en-US" sz="1600" spc="-1" strike="noStrike">
                <a:solidFill>
                  <a:srgbClr val="ffffff"/>
                </a:solidFill>
                <a:latin typeface="Constantia"/>
              </a:rPr>
              <a:t>(   ) Edebi metinler sadece tarih biliminin verilerinden yararlanır. Yazar bu verilerden hareketle tarihi metnini kurar.</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 Edebiyat tarihi; eser, sanatçı ve edebi olaylara tarihe özgü bakış açısıyla yaklaşır. Onların zaman içindeki yerlerini belirler; gelişme çizgilerini ortaya koyar.</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 Edebi metinler ile sosyal yaşam arasında konu bakımından uyum olabilir. Bu nedenle edebiyatçı toplum biliminin verilerinden yararlanabilir.</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 Edebiyat tarihinde en önemli belge sözlü ürünlerdir. Bir başka önemli malzemede bu ürünü ortaya koyan yazardır.</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 Edebi metinler içinden çıktığı zamanın çocuğudur. Bu bakımdan edebiyat tarihi, edebi eserleri incelerken, özellikle tarihe mal olmuş edebi şahsiyetleri araştırırken tarihin metotlarından faydalanması gerekir.</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 Tarih içinde yetişen edebiyatçılarla, ortaya konulan edebi eserler hem evrensel hem de milli bütünlük açısından birer değer ifade eder. Ancak bu ürün sanatçının düşünce dünyasından soyutlanmıştır.</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115" dur="500"/>
                                        <p:tgtEl>
                                          <p:spTgt spid="25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120" dur="500"/>
                                        <p:tgtEl>
                                          <p:spTgt spid="258">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258">
                                            <p:txEl>
                                              <p:pRg st="3" end="3"/>
                                            </p:txEl>
                                          </p:spTgt>
                                        </p:tgtEl>
                                        <p:attrNameLst>
                                          <p:attrName>style.visibility</p:attrName>
                                        </p:attrNameLst>
                                      </p:cBhvr>
                                      <p:to>
                                        <p:strVal val="visible"/>
                                      </p:to>
                                    </p:set>
                                    <p:animEffect filter="box(in)" transition="in">
                                      <p:cBhvr additive="repl">
                                        <p:cTn id="125" dur="500"/>
                                        <p:tgtEl>
                                          <p:spTgt spid="258">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258">
                                            <p:txEl>
                                              <p:pRg st="4" end="4"/>
                                            </p:txEl>
                                          </p:spTgt>
                                        </p:tgtEl>
                                        <p:attrNameLst>
                                          <p:attrName>style.visibility</p:attrName>
                                        </p:attrNameLst>
                                      </p:cBhvr>
                                      <p:to>
                                        <p:strVal val="visible"/>
                                      </p:to>
                                    </p:set>
                                    <p:animEffect filter="box(in)" transition="in">
                                      <p:cBhvr additive="repl">
                                        <p:cTn id="130" dur="500"/>
                                        <p:tgtEl>
                                          <p:spTgt spid="258">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58">
                                            <p:txEl>
                                              <p:pRg st="5" end="5"/>
                                            </p:txEl>
                                          </p:spTgt>
                                        </p:tgtEl>
                                        <p:attrNameLst>
                                          <p:attrName>style.visibility</p:attrName>
                                        </p:attrNameLst>
                                      </p:cBhvr>
                                      <p:to>
                                        <p:strVal val="visible"/>
                                      </p:to>
                                    </p:set>
                                    <p:animEffect filter="box(in)" transition="in">
                                      <p:cBhvr additive="repl">
                                        <p:cTn id="135" dur="500"/>
                                        <p:tgtEl>
                                          <p:spTgt spid="258">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Effect filter="box(in)" transition="in">
                                      <p:cBhvr additive="repl">
                                        <p:cTn id="140" dur="500"/>
                                        <p:tgtEl>
                                          <p:spTgt spid="258">
                                            <p:txEl>
                                              <p:pRg st="6" end="6"/>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258">
                                            <p:txEl>
                                              <p:pRg st="7" end="7"/>
                                            </p:txEl>
                                          </p:spTgt>
                                        </p:tgtEl>
                                        <p:attrNameLst>
                                          <p:attrName>style.visibility</p:attrName>
                                        </p:attrNameLst>
                                      </p:cBhvr>
                                      <p:to>
                                        <p:strVal val="visible"/>
                                      </p:to>
                                    </p:set>
                                    <p:animEffect filter="box(in)" transition="in">
                                      <p:cBhvr additive="repl">
                                        <p:cTn id="145" dur="500"/>
                                        <p:tgtEl>
                                          <p:spTgt spid="258">
                                            <p:txEl>
                                              <p:pRg st="7" end="7"/>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258">
                                            <p:txEl>
                                              <p:pRg st="8" end="8"/>
                                            </p:txEl>
                                          </p:spTgt>
                                        </p:tgtEl>
                                        <p:attrNameLst>
                                          <p:attrName>style.visibility</p:attrName>
                                        </p:attrNameLst>
                                      </p:cBhvr>
                                      <p:to>
                                        <p:strVal val="visible"/>
                                      </p:to>
                                    </p:set>
                                    <p:animEffect filter="box(in)" transition="in">
                                      <p:cBhvr additive="repl">
                                        <p:cTn id="150" dur="500"/>
                                        <p:tgtEl>
                                          <p:spTgt spid="258">
                                            <p:txEl>
                                              <p:pRg st="8" end="8"/>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58">
                                            <p:txEl>
                                              <p:pRg st="9" end="9"/>
                                            </p:txEl>
                                          </p:spTgt>
                                        </p:tgtEl>
                                        <p:attrNameLst>
                                          <p:attrName>style.visibility</p:attrName>
                                        </p:attrNameLst>
                                      </p:cBhvr>
                                      <p:to>
                                        <p:strVal val="visible"/>
                                      </p:to>
                                    </p:set>
                                    <p:animEffect filter="box(in)" transition="in">
                                      <p:cBhvr additive="repl">
                                        <p:cTn id="155" dur="500"/>
                                        <p:tgtEl>
                                          <p:spTgt spid="258">
                                            <p:txEl>
                                              <p:pRg st="9" end="9"/>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258">
                                            <p:txEl>
                                              <p:pRg st="10" end="10"/>
                                            </p:txEl>
                                          </p:spTgt>
                                        </p:tgtEl>
                                        <p:attrNameLst>
                                          <p:attrName>style.visibility</p:attrName>
                                        </p:attrNameLst>
                                      </p:cBhvr>
                                      <p:to>
                                        <p:strVal val="visible"/>
                                      </p:to>
                                    </p:set>
                                    <p:animEffect filter="box(in)" transition="in">
                                      <p:cBhvr additive="repl">
                                        <p:cTn id="160" dur="500"/>
                                        <p:tgtEl>
                                          <p:spTgt spid="258">
                                            <p:txEl>
                                              <p:pRg st="10" end="1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258">
                                            <p:txEl>
                                              <p:pRg st="11" end="11"/>
                                            </p:txEl>
                                          </p:spTgt>
                                        </p:tgtEl>
                                        <p:attrNameLst>
                                          <p:attrName>style.visibility</p:attrName>
                                        </p:attrNameLst>
                                      </p:cBhvr>
                                      <p:to>
                                        <p:strVal val="visible"/>
                                      </p:to>
                                    </p:set>
                                    <p:animEffect filter="box(in)" transition="in">
                                      <p:cBhvr additive="repl">
                                        <p:cTn id="165" dur="500"/>
                                        <p:tgtEl>
                                          <p:spTgt spid="2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txBox="1"/>
          <p:nvPr/>
        </p:nvSpPr>
        <p:spPr>
          <a:xfrm>
            <a:off x="457200" y="571320"/>
            <a:ext cx="8229600" cy="585756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Edebiyatın tarihi seyri içinde incelenmesi, edebiyat tarihi adı verilen bilim dalını ortaya çıkarmıştır. Bu sahada ortaya konulan çeşitli tablet, destan, efsane, seyahatname, tezkire... vb. Ürünler edebiyat tarihi içinde birer belge niteliği taşır.</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Kültür, bir ulusun veya bir topluluğun tarihsel süreç içinde oluşturduğu her türlü ortak değerdir. Dilin sınırlarını o toplun kültürü belirler.</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Dil kullanıldığı yere göre değişiklik göstermez; çünkü dillerin evrensel bir birleştirim özelliği vardır.</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Edebiyat, kültürün bir parçasıdır. Çünkü insanlar birikimlerini, kültürlerini dil aracılığıyla sonraki kuşaklara aktarırlar. Yani edebiyat ve kültürün taşıyıcısıdır.</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Edebi metni meydana getirilirken zar, tarih biliminin dışında hiçbir bilimin dundan yararlanmaz.</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Bir milletin yazılı ürünlerine bakarak kültürü hakkında bilgi edinebiliriz.</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Bir edebiyat tarihçisi incelediği eser yazarının ruh halini anlayabilmek için psikolojiden yararlanır.</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Toplumu ilgilendiren bir eser incelerken en çok coğrafyanın metodundan yaralanır.</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 Edebiyat, sosyal bilimlerin birikim yöntemlerinden yararlandığı gibi bu alanlara kaynak ve inceleme malzemesi de sağlar.</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172" dur="500"/>
                                        <p:tgtEl>
                                          <p:spTgt spid="259">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177" dur="500"/>
                                        <p:tgtEl>
                                          <p:spTgt spid="259">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182" dur="500"/>
                                        <p:tgtEl>
                                          <p:spTgt spid="259">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187" dur="500"/>
                                        <p:tgtEl>
                                          <p:spTgt spid="259">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192" dur="500"/>
                                        <p:tgtEl>
                                          <p:spTgt spid="259">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197" dur="500"/>
                                        <p:tgtEl>
                                          <p:spTgt spid="259">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202" dur="500"/>
                                        <p:tgtEl>
                                          <p:spTgt spid="259">
                                            <p:txEl>
                                              <p:pRg st="6" end="6"/>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207" dur="500"/>
                                        <p:tgtEl>
                                          <p:spTgt spid="259">
                                            <p:txEl>
                                              <p:pRg st="7" end="7"/>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59">
                                            <p:txEl>
                                              <p:pRg st="8" end="8"/>
                                            </p:txEl>
                                          </p:spTgt>
                                        </p:tgtEl>
                                        <p:attrNameLst>
                                          <p:attrName>style.visibility</p:attrName>
                                        </p:attrNameLst>
                                      </p:cBhvr>
                                      <p:to>
                                        <p:strVal val="visible"/>
                                      </p:to>
                                    </p:set>
                                    <p:animEffect filter="blinds(horizontal)" transition="in">
                                      <p:cBhvr additive="repl">
                                        <p:cTn id="212" dur="500"/>
                                        <p:tgtEl>
                                          <p:spTgt spid="2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457200" y="356760"/>
            <a:ext cx="8229600" cy="5738760"/>
          </a:xfrm>
          <a:prstGeom prst="rect">
            <a:avLst/>
          </a:prstGeom>
          <a:noFill/>
          <a:ln w="0">
            <a:noFill/>
          </a:ln>
        </p:spPr>
        <p:txBody>
          <a:bodyPr lIns="90000" rIns="90000" tIns="46800" bIns="46800" anchor="t">
            <a:normAutofit fontScale="89000"/>
          </a:bodyPr>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onstantia"/>
              </a:rPr>
              <a:t>AŞAĞIDA VERİLEN CÜMLELERDEKİ BOŞ BIRAKILAN YERLERİ UYGUN KELİMELERLE </a:t>
            </a:r>
            <a:endParaRPr b="0" lang="en-US" sz="1400" spc="-1" strike="noStrike">
              <a:solidFill>
                <a:srgbClr val="ffffff"/>
              </a:solidFill>
              <a:latin typeface="Constantia"/>
            </a:endParaRPr>
          </a:p>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onstantia"/>
              </a:rPr>
              <a:t>       </a:t>
            </a:r>
            <a:r>
              <a:rPr b="1" lang="tr-TR" sz="1400" spc="-1" strike="noStrike">
                <a:solidFill>
                  <a:srgbClr val="ffffff"/>
                </a:solidFill>
                <a:latin typeface="Constantia"/>
              </a:rPr>
              <a:t>TAMAMLAYINIZ   </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onstantia"/>
              </a:rPr>
              <a:t> </a:t>
            </a:r>
            <a:r>
              <a:rPr b="0" lang="tr-TR" sz="1400" spc="-1" strike="noStrike">
                <a:solidFill>
                  <a:srgbClr val="ffffff"/>
                </a:solidFill>
                <a:latin typeface="Constantia"/>
              </a:rPr>
              <a:t>Varlığın ve bilginin temelini araştıran, bunları inceleyen bilim dalına .................... deni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 kişiler arası iletişimi sağlayan en etkili araçtır. Bu bir milleti meydana getiren ve onu diğer milletlerden ayıran temel unsurdu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Dil, din, örf, coğrafya ve bunlara benzer ortak paydası olan en geniş insan havuzuna .......... deni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Geçmiş zamanlardaki olayları zaman ve yer gösterek anlatan bu olaylar arasındaki ilişkileri, karşılıklı etkileşimleri inceleyen bilim dalında .......... deni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İnsanlar arasında iletişim geçleşmesi için ............ ile ................. arasında ortak bir işaret sisteminin kullanılması gereki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 milletlerin tarih boyunca oluşturdukları yaşam bilimlerinin, maddi ve manevi değerlerinin bütünüdü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İnsanlarda güzellik, heyecan ve hayranlık uyandıran ve dilin en etkili bir biçimde kullanılmasıyla ortaya çıkan yazılı ve sözlü ürünlere ........................... deni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Edebiyatçıların hayatlarını ve eserlerini edebiyat akımlarını, edebi tür, topluluk ve anlayışları belli ölçülerle kronolojik olarak değerlendiren alana ......................................... deni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 bir ülkede yaşayan halkın kültür ürünlerini, törenlerini, gelenek ve göreneklerini, halkoyunlarını, ninnilerini, efsanelerini...inceleyen, bunların birbiriyle olan ilişkilerini araştıran, kaynak göstermeye çalışan, toplumdaki değişim ve etkilerini değerlendiren bilim dalıdı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Malzemesi dil olan; duyguya, hayale ve estetik heyecana dayanan uyarımlar yoluyla zihinde yer edebilme gücüne sahip bulunan sözlü ve yazılı eserlere .................... deni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Edebiyat araştırmacısı bir edebi eseri incelerken gerek yazarın, gerekse yazarının sözünü ettiği kişilerin ruh hallerini anlayabilmesi için .................... yararlanı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Constantia"/>
              </a:rPr>
              <a:t>Edebî metnin ortaya çıktığı sosyal çevrenin analiz edilmesinde, insanlar arasındaki ilişkilerin edebî metne nasıl yansıdığını tespitte ............... yararlanılır.</a:t>
            </a:r>
            <a:endParaRPr b="0" lang="en-US" sz="14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260">
                                            <p:txEl>
                                              <p:pRg st="0" end="0"/>
                                            </p:txEl>
                                          </p:spTgt>
                                        </p:tgtEl>
                                        <p:attrNameLst>
                                          <p:attrName>style.visibility</p:attrName>
                                        </p:attrNameLst>
                                      </p:cBhvr>
                                      <p:to>
                                        <p:strVal val="visible"/>
                                      </p:to>
                                    </p:set>
                                    <p:animEffect filter="randombar(horizontal)" transition="in">
                                      <p:cBhvr additive="repl">
                                        <p:cTn id="219" dur="500"/>
                                        <p:tgtEl>
                                          <p:spTgt spid="260">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260">
                                            <p:txEl>
                                              <p:pRg st="1" end="1"/>
                                            </p:txEl>
                                          </p:spTgt>
                                        </p:tgtEl>
                                        <p:attrNameLst>
                                          <p:attrName>style.visibility</p:attrName>
                                        </p:attrNameLst>
                                      </p:cBhvr>
                                      <p:to>
                                        <p:strVal val="visible"/>
                                      </p:to>
                                    </p:set>
                                    <p:animEffect filter="randombar(horizontal)" transition="in">
                                      <p:cBhvr additive="repl">
                                        <p:cTn id="224" dur="500"/>
                                        <p:tgtEl>
                                          <p:spTgt spid="260">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260">
                                            <p:txEl>
                                              <p:pRg st="2" end="2"/>
                                            </p:txEl>
                                          </p:spTgt>
                                        </p:tgtEl>
                                        <p:attrNameLst>
                                          <p:attrName>style.visibility</p:attrName>
                                        </p:attrNameLst>
                                      </p:cBhvr>
                                      <p:to>
                                        <p:strVal val="visible"/>
                                      </p:to>
                                    </p:set>
                                    <p:animEffect filter="randombar(horizontal)" transition="in">
                                      <p:cBhvr additive="repl">
                                        <p:cTn id="229" dur="500"/>
                                        <p:tgtEl>
                                          <p:spTgt spid="260">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260">
                                            <p:txEl>
                                              <p:pRg st="3" end="3"/>
                                            </p:txEl>
                                          </p:spTgt>
                                        </p:tgtEl>
                                        <p:attrNameLst>
                                          <p:attrName>style.visibility</p:attrName>
                                        </p:attrNameLst>
                                      </p:cBhvr>
                                      <p:to>
                                        <p:strVal val="visible"/>
                                      </p:to>
                                    </p:set>
                                    <p:animEffect filter="randombar(horizontal)" transition="in">
                                      <p:cBhvr additive="repl">
                                        <p:cTn id="234" dur="500"/>
                                        <p:tgtEl>
                                          <p:spTgt spid="260">
                                            <p:txEl>
                                              <p:pRg st="3" end="3"/>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260">
                                            <p:txEl>
                                              <p:pRg st="4" end="4"/>
                                            </p:txEl>
                                          </p:spTgt>
                                        </p:tgtEl>
                                        <p:attrNameLst>
                                          <p:attrName>style.visibility</p:attrName>
                                        </p:attrNameLst>
                                      </p:cBhvr>
                                      <p:to>
                                        <p:strVal val="visible"/>
                                      </p:to>
                                    </p:set>
                                    <p:animEffect filter="randombar(horizontal)" transition="in">
                                      <p:cBhvr additive="repl">
                                        <p:cTn id="239" dur="500"/>
                                        <p:tgtEl>
                                          <p:spTgt spid="260">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4" presetSubtype="10">
                                  <p:stCondLst>
                                    <p:cond delay="0"/>
                                  </p:stCondLst>
                                  <p:childTnLst>
                                    <p:set>
                                      <p:cBhvr>
                                        <p:cTn id="243" dur="1" fill="hold">
                                          <p:stCondLst>
                                            <p:cond delay="0"/>
                                          </p:stCondLst>
                                        </p:cTn>
                                        <p:tgtEl>
                                          <p:spTgt spid="260">
                                            <p:txEl>
                                              <p:pRg st="5" end="5"/>
                                            </p:txEl>
                                          </p:spTgt>
                                        </p:tgtEl>
                                        <p:attrNameLst>
                                          <p:attrName>style.visibility</p:attrName>
                                        </p:attrNameLst>
                                      </p:cBhvr>
                                      <p:to>
                                        <p:strVal val="visible"/>
                                      </p:to>
                                    </p:set>
                                    <p:animEffect filter="randombar(horizontal)" transition="in">
                                      <p:cBhvr additive="repl">
                                        <p:cTn id="244" dur="500"/>
                                        <p:tgtEl>
                                          <p:spTgt spid="260">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4" presetSubtype="10">
                                  <p:stCondLst>
                                    <p:cond delay="0"/>
                                  </p:stCondLst>
                                  <p:childTnLst>
                                    <p:set>
                                      <p:cBhvr>
                                        <p:cTn id="248" dur="1" fill="hold">
                                          <p:stCondLst>
                                            <p:cond delay="0"/>
                                          </p:stCondLst>
                                        </p:cTn>
                                        <p:tgtEl>
                                          <p:spTgt spid="260">
                                            <p:txEl>
                                              <p:pRg st="6" end="6"/>
                                            </p:txEl>
                                          </p:spTgt>
                                        </p:tgtEl>
                                        <p:attrNameLst>
                                          <p:attrName>style.visibility</p:attrName>
                                        </p:attrNameLst>
                                      </p:cBhvr>
                                      <p:to>
                                        <p:strVal val="visible"/>
                                      </p:to>
                                    </p:set>
                                    <p:animEffect filter="randombar(horizontal)" transition="in">
                                      <p:cBhvr additive="repl">
                                        <p:cTn id="249" dur="500"/>
                                        <p:tgtEl>
                                          <p:spTgt spid="260">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4" presetSubtype="10">
                                  <p:stCondLst>
                                    <p:cond delay="0"/>
                                  </p:stCondLst>
                                  <p:childTnLst>
                                    <p:set>
                                      <p:cBhvr>
                                        <p:cTn id="253" dur="1" fill="hold">
                                          <p:stCondLst>
                                            <p:cond delay="0"/>
                                          </p:stCondLst>
                                        </p:cTn>
                                        <p:tgtEl>
                                          <p:spTgt spid="260">
                                            <p:txEl>
                                              <p:pRg st="7" end="7"/>
                                            </p:txEl>
                                          </p:spTgt>
                                        </p:tgtEl>
                                        <p:attrNameLst>
                                          <p:attrName>style.visibility</p:attrName>
                                        </p:attrNameLst>
                                      </p:cBhvr>
                                      <p:to>
                                        <p:strVal val="visible"/>
                                      </p:to>
                                    </p:set>
                                    <p:animEffect filter="randombar(horizontal)" transition="in">
                                      <p:cBhvr additive="repl">
                                        <p:cTn id="254" dur="500"/>
                                        <p:tgtEl>
                                          <p:spTgt spid="260">
                                            <p:txEl>
                                              <p:pRg st="7" end="7"/>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4" presetSubtype="10">
                                  <p:stCondLst>
                                    <p:cond delay="0"/>
                                  </p:stCondLst>
                                  <p:childTnLst>
                                    <p:set>
                                      <p:cBhvr>
                                        <p:cTn id="258" dur="1" fill="hold">
                                          <p:stCondLst>
                                            <p:cond delay="0"/>
                                          </p:stCondLst>
                                        </p:cTn>
                                        <p:tgtEl>
                                          <p:spTgt spid="260">
                                            <p:txEl>
                                              <p:pRg st="8" end="8"/>
                                            </p:txEl>
                                          </p:spTgt>
                                        </p:tgtEl>
                                        <p:attrNameLst>
                                          <p:attrName>style.visibility</p:attrName>
                                        </p:attrNameLst>
                                      </p:cBhvr>
                                      <p:to>
                                        <p:strVal val="visible"/>
                                      </p:to>
                                    </p:set>
                                    <p:animEffect filter="randombar(horizontal)" transition="in">
                                      <p:cBhvr additive="repl">
                                        <p:cTn id="259" dur="500"/>
                                        <p:tgtEl>
                                          <p:spTgt spid="260">
                                            <p:txEl>
                                              <p:pRg st="8" end="8"/>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4" presetSubtype="10">
                                  <p:stCondLst>
                                    <p:cond delay="0"/>
                                  </p:stCondLst>
                                  <p:childTnLst>
                                    <p:set>
                                      <p:cBhvr>
                                        <p:cTn id="263" dur="1" fill="hold">
                                          <p:stCondLst>
                                            <p:cond delay="0"/>
                                          </p:stCondLst>
                                        </p:cTn>
                                        <p:tgtEl>
                                          <p:spTgt spid="260">
                                            <p:txEl>
                                              <p:pRg st="9" end="9"/>
                                            </p:txEl>
                                          </p:spTgt>
                                        </p:tgtEl>
                                        <p:attrNameLst>
                                          <p:attrName>style.visibility</p:attrName>
                                        </p:attrNameLst>
                                      </p:cBhvr>
                                      <p:to>
                                        <p:strVal val="visible"/>
                                      </p:to>
                                    </p:set>
                                    <p:animEffect filter="randombar(horizontal)" transition="in">
                                      <p:cBhvr additive="repl">
                                        <p:cTn id="264" dur="500"/>
                                        <p:tgtEl>
                                          <p:spTgt spid="26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4" presetSubtype="10">
                                  <p:stCondLst>
                                    <p:cond delay="0"/>
                                  </p:stCondLst>
                                  <p:childTnLst>
                                    <p:set>
                                      <p:cBhvr>
                                        <p:cTn id="268" dur="1" fill="hold">
                                          <p:stCondLst>
                                            <p:cond delay="0"/>
                                          </p:stCondLst>
                                        </p:cTn>
                                        <p:tgtEl>
                                          <p:spTgt spid="260">
                                            <p:txEl>
                                              <p:pRg st="10" end="10"/>
                                            </p:txEl>
                                          </p:spTgt>
                                        </p:tgtEl>
                                        <p:attrNameLst>
                                          <p:attrName>style.visibility</p:attrName>
                                        </p:attrNameLst>
                                      </p:cBhvr>
                                      <p:to>
                                        <p:strVal val="visible"/>
                                      </p:to>
                                    </p:set>
                                    <p:animEffect filter="randombar(horizontal)" transition="in">
                                      <p:cBhvr additive="repl">
                                        <p:cTn id="269" dur="500"/>
                                        <p:tgtEl>
                                          <p:spTgt spid="260">
                                            <p:txEl>
                                              <p:pRg st="10" end="1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260">
                                            <p:txEl>
                                              <p:pRg st="11" end="11"/>
                                            </p:txEl>
                                          </p:spTgt>
                                        </p:tgtEl>
                                        <p:attrNameLst>
                                          <p:attrName>style.visibility</p:attrName>
                                        </p:attrNameLst>
                                      </p:cBhvr>
                                      <p:to>
                                        <p:strVal val="visible"/>
                                      </p:to>
                                    </p:set>
                                    <p:animEffect filter="randombar(horizontal)" transition="in">
                                      <p:cBhvr additive="repl">
                                        <p:cTn id="274" dur="500"/>
                                        <p:tgtEl>
                                          <p:spTgt spid="260">
                                            <p:txEl>
                                              <p:pRg st="11" end="1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260">
                                            <p:txEl>
                                              <p:pRg st="12" end="12"/>
                                            </p:txEl>
                                          </p:spTgt>
                                        </p:tgtEl>
                                        <p:attrNameLst>
                                          <p:attrName>style.visibility</p:attrName>
                                        </p:attrNameLst>
                                      </p:cBhvr>
                                      <p:to>
                                        <p:strVal val="visible"/>
                                      </p:to>
                                    </p:set>
                                    <p:animEffect filter="randombar(horizontal)" transition="in">
                                      <p:cBhvr additive="repl">
                                        <p:cTn id="279" dur="500"/>
                                        <p:tgtEl>
                                          <p:spTgt spid="260">
                                            <p:txEl>
                                              <p:pRg st="12" end="1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260">
                                            <p:txEl>
                                              <p:pRg st="13" end="13"/>
                                            </p:txEl>
                                          </p:spTgt>
                                        </p:tgtEl>
                                        <p:attrNameLst>
                                          <p:attrName>style.visibility</p:attrName>
                                        </p:attrNameLst>
                                      </p:cBhvr>
                                      <p:to>
                                        <p:strVal val="visible"/>
                                      </p:to>
                                    </p:set>
                                    <p:animEffect filter="randombar(horizontal)" transition="in">
                                      <p:cBhvr additive="repl">
                                        <p:cTn id="284" dur="500"/>
                                        <p:tgtEl>
                                          <p:spTgt spid="26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8:23:27Z</dcterms:created>
  <dc:creator>eyüp</dc:creator>
  <dc:description/>
  <dc:language>en-US</dc:language>
  <cp:lastModifiedBy>kenan</cp:lastModifiedBy>
  <dcterms:modified xsi:type="dcterms:W3CDTF">2009-03-01T15:55:08Z</dcterms:modified>
  <cp:revision>4</cp:revision>
  <dc:subject/>
  <dc:title>Slayt 1</dc:title>
</cp:coreProperties>
</file>