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8E1F-A417-4201-A633-DA45822C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F30D-2240-42F7-BDAA-87AED0AD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71EC-E2E3-47F8-B9B6-F187F143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E822-757A-4B7E-812B-78516D24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D1F1-4FD1-4992-A9CC-012BA24D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A195-E3A7-4A14-BB45-71AF7179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F84D-61FE-4D2B-844B-E8F84DC6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8896-8A62-4E3C-9D92-B872A0F0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9273-04B5-4892-9A06-1DEBDEBD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84C4-3B2E-4A27-8781-D0F2416A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59D7-E6CD-42B4-8567-467E7BC0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1E63-BB0E-4979-9BA2-8E23CC3B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ED36-842C-4F10-8573-5E87C2B0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A785-7EFA-44C1-8C97-19F7A13E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58D1-462C-46A3-97DA-BB82937D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EAB6-63E5-458F-96CC-5CF9F187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A0D6-F267-490E-970B-9F2058AB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25C6-ED15-46F2-8E2A-D226C350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BA5-5F80-4900-9539-6FFEBC23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E27-2405-4142-8726-05937591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FF5C-EF6F-4773-A797-0103856E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1990-C22C-4071-9F30-C2C2C53F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0A3-ACA7-48DD-A67C-0E6A6D2B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4A88-2007-4485-ADD8-B2F4ED9A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92EA-8C3B-49E7-95F4-6DBCB6D983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9B5B-5F24-4CB1-9342-A22E11F7066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debiyatogretmeni.net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debiyatogretmeni.net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debiyatogretmeni.net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debiyatogretmeni.net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5"/>
          <p:cNvSpPr/>
          <p:nvPr/>
        </p:nvSpPr>
        <p:spPr>
          <a:xfrm>
            <a:off x="1176840" y="404640"/>
            <a:ext cx="530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 Extra Bold"/>
              </a:rPr>
              <a:t>İSLAMİYET ÖNCESİ TÜRK EDEBİYAT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 Extra Bold"/>
              </a:rPr>
              <a:t>(DESTANLAR DÖNEMİ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 rot="20326200">
            <a:off x="1649520" y="4723920"/>
            <a:ext cx="644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Törene  sıkı sarıl oğul kökünden kopma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Soyundan başkasına inanma hiç unutma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0" y="0"/>
            <a:ext cx="7885080" cy="104292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979560" y="333360"/>
            <a:ext cx="61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DÜNYA EDEBİYATI YAPMA DESTANLAR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AutoShape 7"/>
          <p:cNvSpPr/>
          <p:nvPr/>
        </p:nvSpPr>
        <p:spPr>
          <a:xfrm>
            <a:off x="0" y="1052640"/>
            <a:ext cx="7885080" cy="5805360"/>
          </a:xfrm>
          <a:prstGeom prst="foldedCorner">
            <a:avLst>
              <a:gd name="adj" fmla="val 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1440" y="25653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YAZARI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1333080" y="25653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ADI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3853080" y="256536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ÜLK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5149080" y="256536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KONU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1080" y="3141720"/>
            <a:ext cx="1325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VİRGİLİU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RİST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ASS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İLTO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DAN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1261440" y="3141720"/>
            <a:ext cx="2655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NEİ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ÇILGIN ORLAND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KURTARILMIŞ KUDÜ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KAYBOLMUŞ CENN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İLAHİ KOMEDY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3852720" y="3141720"/>
            <a:ext cx="117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ATİ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İTALYA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İTALYA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İNGİLİZ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İTALYA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Line 16"/>
          <p:cNvSpPr/>
          <p:nvPr/>
        </p:nvSpPr>
        <p:spPr>
          <a:xfrm>
            <a:off x="1258920" y="3141720"/>
            <a:ext cx="0" cy="2663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Line 17"/>
          <p:cNvSpPr/>
          <p:nvPr/>
        </p:nvSpPr>
        <p:spPr>
          <a:xfrm>
            <a:off x="3851280" y="3141720"/>
            <a:ext cx="0" cy="2663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Line 18"/>
          <p:cNvSpPr/>
          <p:nvPr/>
        </p:nvSpPr>
        <p:spPr>
          <a:xfrm>
            <a:off x="5076720" y="3141720"/>
            <a:ext cx="0" cy="2663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4993200" y="3068640"/>
            <a:ext cx="3121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Aeneis’in Roma’yı kurmasını anlatır</a:t>
            </a: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Hıristiyan-Müslüman savaşını anlat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I.Haçlı seferinde Kudüs’ün alınışını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anlatır.</a:t>
            </a: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Adem ve Havva’nın yeryüzüne iniş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lerini anlatır.</a:t>
            </a: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Öteki dünyada Dante’nin yaptığı 7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Günlük seyahat anlatıl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4"/>
          <p:cNvSpPr/>
          <p:nvPr/>
        </p:nvSpPr>
        <p:spPr>
          <a:xfrm>
            <a:off x="250920" y="189000"/>
            <a:ext cx="7273800" cy="86364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971360" y="404640"/>
            <a:ext cx="40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Comic Sans MS"/>
              </a:rPr>
              <a:t>YAZILI EDEBİYAT DÖNEMİ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0" y="1125360"/>
            <a:ext cx="934920" cy="5545440"/>
          </a:xfrm>
          <a:prstGeom prst="downArrow">
            <a:avLst>
              <a:gd name="adj1" fmla="val 50000"/>
              <a:gd name="adj2" fmla="val 148286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 rot="16200000">
            <a:off x="-1573920" y="3153600"/>
            <a:ext cx="41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Ö n e m l i  Ö z e l l i k l e r 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741600" y="1628640"/>
            <a:ext cx="6494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Dönemin ürünleri Gök-Türkçe ve Uygurca ile verilmiş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em halk dili hem de sanatlı söylev dili kullanılmış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em dini hem dindışı ürünler verilmiş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Bazı savlar ve destanlar yazıya geçirilmiş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Uygurca yazılan eserlerde yabancı etkiler görülü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Dönemin en önemli ürünü “Orhun Yazıtları”dır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68160" y="546588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www.edebiyatogretmeni.net</a:t>
            </a:r>
            <a:r>
              <a:rPr b="0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000"/>
                            </p:stCondLst>
                            <p:childTnLst>
                              <p:par>
                                <p:cTn id="2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5"/>
          <p:cNvSpPr/>
          <p:nvPr/>
        </p:nvSpPr>
        <p:spPr>
          <a:xfrm>
            <a:off x="0" y="0"/>
            <a:ext cx="8820000" cy="685800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2418840" y="189000"/>
            <a:ext cx="40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GÖK-TÜRK YAZITLAR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771840" y="1268280"/>
            <a:ext cx="7201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Türk adının, Türk milletinin isminin geçtiği ilk Türkçe metin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İlk Türk tarihi. Taşlar üzerine kazınmış tarih.</a:t>
            </a:r>
            <a:r>
              <a:rPr b="0" lang="tr-TR" sz="1800" spc="-1" strike="noStrike">
                <a:solidFill>
                  <a:srgbClr val="2f1311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Türk devlet adamlarının millete hesap vermesi, milletle hesaplaşması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Türk nizamının, Türk töresinin, Türk medeniyetinin, yüksek Türk kül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türünün büyük vesikası.</a:t>
            </a:r>
            <a:r>
              <a:rPr b="0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Türk edebiyatının ilk şaheseri, Türk hitabet san’atının erişilmez şaheseri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Hükümdarane eda ve ihtişamlı hitap tarzı</a:t>
            </a: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Yalın ve keskin üslup. Türk yazı dilinin ilk fakat muhteşem örneği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Dil yabancı etkilerden uzaktır. Aliterasyon sanatı görülü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Cüveyni “Tarih-i Cihan Kuşa” adlı eserinde ilk defa bu eserlerden bahsetmiş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Bilim dünyasına ilk kez İsveçli subay “Strahlenberg” tanıtmış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ilk kez Danimarkalı bilgin “Thomsen” okumuştu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Bu anıtların yazarı “Yuluğ Tiğin” dir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Yazıtlar Göktürk lehçesiyle yazılmıştır. 38 harften oluşur ( 4’ü sesli, 26’sı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sessiz, 8’i bitişik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4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1759320" y="333360"/>
            <a:ext cx="56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Bu Yazıtların En Önemlileri Şunlardır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847440" y="907920"/>
            <a:ext cx="748224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TONYUKUK ANITI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Göktürklerin dört kağanına vezirlik eden “Bilge Tonyukuk” tarafından kendi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adına yazdırılmıştır.</a:t>
            </a: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KÜLTİGİN ANITI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Bilge Kağan tarafından ölen kardeşi Kül Tigin adına diktirilmiştir. Yolug Tigi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tarafından Bilge Kağan ağzından yazılmıştı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BİLGE KAĞAN ANITI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Bilge Kağan kendi adına bu anıtı yaptırmıştır. Yolug Tigin yazmıştı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 u="sng">
                <a:solidFill>
                  <a:srgbClr val="2f1311"/>
                </a:solidFill>
                <a:uFillTx/>
                <a:latin typeface="Arial Narrow"/>
              </a:rPr>
              <a:t>Bu anıtlarda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Bilge Tonyukuk’un yaşamöyküsü, Türklerin bilgili devlet adamlarının yönetimind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önceleri mutlu yaşadıkları, daha sonra gelen kağanlar zamanında “töre”nin bozul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duğu, milletin kötü durumlara itilerek açlık ve acılara sürüklendiği, Çin egemenliği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altına girdiği, İlteriş Kağan önderliğinde bağımsızlıklarını kazandıkları, Çinlileri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Türklere oynadığı oyunlar hakkında bilgiler verili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7"/>
          <p:cNvSpPr/>
          <p:nvPr/>
        </p:nvSpPr>
        <p:spPr>
          <a:xfrm>
            <a:off x="0" y="1125360"/>
            <a:ext cx="7885080" cy="415008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2561760" y="1125360"/>
            <a:ext cx="347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UYGUR METİNLERİ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633600" y="2205000"/>
            <a:ext cx="655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0" lang="tr-TR" sz="1800" spc="-1" strike="noStrike">
                <a:solidFill>
                  <a:srgbClr val="2f1311"/>
                </a:solidFill>
                <a:latin typeface="Arial Narrow"/>
              </a:rPr>
              <a:t>Uygurların başkenti Turfan şehrinde yapılan kazılar sonucu ele geçen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0" lang="tr-TR" sz="1800" spc="-1" strike="noStrike">
                <a:solidFill>
                  <a:srgbClr val="2f1311"/>
                </a:solidFill>
                <a:latin typeface="Arial Narrow"/>
              </a:rPr>
              <a:t>deriler üzerine yazılmış dini metinlerdi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0" lang="tr-TR" sz="1800" spc="-1" strike="noStrike">
                <a:solidFill>
                  <a:srgbClr val="2f1311"/>
                </a:solidFill>
                <a:latin typeface="Arial Narrow"/>
              </a:rPr>
              <a:t>Uygur Lehçesi’yle yazılmışlardır.( 3’ü sesli, 11’i sessiz 14 harften oluşur.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0" lang="tr-TR" sz="1800" spc="-1" strike="noStrike">
                <a:solidFill>
                  <a:srgbClr val="2f1311"/>
                </a:solidFill>
                <a:latin typeface="Arial Narrow"/>
              </a:rPr>
              <a:t>Çok sayıda olan bu metinlerin en önemlisi “Altun Yaruk Hikayesi”dir. Bu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0" lang="tr-TR" sz="1800" spc="-1" strike="noStrike">
                <a:solidFill>
                  <a:srgbClr val="2f1311"/>
                </a:solidFill>
                <a:latin typeface="Arial Narrow"/>
              </a:rPr>
              <a:t>metinde “Mani” dinine ait dualar, efsaneler, ilahiler vardır. Budizmin kutsal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0" lang="tr-TR" sz="1800" spc="-1" strike="noStrike">
                <a:solidFill>
                  <a:srgbClr val="2f1311"/>
                </a:solidFill>
                <a:latin typeface="Arial Narrow"/>
              </a:rPr>
              <a:t>kitabıdı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15600" y="573408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www.edebiyatogretmeni.net</a:t>
            </a:r>
            <a:r>
              <a:rPr b="0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4"/>
          <p:cNvSpPr/>
          <p:nvPr/>
        </p:nvSpPr>
        <p:spPr>
          <a:xfrm>
            <a:off x="0" y="0"/>
            <a:ext cx="9144000" cy="104292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3351960" y="33336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GEÇİŞ DÖNEMİ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-92520" y="1287360"/>
            <a:ext cx="4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AutoShape 8"/>
          <p:cNvSpPr/>
          <p:nvPr/>
        </p:nvSpPr>
        <p:spPr>
          <a:xfrm>
            <a:off x="0" y="1052640"/>
            <a:ext cx="9144000" cy="5805360"/>
          </a:xfrm>
          <a:prstGeom prst="foldedCorner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260280" y="1214280"/>
            <a:ext cx="874260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Göçebe uygarlıktan, yerleşik uygarlığa geçiş. Yönetimde saray sisteminin benimsenmesi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İslamiyeti kabulleniş. Türk ulusunun fikri, edebi, ideolojik yaşamı üzerinde büyük değişiklikle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yapar. Bu değişikliklerin en büyüğü edebiyatta meydana geli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Medrese eğitiminin ve yönetim şeklinin tabi sonucu olarak Arapça ve Farsça sözcükler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hızla dilimize girmeye başla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Medreselere giden Türk aydınları Arapça ve Farsça öğrenmişler. Bu dilleri öğrenerek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devletin bazı kademelerinde görev alan bu şahıslar o dönemin “Aydın” sınıfını oluşturmuş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lardır. Arap ve Acem edebiyatlarını inceleme fırsatı bulan aydınlar, bu edebiyatlardan etkile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nerek “yeni tarz” eserler vermeye başlamışlar. Bu eserler incelendiğinde hem “İslamiyet Ön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cesi Türk Edebiyatı”na hem de Arap ve Acem edebiyatlarına ait izler görülür. Bu eserler şeki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ve muhteve bakımından XIII. yy. dan itibaren karşımıza çıkacak olan “Divan Edebiyatı”nı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habercisidir. Bu döneme </a:t>
            </a:r>
            <a:r>
              <a:rPr b="1" i="1" lang="tr-TR" sz="2000" spc="-1" strike="noStrike" u="sng">
                <a:solidFill>
                  <a:srgbClr val="2f1311"/>
                </a:solidFill>
                <a:uFillTx/>
                <a:latin typeface="Arial Narrow"/>
              </a:rPr>
              <a:t>geçiş dönemi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diyebiliriz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0" lang="tr-TR" sz="2400" spc="-1" strike="noStrike">
                <a:solidFill>
                  <a:srgbClr val="2f1311"/>
                </a:solidFill>
                <a:latin typeface="Arial Narrow"/>
              </a:rPr>
              <a:t>Bu dönemin ürünü olan </a:t>
            </a:r>
            <a:r>
              <a:rPr b="1" lang="tr-TR" sz="2400" spc="-1" strike="noStrike">
                <a:solidFill>
                  <a:srgbClr val="2f1311"/>
                </a:solidFill>
                <a:latin typeface="Arial Narrow"/>
              </a:rPr>
              <a:t>ilk İslami Türk eserlerini</a:t>
            </a:r>
            <a:r>
              <a:rPr b="0" lang="tr-TR" sz="2400" spc="-1" strike="noStrike">
                <a:solidFill>
                  <a:srgbClr val="2f1311"/>
                </a:solidFill>
                <a:latin typeface="Arial Narrow"/>
              </a:rPr>
              <a:t> şöyle sıralayabiliriz</a:t>
            </a:r>
            <a:r>
              <a:rPr b="0" lang="tr-TR" sz="24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4"/>
          <p:cNvSpPr/>
          <p:nvPr/>
        </p:nvSpPr>
        <p:spPr>
          <a:xfrm>
            <a:off x="0" y="0"/>
            <a:ext cx="7812000" cy="90792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2071440" y="163440"/>
            <a:ext cx="346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KUTADGU BİLİG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(MUTLULUK VEREN BİLGİ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324720" y="98100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1332000" y="3745080"/>
            <a:ext cx="907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AutoShape 11"/>
          <p:cNvSpPr/>
          <p:nvPr/>
        </p:nvSpPr>
        <p:spPr>
          <a:xfrm>
            <a:off x="0" y="907920"/>
            <a:ext cx="7885080" cy="5950080"/>
          </a:xfrm>
          <a:prstGeom prst="foldedCorner">
            <a:avLst>
              <a:gd name="adj" fmla="val 20736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0" y="927000"/>
            <a:ext cx="781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Manzum olarak Mesnevi nazım biçimiyle aruz ölçüsünün “feulün, feulün, feulün, feul”</a:t>
            </a:r>
            <a:r>
              <a:rPr b="0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kalıbıyla “YUSUF HAS HACİP” tarafından yazılmıştır.</a:t>
            </a:r>
            <a:r>
              <a:rPr b="0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Karahanlı hükümdarı Tabgaç Buğra Han’a sunulmuştu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6645 beyitten oluşan eser Firdevsi’nin “Şehname”sine benze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Didaktik bir tarda yazılmıştır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Bu yapıt bir “Başlangıç” bölümünden sonra alegorik dört kişi arasındaki olaylar,</a:t>
            </a:r>
            <a:r>
              <a:rPr b="0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konuşmalar ve yazışmalardan oluşur. Yusuf ağzıyla kendi sosyal ve politik düşünce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lerini yansıtı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Eserde 173 yerde, İslamlık öncesi şiir geleneğinin uzantısı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olan, “dörtlük-maniler vardır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Yapıtın alegorik ( temsili) olması şundandır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6"/>
          <p:cNvSpPr/>
          <p:nvPr/>
        </p:nvSpPr>
        <p:spPr>
          <a:xfrm>
            <a:off x="1816200" y="65160"/>
            <a:ext cx="5916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AutoShape 8"/>
          <p:cNvSpPr/>
          <p:nvPr/>
        </p:nvSpPr>
        <p:spPr>
          <a:xfrm>
            <a:off x="0" y="0"/>
            <a:ext cx="7885080" cy="6858000"/>
          </a:xfrm>
          <a:prstGeom prst="foldedCorner">
            <a:avLst>
              <a:gd name="adj" fmla="val 1837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0" y="692280"/>
            <a:ext cx="81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Eserdeki dört kişi, dört düşünceyi temsil ede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            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Kün-doğdı adlı hükümdar yasa ve düzen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            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Aytoldı adlı vezir egemenlik ve mutluluğu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Öğdülmüş (Aytoldı’nın oğlu) aklı ve bilim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            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Odgurmuş kanaat ve yalnızlığı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Eserde: din, devlet yönetimi, ahlak, iyilik, çocuk eğitimi, aile, mutluluk, ilmin önemi…</a:t>
            </a: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gibi konularda bilgi verilmişti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Türk şiirine özgü dörtlükler, cinaslar da bulunu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Hakaniye Lehçesi’yle yazılmıştı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4"/>
          <p:cNvSpPr/>
          <p:nvPr/>
        </p:nvSpPr>
        <p:spPr>
          <a:xfrm>
            <a:off x="0" y="0"/>
            <a:ext cx="7885080" cy="83664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2123640" y="47520"/>
            <a:ext cx="300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ATABET-ÜL HAKAYIK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(HAKİKATLERİN EŞİĞİ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0" y="836640"/>
            <a:ext cx="7885080" cy="6021360"/>
          </a:xfrm>
          <a:prstGeom prst="foldedCorner">
            <a:avLst>
              <a:gd name="adj" fmla="val 2377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87480" y="928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18000" y="836640"/>
            <a:ext cx="79362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EDİP AHMET YÜKNEKİ”  tarafından yazılmıştı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Manzum olan yapıt aruz ölçüsünün “feulün, feulün, feulün, feul” kalıbıyla yazılmıştı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Eserin konu başlıkları Arapça’dır. Eserde ayet ve hadislere de yer verilmişti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Didaktik olan eserde Türk töreleriyle İslam inanç ve düşünceleri yapıtın dokusun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ustaca işlenmiştir.</a:t>
            </a:r>
            <a:r>
              <a:rPr b="0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Eserde; bilginin önemi, dindarlığın, iyi kalpli ve güzel ahlaklı olmanın faziletleri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hakkında bilgi verili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Eserin giriş kısmı ( Allah’ın, Peygamber’in, Dört Halife’nin övüldüğü) gazel biçimind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kafiyelenmiş 46 beyitten oluşu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Eserde asıl konuyu anlatan bölüm “mani” biçiminde kafiyelenmiştir ve 101 dörtlük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ten oluşu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Yapıtın başlangıç bölümünde üç manzume vardır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	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	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Birincisi: Münacaat ve Naa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	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	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İkincisi: Yapıtın sunulduğu “Emir” için methiy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	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	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Üçüncüsü: Kitabın yazılış neden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6000"/>
                            </p:stCondLst>
                            <p:childTnLst>
                              <p:par>
                                <p:cTn id="3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utoShape 4"/>
          <p:cNvSpPr/>
          <p:nvPr/>
        </p:nvSpPr>
        <p:spPr>
          <a:xfrm>
            <a:off x="0" y="0"/>
            <a:ext cx="7885080" cy="76500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2122920" y="0"/>
            <a:ext cx="3434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DİVAN-I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LÜGATİ’T TÜRK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(TÜRK DİLLERİ SÖZLÜĞÜ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AutoShape 8"/>
          <p:cNvSpPr/>
          <p:nvPr/>
        </p:nvSpPr>
        <p:spPr>
          <a:xfrm>
            <a:off x="0" y="765000"/>
            <a:ext cx="7885080" cy="6093000"/>
          </a:xfrm>
          <a:prstGeom prst="foldedCorner">
            <a:avLst>
              <a:gd name="adj" fmla="val 2874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22320" y="981000"/>
            <a:ext cx="7727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KAŞGARLI MAHMUT” tarafından Araplara Türkçeyi öğretmek, Türkçenin Arapç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dan daha üstün bir dil olduğunu kanıtlamak için yazılmış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Türk dillerinin sözlüğü, ilk dilbilgisi kitabı sayılı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Eserde 7500 kelimenin Türkçe karşılığı verilmiştir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Eserde sözcükler ve örnek tümceler Türkçe, bu sözcüklerin açıklaması Arapça’dı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Eser bir sözlük olaktan başka; devrin siyasi, sosyolojik ve kültürel yapısı, folklör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özellikleri hakkında aydınlatıcı bilgiler vermektedi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İslamiyet öncesi edebiyata ait birçok örneği içine alıp unutulmasını önlediği içi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Türk kültürünün temel eserlerinden biridi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Sözlü döneme ait birçok eser bu kitapta yer alı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O döneme ait bir de harita vardır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83800" y="618480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www.edebiyatogretmeni.net</a:t>
            </a:r>
            <a:r>
              <a:rPr b="0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4"/>
          <p:cNvSpPr/>
          <p:nvPr/>
        </p:nvSpPr>
        <p:spPr>
          <a:xfrm>
            <a:off x="324000" y="260280"/>
            <a:ext cx="7416720" cy="86508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2251800" y="339840"/>
            <a:ext cx="314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Comic Sans MS"/>
              </a:rPr>
              <a:t>SÖZLÜ TÜRK EDEBİYATI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Comic Sans MS"/>
              </a:rPr>
              <a:t>(DESTANLAR DÖNEMİ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179280" y="1125360"/>
            <a:ext cx="1152720" cy="5732640"/>
          </a:xfrm>
          <a:prstGeom prst="downArrow">
            <a:avLst>
              <a:gd name="adj1" fmla="val 50000"/>
              <a:gd name="adj2" fmla="val 12432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 rot="16200000">
            <a:off x="-1327680" y="312264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Ö n e m l i   Ö z e l l i k l e r 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1028520" y="1125360"/>
            <a:ext cx="711756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Din törenlerinde doğmuş, din dışı törenlerde gelişmişt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Şiir söyleyen kişilere “</a:t>
            </a: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ozan, kam, baksı, şaman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” denil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Bu dönemde “</a:t>
            </a: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sav, sagu, koşuk, destan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” nazım şekilleri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görülü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Şiirde “</a:t>
            </a: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yarım uyak, hece ölçüsü, dörtlükler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” kullanılmış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Yalın bir dil kullanılmıştır, dil yabancı etkilerden uzakt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Kutsal sayılan “Yak” adlı öküzün senede bir kere sürek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avıyla avlanması törenine </a:t>
            </a: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“SIĞIR ŞÖLENİ”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den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Kutsal sayılan hayvanların kurban edildiği törenler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ŞÖLEN”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den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Ölen bir kahramanın ardından düzenlenen yas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törenlerine </a:t>
            </a: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“YUĞ”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denir.</a:t>
            </a:r>
            <a:r>
              <a:rPr b="0" lang="tr-TR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4"/>
          <p:cNvSpPr/>
          <p:nvPr/>
        </p:nvSpPr>
        <p:spPr>
          <a:xfrm>
            <a:off x="0" y="0"/>
            <a:ext cx="7885080" cy="98100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2411280" y="189000"/>
            <a:ext cx="275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DİVAN-I HİKMET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(HİKMETLER KİTABI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0" y="981000"/>
            <a:ext cx="7885080" cy="5877000"/>
          </a:xfrm>
          <a:prstGeom prst="foldedCorner">
            <a:avLst>
              <a:gd name="adj" fmla="val 2252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23040" y="1197000"/>
            <a:ext cx="761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Türkler arasında ilk tarikatı kuran ( Yesviye) Hoca Ahmet tarafından yazılmıştı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Eserin nazım birimi dörtlüktür ve eser hece vezniyle yazılmıştı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Koşma nazım biçimiyle yazılmış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Hikmet” adını taşıyan bu şiirlerde: Yeseviye tarikatının görüşleri, özellikleri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tasavvufun hikmetleri, güzel ahlak, nefsin terbiyesi, insanın kıymeti gibi konu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larda bilgi verili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Didaktik olan eser Dini Tasavvufi Türk edebiyatının ilk örneğidir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63 yaşına geldiğinde yerin altına bir hücre yaptırmış ve ölünceye kadar burada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kalmıştır. Bunu yapmasının sebebi Peygamber Efendimizin 63 yaşında ölmesidi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Gazel ve mesnevi tarzında yazılmış bölümler de vardı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Başta Yunus Emre olmak üzere, birçok tasavvuf şairini etkilemişti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6000"/>
                            </p:stCondLst>
                            <p:childTnLst>
                              <p:par>
                                <p:cTn id="4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4"/>
          <p:cNvSpPr/>
          <p:nvPr/>
        </p:nvSpPr>
        <p:spPr>
          <a:xfrm>
            <a:off x="179280" y="189000"/>
            <a:ext cx="7561440" cy="6480000"/>
          </a:xfrm>
          <a:prstGeom prst="foldedCorner">
            <a:avLst>
              <a:gd name="adj" fmla="val 2208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411480" y="765000"/>
            <a:ext cx="5711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2f1311"/>
                </a:solidFill>
                <a:latin typeface="Arial"/>
              </a:rPr>
              <a:t>ŞECERE-İ ENSAB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Türk ve İslam büyüklerinin soylarının anlatıldığı bir eserdi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Fahrettin Mübarekşah tarafından yazılmıştı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2f1311"/>
                </a:solidFill>
                <a:latin typeface="Arial Narrow"/>
              </a:rPr>
              <a:t>ELKEŞŞAF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Devrin en büyük ve en güzel tefsir kitabıdı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Zemahşeri tarafından yazılmıştı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2f1311"/>
                </a:solidFill>
                <a:latin typeface="Arial Narrow"/>
              </a:rPr>
              <a:t>MUKADDİMETÜL EDEP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Lügat kitabıdı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AutoShape 4"/>
          <p:cNvSpPr/>
          <p:nvPr/>
        </p:nvSpPr>
        <p:spPr>
          <a:xfrm>
            <a:off x="0" y="0"/>
            <a:ext cx="8101080" cy="83664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1336320" y="189000"/>
            <a:ext cx="54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İSLAMİ DÖNEM TÜRK DESTANLAR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0" y="981000"/>
            <a:ext cx="4140360" cy="180036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AutoShape 8"/>
          <p:cNvSpPr/>
          <p:nvPr/>
        </p:nvSpPr>
        <p:spPr>
          <a:xfrm>
            <a:off x="3924360" y="981000"/>
            <a:ext cx="4176720" cy="180036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AutoShape 9"/>
          <p:cNvSpPr/>
          <p:nvPr/>
        </p:nvSpPr>
        <p:spPr>
          <a:xfrm>
            <a:off x="0" y="2997360"/>
            <a:ext cx="4067280" cy="180000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AutoShape 10"/>
          <p:cNvSpPr/>
          <p:nvPr/>
        </p:nvSpPr>
        <p:spPr>
          <a:xfrm>
            <a:off x="0" y="4941720"/>
            <a:ext cx="4067280" cy="191628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AutoShape 11"/>
          <p:cNvSpPr/>
          <p:nvPr/>
        </p:nvSpPr>
        <p:spPr>
          <a:xfrm>
            <a:off x="3851280" y="2997360"/>
            <a:ext cx="4249800" cy="180000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AutoShape 12"/>
          <p:cNvSpPr/>
          <p:nvPr/>
        </p:nvSpPr>
        <p:spPr>
          <a:xfrm>
            <a:off x="3851280" y="4941720"/>
            <a:ext cx="4249800" cy="191628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829800" y="981000"/>
            <a:ext cx="27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SATUK BUĞRA HAN DESTANI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171720" y="1197000"/>
            <a:ext cx="380772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</a:t>
            </a: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Müslüman olan ilk Türk devletini kuran Satuk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Buğra Han’ın hayatını anlatır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Eski Türk destanlarındaki motifler islami anla-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yışla değiştirilmiş, kafirlerle savaş başlamıştır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Menkıbelere göre düşmana uzatıldığında kırk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adım uzayan ve ateş çıkaran bir kılıcı vardır</a:t>
            </a:r>
            <a:r>
              <a:rPr b="1" lang="tr-TR" sz="1200" spc="-1" strike="noStrike">
                <a:solidFill>
                  <a:srgbClr val="2f1311"/>
                </a:solidFill>
                <a:latin typeface="Arial Narrow"/>
              </a:rPr>
              <a:t>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5221800" y="95868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MANAS DESTANI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4060800" y="1197000"/>
            <a:ext cx="392652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Manas adlı kahramanın kafirlerle savaşı anlatılır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Dünyanın en büyük destanıdır. (500.000 beyit)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Manas doğduğunda bazı olağanüstü güçlere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sahiptir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Büyüyünce Kırgız bağımsızlık savaşının önderi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olur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1478160" y="297504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CENGİZNAME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180720" y="3429000"/>
            <a:ext cx="3665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Moğol hükümdarı Cengiz’ in hayatını ve sa-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vaşlarını anlatır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Hikaye Türk tarihi gibi anlatıldığından belge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niteliğindedir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5295240" y="2975040"/>
            <a:ext cx="141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BATTALNAME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Text Box 24"/>
          <p:cNvSpPr/>
          <p:nvPr/>
        </p:nvSpPr>
        <p:spPr>
          <a:xfrm>
            <a:off x="4062960" y="3500280"/>
            <a:ext cx="3658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Destanın kahramanı Türkler arasında Battal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Gazi diye bilinen bir Arap savaşçısıdır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Emevilerle Hıristiyanların savaşı anlatılır</a:t>
            </a: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2" name="Text Box 26"/>
          <p:cNvSpPr/>
          <p:nvPr/>
        </p:nvSpPr>
        <p:spPr>
          <a:xfrm>
            <a:off x="1262160" y="4919760"/>
            <a:ext cx="17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DANİŞMENDNAME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3" name="Text Box 27"/>
          <p:cNvSpPr/>
          <p:nvPr/>
        </p:nvSpPr>
        <p:spPr>
          <a:xfrm>
            <a:off x="179280" y="5157720"/>
            <a:ext cx="37814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Bu eserde hikaye edilen olayların tarihi ger-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çeklere uygun olması; adı geçen kahramanla-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rın tarihi şahsiyetler oluşu ve adı geçen coğ-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rafyaların Anadolu coğrafyasına uygunluğu                    dolayısıyla bu eser Türk edebiyatında uzun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müddet bir tarih kitabı olarak karşılanmıştır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Anadolu’nun fethini ve bu mücadelenin kah-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ramanlarını anlatır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Text Box 29"/>
          <p:cNvSpPr/>
          <p:nvPr/>
        </p:nvSpPr>
        <p:spPr>
          <a:xfrm>
            <a:off x="5078160" y="4919760"/>
            <a:ext cx="19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KÖROĞLU DESTANI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Text Box 30"/>
          <p:cNvSpPr/>
          <p:nvPr/>
        </p:nvSpPr>
        <p:spPr>
          <a:xfrm>
            <a:off x="4067280" y="5300640"/>
            <a:ext cx="3335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Anadolu’da yaratılmış bir destandır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Asıl adı Ruşen’ dir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Bolu Bey’ i tarafından babası kör edilir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tr-TR" sz="1200" spc="-1" strike="noStrike">
                <a:solidFill>
                  <a:srgbClr val="2f1311"/>
                </a:solidFill>
                <a:latin typeface="Arial"/>
              </a:rPr>
              <a:t>Ruşen babasının intikamını alır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6000"/>
                            </p:stCondLst>
                            <p:childTnLst>
                              <p:par>
                                <p:cTn id="4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000"/>
                            </p:stCondLst>
                            <p:childTnLst>
                              <p:par>
                                <p:cTn id="4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000"/>
                            </p:stCondLst>
                            <p:childTnLst>
                              <p:par>
                                <p:cTn id="4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9000"/>
                            </p:stCondLst>
                            <p:childTnLst>
                              <p:par>
                                <p:cTn id="5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0"/>
                            </p:stCondLst>
                            <p:childTnLst>
                              <p:par>
                                <p:cTn id="5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4"/>
          <p:cNvSpPr/>
          <p:nvPr/>
        </p:nvSpPr>
        <p:spPr>
          <a:xfrm>
            <a:off x="395280" y="17971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ZIRLAYA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ÜRK DİLİ VE EDEBİYATI ÖĞRETMENİ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RDAR GÜ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1110240" y="3933720"/>
            <a:ext cx="630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ZEN SESİNİ DUYURABİLMEN İÇİN SUSMAN GEREKİ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45280" y="4673520"/>
            <a:ext cx="36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18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www.edebiyatogretmeni.net</a:t>
            </a:r>
            <a:r>
              <a:rPr b="0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4"/>
          <p:cNvSpPr/>
          <p:nvPr/>
        </p:nvSpPr>
        <p:spPr>
          <a:xfrm>
            <a:off x="395280" y="0"/>
            <a:ext cx="7272360" cy="1557360"/>
          </a:xfrm>
          <a:prstGeom prst="horizontalScroll">
            <a:avLst>
              <a:gd name="adj" fmla="val 25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188360" y="549360"/>
            <a:ext cx="57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İSLAMİYET ÖNCESİ NAZIM ŞEKİLLERİ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95280" y="1773360"/>
            <a:ext cx="7272360" cy="5084640"/>
          </a:xfrm>
          <a:prstGeom prst="foldedCorner">
            <a:avLst>
              <a:gd name="adj" fmla="val 1637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12120" y="1773360"/>
            <a:ext cx="71452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2f1311"/>
                </a:solidFill>
                <a:latin typeface="Arial"/>
              </a:rPr>
              <a:t>KOŞUK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Dörtlüklerle söylenen nazım şekillerid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Yiğitlik, aşk, tabiat gibi konular işlen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Hece ölçüsü ve dörtlükler halinde söylen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Kopuz eşliğinde söylen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İlk koşuk örneklerine “Divan-ı Lügat-it Türk” te rastlan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Halk edebiyatında “Koşma” Divan edebiyatında “Gazel”i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karşılığıdır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ÖRNEK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             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Türlük çeçek yarıldı             Rengarenk çiçekler açıldı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Barçın yadım kerildi            İpek yaygılar serildi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Uçmakyeri körüldi               Cennet yeri görüld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Tumluk yana kelgüsüz        Soğuklar artık gelmez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4067280" y="5013360"/>
            <a:ext cx="0" cy="1079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4"/>
          <p:cNvSpPr/>
          <p:nvPr/>
        </p:nvSpPr>
        <p:spPr>
          <a:xfrm rot="1525800">
            <a:off x="0" y="188640"/>
            <a:ext cx="976320" cy="485640"/>
          </a:xfrm>
          <a:prstGeom prst="pi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1042920" y="189000"/>
            <a:ext cx="6408720" cy="6480000"/>
          </a:xfrm>
          <a:prstGeom prst="foldedCorner">
            <a:avLst>
              <a:gd name="adj" fmla="val 1602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1106640" y="404640"/>
            <a:ext cx="6462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2f1311"/>
                </a:solidFill>
                <a:latin typeface="Arial"/>
              </a:rPr>
              <a:t>SAGU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 “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Yuğ”  adı verilen ölüm törenlerinde devlet büyükleri-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nin ya da kahramanların ölümü üzerine duyulan acı-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yı dile getirmek için söylenen şiirler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Halk edebiyatında “Ağıt”, Divan edebiyatında “Mer-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siye” den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ÖRNEK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            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Ulaşıp eren börleyü       Yiğitler kurt gibi uluyo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Yırtıp yaka urlayu           Çığlıklara yaka yırtıyo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Sıkrıp üni yırlayu            Islıkla çağrışıyor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2f1311"/>
                </a:solidFill>
                <a:latin typeface="Arial"/>
              </a:rPr>
              <a:t>Sıgtap közi örtülür          Gözler yaşla örtülü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Line 8"/>
          <p:cNvSpPr/>
          <p:nvPr/>
        </p:nvSpPr>
        <p:spPr>
          <a:xfrm>
            <a:off x="4716360" y="4076640"/>
            <a:ext cx="0" cy="936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4"/>
          <p:cNvSpPr/>
          <p:nvPr/>
        </p:nvSpPr>
        <p:spPr>
          <a:xfrm>
            <a:off x="1042920" y="260280"/>
            <a:ext cx="6624720" cy="6408720"/>
          </a:xfrm>
          <a:prstGeom prst="foldedCorner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 rot="1676400">
            <a:off x="0" y="188640"/>
            <a:ext cx="976320" cy="485640"/>
          </a:xfrm>
          <a:prstGeom prst="pi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182240" y="981000"/>
            <a:ext cx="646992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2f1311"/>
                </a:solidFill>
                <a:latin typeface="Arial"/>
              </a:rPr>
              <a:t>SAV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Kısa ve özlü sözlerd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Türk edebiyatının ilk atasözlerid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ÖRNEKLER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Kişi alası içtin, yılkı alası taştı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Yir basruku tag, budun basruku beg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2f1311"/>
                </a:solidFill>
                <a:latin typeface="Arial"/>
              </a:rPr>
              <a:t>DESTAN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Bir ulusun yaşayışını yakından ilgilendiren savaş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göç, kıtlık gibi olayları yiğitlik ve olağanüstülükl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anlatan manzum öyküle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Oluşumlarına göre 2 ye ayrıl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Organization Chart 7"/>
          <p:cNvGrpSpPr/>
          <p:nvPr/>
        </p:nvGrpSpPr>
        <p:grpSpPr>
          <a:xfrm>
            <a:off x="179280" y="919080"/>
            <a:ext cx="8841960" cy="4287960"/>
            <a:chOff x="179280" y="919080"/>
            <a:chExt cx="8841960" cy="4287960"/>
          </a:xfrm>
        </p:grpSpPr>
        <p:cxnSp>
          <p:nvCxnSpPr>
            <p:cNvPr id="212" name="_s1028"/>
            <p:cNvCxnSpPr>
              <a:stCxn id="213" idx="0"/>
              <a:endCxn id="214" idx="2"/>
            </p:cNvCxnSpPr>
            <p:nvPr/>
          </p:nvCxnSpPr>
          <p:spPr>
            <a:xfrm flipV="1" rot="16200000">
              <a:off x="5618160" y="728280"/>
              <a:ext cx="229320" cy="2266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15" name="_s1029"/>
            <p:cNvCxnSpPr>
              <a:stCxn id="216" idx="0"/>
              <a:endCxn id="214" idx="2"/>
            </p:cNvCxnSpPr>
            <p:nvPr/>
          </p:nvCxnSpPr>
          <p:spPr>
            <a:xfrm flipH="1" flipV="1" rot="5400000">
              <a:off x="3351960" y="729000"/>
              <a:ext cx="229320" cy="2265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2f1311"/>
              </a:solidFill>
              <a:miter/>
            </a:ln>
          </p:spPr>
        </p:cxnSp>
        <p:sp>
          <p:nvSpPr>
            <p:cNvPr id="214" name="_s1030"/>
            <p:cNvSpPr/>
            <p:nvPr/>
          </p:nvSpPr>
          <p:spPr>
            <a:xfrm>
              <a:off x="3322080" y="919080"/>
              <a:ext cx="2556360" cy="828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2f1311"/>
                  </a:solidFill>
                  <a:latin typeface="Arial"/>
                </a:rPr>
                <a:t>DESTAN</a:t>
              </a:r>
              <a:endParaRPr b="0" lang="en-US" sz="3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_s1031"/>
            <p:cNvSpPr/>
            <p:nvPr/>
          </p:nvSpPr>
          <p:spPr>
            <a:xfrm>
              <a:off x="179280" y="1976400"/>
              <a:ext cx="4311720" cy="323064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2f1311"/>
                  </a:solidFill>
                  <a:uFillTx/>
                  <a:latin typeface="Arial"/>
                </a:rPr>
                <a:t>DOĞAL DESTAN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buClr>
                  <a:srgbClr val="2f131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2f1311"/>
                  </a:solidFill>
                  <a:latin typeface="Arial"/>
                </a:rPr>
                <a:t>Anonimdir.</a:t>
              </a:r>
              <a:endParaRPr b="0" lang="en-US" sz="11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buClr>
                  <a:srgbClr val="2f131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2f1311"/>
                  </a:solidFill>
                  <a:latin typeface="Arial"/>
                </a:rPr>
                <a:t>Nazım-Nesir karışık olanları vardır.</a:t>
              </a:r>
              <a:endParaRPr b="0" lang="en-US" sz="11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buClr>
                  <a:srgbClr val="2f131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2f1311"/>
                  </a:solidFill>
                  <a:latin typeface="Arial"/>
                </a:rPr>
                <a:t>Gerçek ve gerçekdışı olaylar iç içedir.</a:t>
              </a:r>
              <a:endParaRPr b="0" lang="en-US" sz="11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buClr>
                  <a:srgbClr val="2f131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2f1311"/>
                  </a:solidFill>
                  <a:latin typeface="Arial"/>
                </a:rPr>
                <a:t>Kişiler olağanüstü özelliklere sahiptir.</a:t>
              </a:r>
              <a:endParaRPr b="0" lang="en-US" sz="11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buClr>
                  <a:srgbClr val="2f131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2f1311"/>
                  </a:solidFill>
                  <a:latin typeface="Arial"/>
                </a:rPr>
                <a:t>Uzun manzum eserlerdir.</a:t>
              </a:r>
              <a:endParaRPr b="0" lang="en-US" sz="11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buClr>
                  <a:srgbClr val="2f131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2f1311"/>
                  </a:solidFill>
                  <a:latin typeface="Arial"/>
                </a:rPr>
                <a:t>Üç aşamada oluşurlar.</a:t>
              </a:r>
              <a:endParaRPr b="0" lang="en-US" sz="11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buClr>
                  <a:srgbClr val="2f131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2f1311"/>
                  </a:solidFill>
                  <a:latin typeface="Arial"/>
                </a:rPr>
                <a:t>Türk destanları 3. aşamaya ulaşamamış.</a:t>
              </a:r>
              <a:endParaRPr b="0" lang="en-US" sz="11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3" name="_s1032"/>
            <p:cNvSpPr/>
            <p:nvPr/>
          </p:nvSpPr>
          <p:spPr>
            <a:xfrm>
              <a:off x="4709520" y="1976400"/>
              <a:ext cx="4311720" cy="323064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2f1311"/>
                  </a:solidFill>
                  <a:uFillTx/>
                  <a:latin typeface="Arial"/>
                </a:rPr>
                <a:t>YAPMA DESTAN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buClr>
                  <a:srgbClr val="2f131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Yakın dönemde yaşanan olaylar anlatılır.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buClr>
                  <a:srgbClr val="2f131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Bir ozan tarafından destan kurallarına uygun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olarak yazıya geçirilir.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buClr>
                  <a:srgbClr val="2f131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Bunlarda halkın etkisi yoktur.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buClr>
                  <a:srgbClr val="2f131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buClr>
                  <a:srgbClr val="2f131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buClr>
                  <a:srgbClr val="2f131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buClr>
                  <a:srgbClr val="2f131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transition spd="slow">
    <p:randomBa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3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4"/>
          <p:cNvSpPr/>
          <p:nvPr/>
        </p:nvSpPr>
        <p:spPr>
          <a:xfrm>
            <a:off x="0" y="0"/>
            <a:ext cx="7885080" cy="69228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977040" y="189000"/>
            <a:ext cx="59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TÜRK EDEBİYATI DOĞAL DESTANLAR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0" y="692280"/>
            <a:ext cx="7885080" cy="6165720"/>
          </a:xfrm>
          <a:prstGeom prst="foldedCorner">
            <a:avLst>
              <a:gd name="adj" fmla="val 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0" y="639720"/>
            <a:ext cx="7846920" cy="65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 u="sng">
                <a:solidFill>
                  <a:srgbClr val="2f1311"/>
                </a:solidFill>
                <a:uFillTx/>
                <a:latin typeface="Arial"/>
              </a:rPr>
              <a:t>SAKA DESTANLARI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1- ALP ER TUNGA DESTANI:</a:t>
            </a: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Alp Er Tunga’nın İran’la yaptığı savaşlar anlatılı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2- ŞU DESTANI: Büyük İskender ve Şu arasındaki savaş anlatıl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 u="sng">
                <a:solidFill>
                  <a:srgbClr val="2f1311"/>
                </a:solidFill>
                <a:uFillTx/>
                <a:latin typeface="Arial"/>
              </a:rPr>
              <a:t>HUN DESTANI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OĞUZ KAĞAN DESTANI: Oğuz Kağan’ın (Mete) kahramanlıkları ve Orta Asya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                                           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Türk birliğini kurması anlatıl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 u="sng">
                <a:solidFill>
                  <a:srgbClr val="2f1311"/>
                </a:solidFill>
                <a:uFillTx/>
                <a:latin typeface="Arial"/>
              </a:rPr>
              <a:t>GÖK-TÜRK DESTANLARI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1- BOZKURT DESTANI: Türklerin dişi bir kurttan türemeleri anlatıl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2- ERGENEKON DESTANI: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Gök-Türk’lerin Ergenekon’ a gelişleri, burada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                                         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çoğalmaları ve demir dağı eriterek burada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                                         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çıkmaları anlatılır. Finlilerin “Kalevala”</a:t>
            </a: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                                         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destanına çok benze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 u="sng">
                <a:solidFill>
                  <a:srgbClr val="2f1311"/>
                </a:solidFill>
                <a:uFillTx/>
                <a:latin typeface="Arial"/>
              </a:rPr>
              <a:t>UYGUR DESTANLARI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1- TÜREYİŞ DESTANI: Uygur hükümdarının kızlarını kutsal sayılan “Kurt”l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                                     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evlendirmesini ve Türklerin çoğalmasını anlat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2- GÖÇ DESTANI: Türklerin, Kutsal Taşı Çinlilere vermesi üzerine yaşana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                              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kıtlık ve bu nedenle yapılan göç anlatıl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0" y="0"/>
            <a:ext cx="7885080" cy="76500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DÜNYA EDEBİYATI DOĞAL DESTANLAR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0" y="765000"/>
            <a:ext cx="7812000" cy="6093000"/>
          </a:xfrm>
          <a:prstGeom prst="foldedCorner">
            <a:avLst>
              <a:gd name="adj" fmla="val 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2880" y="6922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ÜLK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248436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4431240" y="69228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KONUSU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1695240" y="69228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ESERİN AD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0" y="1052640"/>
            <a:ext cx="1555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YUNA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ARS (İRAN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İ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SÜME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İNGİLİZ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İ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İSPANYO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RANSIZ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LMA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JAPO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RU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1692360" y="1052640"/>
            <a:ext cx="26604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İLİYADA ve ODYSSEİ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ŞEHNAM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KALEVAL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GILGAMIŞ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BOEWUL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AHABARAT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Cİ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CHANSON de ROLAN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NİBULENGE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ŞİNT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İGO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Line 13"/>
          <p:cNvSpPr/>
          <p:nvPr/>
        </p:nvSpPr>
        <p:spPr>
          <a:xfrm>
            <a:off x="1619280" y="1052640"/>
            <a:ext cx="0" cy="5805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4427640" y="1052640"/>
            <a:ext cx="0" cy="5805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4342320" y="1052640"/>
            <a:ext cx="3701160" cy="66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TRUVA FİLMİ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İran-Turan mücadelelerini,Rüstem’in yiğit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Liklerini, İskender’in İran’ı fethi anlatıl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Doğaya karşı savaşan Finlilerin erdemlerini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bilgeliklerini anlat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-------------------------------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Yiğit Boewulf ve arkadaşlarının bir cana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varla mücadelesi anlatıl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Kaurava’nın Pandallarla yaptığı savaşı,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Krişna ve  Arcuna’nın kahramanlıklarını an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Ulusal kahramanları Rodrigo’nun 11.yy.d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Araplarla mücadelesi anlatıl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Charlemagne döneminde Müslümanlarla  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yapılan savaşları anlat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5.yy’da yapılan Hun-Alman savaşlarını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anlat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--------------------------------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12.yy’da Kıpçak’larla Rusların yaptığı savaş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ları anlat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0" y="0"/>
            <a:ext cx="7885080" cy="104292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1050120" y="333360"/>
            <a:ext cx="59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TÜRK EDEBİYATI YAPMA DESTANLAR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0" y="1052640"/>
            <a:ext cx="7885080" cy="5805360"/>
          </a:xfrm>
          <a:prstGeom prst="foldedCorner">
            <a:avLst>
              <a:gd name="adj" fmla="val 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759240" y="1844640"/>
            <a:ext cx="25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ESERİN YAZAR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719240" y="184464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ESERİN AD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3851280" y="2781360"/>
            <a:ext cx="0" cy="2592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326160" y="2708280"/>
            <a:ext cx="3074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AZIM HİKM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FAZIL HÜSNÜ DAĞLARC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EHMET AKİF ERSOY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GÜLTEN AKI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TİLLA İLHA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4068720" y="2708280"/>
            <a:ext cx="3914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KUVAYİ MİLLİY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ÜÇ ŞEHİTLE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ÇANAKKALE ŞEHİTLERİN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ARAŞ’IN VE ÖKKEŞ’İN DESTAN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ABBAROĞLU MEHM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3:30:56Z</dcterms:created>
  <dc:creator>serdar gül</dc:creator>
  <dc:description/>
  <dc:language>en-US</dc:language>
  <cp:lastModifiedBy>Yusuf Durmuşoğlu</cp:lastModifiedBy>
  <dcterms:modified xsi:type="dcterms:W3CDTF">2009-02-03T16:26:13Z</dcterms:modified>
  <cp:revision>25</cp:revision>
  <dc:subject/>
  <dc:title>Slayt 1</dc:title>
</cp:coreProperties>
</file>