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CEADD-0F3B-49E4-BDB3-DC4CCDC4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C9BB-59BD-4E09-9E69-CF2B9664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11A2-48A8-48EE-9836-41221BA4C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EE477-1DF5-4E21-A649-AC453B844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E4642-96F0-43CF-8C1D-F916B7243B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02093D-C935-4A10-87E7-D38EB7A263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20618-BEA5-474E-B574-DA9124F1FE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B27315-28FD-4989-8FB6-E832E653E7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EDABD-4F1F-4116-BFEC-84E137E0CC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B880B-C484-4538-B9FE-DFE1009048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1513B-A0BE-4CFF-887F-49F646F6FD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6B22-EBB9-48B7-85A0-BC2A6112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1ED1F-5CA5-4E6E-A19A-1EA21B35A1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10A1A-9D7F-4F63-B0B6-4EBD32D17A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BFD10-F153-4F2B-B9A3-DA58D0F9CF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9EB5A4-2ED6-494C-88A0-0F89310641C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55F5D3-29D2-401D-8A8E-DEAC1D169D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B537-F001-42B1-8744-26A9BC1F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B245B-275B-4FC1-90D8-D10808F0F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387E-63A4-4466-83A5-6A85D149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3DB30-33E7-44E8-8798-06484D71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5DD6-AF1D-4FE1-80C1-1083A1898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D570-506D-47E6-AEB3-82F544C8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312F-365C-414D-8F97-D1E91365B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E8E7-B605-41CC-B686-B05831B46F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28A0-692D-42E7-BABC-65E5944B80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debiyatogretmeni.net/" TargetMode="External"/><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1196640"/>
            <a:ext cx="8229600" cy="26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0da"/>
                </a:solidFill>
                <a:latin typeface="Tahoma"/>
              </a:rPr>
              <a:t>İSLAMİYET'İN KABULÜNDEN ÖNCEKİ TÜRK EDEBİYATI</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
          <p:cNvSpPr/>
          <p:nvPr/>
        </p:nvSpPr>
        <p:spPr>
          <a:xfrm>
            <a:off x="2815920" y="5589720"/>
            <a:ext cx="3310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3"/>
              </a:rPr>
              <a:t>www.edebiyatogretmeni.net</a:t>
            </a:r>
            <a:r>
              <a:rPr b="0" lang="en-US" sz="1800" spc="-1" strike="noStrike" u="sng">
                <a:solidFill>
                  <a:srgbClr val="ffffff"/>
                </a:solidFill>
                <a:uFillTx/>
                <a:latin typeface="Tahoma"/>
              </a:rPr>
              <a:t> </a:t>
            </a:r>
            <a:endParaRPr b="0" lang="en-US" sz="1800" spc="-1" strike="noStrike">
              <a:solidFill>
                <a:srgbClr val="ffffff"/>
              </a:solidFill>
              <a:latin typeface="Arial"/>
            </a:endParaRPr>
          </a:p>
        </p:txBody>
      </p:sp>
    </p:spTree>
  </p:cSld>
  <p:transition advTm="13000">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41440" y="-1108080"/>
            <a:ext cx="10226880" cy="7966080"/>
          </a:xfrm>
          <a:custGeom>
            <a:avLst/>
            <a:gdLst>
              <a:gd name="textAreaLeft" fmla="*/ 2556720 w 10226880"/>
              <a:gd name="textAreaRight" fmla="*/ 7670160 w 10226880"/>
              <a:gd name="textAreaTop" fmla="*/ 1991520 h 7966080"/>
              <a:gd name="textAreaBottom" fmla="*/ 7730280 h 796608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457200" y="475920"/>
            <a:ext cx="8362800" cy="638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2c3b"/>
                </a:solidFill>
                <a:latin typeface="Tahoma"/>
              </a:rPr>
              <a:t>Sözlü Türk edebiyatı, Türklerin yazıyı kullanmadıkları dönemde oluşmuş bir edebiyattır. Yazı olmadığı için bu dönemde sadece şiir ile ilgili ürünler vardır. Olağanüstü olayları anlatan destanlar bu dönemin en önemli ürünlerid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9144000" cy="6858000"/>
          </a:xfrm>
          <a:prstGeom prst="downArrowCallout">
            <a:avLst>
              <a:gd name="adj1" fmla="val -23033"/>
              <a:gd name="adj2" fmla="val 33333"/>
              <a:gd name="adj3" fmla="val 16667"/>
              <a:gd name="adj4" fmla="val 6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0" y="692280"/>
            <a:ext cx="9144000" cy="24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62c3b"/>
                </a:solidFill>
                <a:latin typeface="Arial Black"/>
              </a:rPr>
              <a:t>SÖZLÜ TÜRK EDEBİYATININ ÖZELLİKLERİ:</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9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d6b"/>
                </a:solidFill>
                <a:latin typeface="Tahoma"/>
              </a:rPr>
              <a:t>1.Sözlü edebiyat ürünleri din törenlerinden doğmuş, din dışı törenlerde gelişmiştir,. </a:t>
            </a:r>
            <a:br>
              <a:rPr sz="4400"/>
            </a:br>
            <a:r>
              <a:rPr b="0" lang="en-US" sz="4400" spc="-1" strike="noStrike">
                <a:solidFill>
                  <a:srgbClr val="effd6b"/>
                </a:solidFill>
                <a:latin typeface="Tahoma"/>
              </a:rPr>
              <a:t>2.Şiir söyleyen kişilere </a:t>
            </a:r>
            <a:r>
              <a:rPr b="0" lang="en-US" sz="4400" spc="-1" strike="noStrike">
                <a:solidFill>
                  <a:srgbClr val="ffcc00"/>
                </a:solidFill>
                <a:latin typeface="Tahoma"/>
              </a:rPr>
              <a:t>"ozan", "kam", "baksı","şaman"</a:t>
            </a:r>
            <a:r>
              <a:rPr b="0" lang="en-US" sz="4400" spc="-1" strike="noStrike">
                <a:solidFill>
                  <a:srgbClr val="effd6b"/>
                </a:solidFill>
                <a:latin typeface="Tahoma"/>
              </a:rPr>
              <a:t> gibi adlar verilmiştir. Şairler aynı zamanda Şaman dininin rahipleridi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7" name=""/>
          <p:cNvSpPr/>
          <p:nvPr/>
        </p:nvSpPr>
        <p:spPr>
          <a:xfrm>
            <a:off x="7380360" y="5805360"/>
            <a:ext cx="1763640" cy="1052640"/>
          </a:xfrm>
          <a:prstGeom prst="smileyFace">
            <a:avLst>
              <a:gd name="adj" fmla="val 928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3000">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Bu kişiler toplum tarafından çok sayılan, değer verilen bilge kişilerdir. Törenleri düzenleyen, çocuklara ad koyan, hükümdarlara danışmanlık eden, hekimlik yapan, yol gösteren onlardır. Asıl öne çıkan yanları ise şair ve müzisyen olmalarıdır. Saz çalar, şiir söylerler. Destanları onlar okur ve yayar, kültürü bu yolla onlar taşır ve aktarırlar. </a:t>
            </a:r>
            <a:br>
              <a:rPr sz="3200"/>
            </a:br>
            <a:r>
              <a:rPr b="1" lang="en-US" sz="3200" spc="-1" strike="noStrike">
                <a:solidFill>
                  <a:srgbClr val="ffcc00"/>
                </a:solidFill>
                <a:latin typeface="Tahoma"/>
              </a:rPr>
              <a:t>Halkımızın bugün bile kutsal varlıklar olarak bakmasının kökeni kamlara, baksılara, ozanlara dayanır.</a:t>
            </a:r>
            <a:endParaRPr b="0" lang="en-US" sz="3200" spc="-1" strike="noStrike">
              <a:solidFill>
                <a:srgbClr val="ffffff"/>
              </a:solidFill>
              <a:latin typeface="Tahoma"/>
            </a:endParaRPr>
          </a:p>
        </p:txBody>
      </p:sp>
    </p:spTree>
  </p:cSld>
  <p:transition advTm="13000">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effd6b"/>
                </a:solidFill>
                <a:latin typeface="Tahoma"/>
              </a:rPr>
              <a:t>3.Dinsel törenlerde söylenen şiirlere "yır" denir. Şiirler hece ölçüsüyle söylenmiştir uyaklıdır. Şiirlerin ölçülü, uyaklı oluşu bunları akılda tutmayı kolaylaştırmıştır. </a:t>
            </a:r>
            <a:br>
              <a:rPr sz="4000"/>
            </a:br>
            <a:r>
              <a:rPr b="0" lang="tr-TR" sz="4000" spc="-1" strike="noStrike">
                <a:solidFill>
                  <a:srgbClr val="effd6b"/>
                </a:solidFill>
                <a:latin typeface="Tahoma"/>
              </a:rPr>
              <a:t>4.Şiirlerde yalın bir dil kullanılmıştır; dil, yabancı etkilerden uzaktır.</a:t>
            </a:r>
            <a:br>
              <a:rPr sz="4000"/>
            </a:br>
            <a:r>
              <a:rPr b="0" lang="tr-TR" sz="4000" spc="-1" strike="noStrike">
                <a:solidFill>
                  <a:srgbClr val="effd6b"/>
                </a:solidFill>
                <a:latin typeface="Tahoma"/>
              </a:rPr>
              <a:t>5.Şiirlerde nazım biçimi dörtlüktür. Uyak düzeni (abab / cccb / dddb...) biçimindedir: En çok yarım uyak kullanılmıştır.</a:t>
            </a:r>
            <a:r>
              <a:rPr b="0" lang="tr-TR"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PlaceHolder 1"/>
          <p:cNvSpPr>
            <a:spLocks noGrp="1"/>
          </p:cNvSpPr>
          <p:nvPr>
            <p:ph type="title"/>
          </p:nvPr>
        </p:nvSpPr>
        <p:spPr>
          <a:xfrm>
            <a:off x="0" y="0"/>
            <a:ext cx="9144000" cy="602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0000"/>
                </a:solidFill>
                <a:latin typeface="Tahoma"/>
              </a:rPr>
              <a:t>6.Şiir, genelde dinle iç içedir. Zamanla dinden ayrılmış, bir çeşit saz olan "kopuz" eşliğinde söylenmiştir. </a:t>
            </a:r>
            <a:br>
              <a:rPr sz="4000"/>
            </a:br>
            <a:r>
              <a:rPr b="0" lang="en-US" sz="4000" spc="-1" strike="noStrike">
                <a:solidFill>
                  <a:srgbClr val="ff0000"/>
                </a:solidFill>
                <a:latin typeface="Tahoma"/>
              </a:rPr>
              <a:t>7.Şiirler "sığır","şölen" ve "yuğ" denilen törenlerde söylenmiştir. ("Sığır" sürek avının bereketli olması için ava çıkmadan önce yapılan bir törendir. "Şölen", avlardan sonra düzenlenen bir ziyafet törenidir."Yuğ" işe çok sevilen bir kişi için düzenlenen cenaze törenidir.) </a:t>
            </a:r>
            <a:br>
              <a:rPr sz="4000"/>
            </a:br>
            <a:endParaRPr b="0" lang="en-US" sz="4000" spc="-1" strike="noStrike">
              <a:solidFill>
                <a:srgbClr val="ffffff"/>
              </a:solidFill>
              <a:latin typeface="Tahoma"/>
            </a:endParaRPr>
          </a:p>
        </p:txBody>
      </p:sp>
    </p:spTree>
  </p:cSld>
  <p:transition advTm="13000">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457200" y="620280"/>
            <a:ext cx="8229600" cy="576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40000"/>
                </a:solidFill>
                <a:latin typeface="Tahoma"/>
              </a:rPr>
              <a:t>8.Sözlü dönemin başlıca edebiyat ürünleri </a:t>
            </a:r>
            <a:r>
              <a:rPr b="1" lang="en-US" sz="5400" spc="-1" strike="noStrike">
                <a:solidFill>
                  <a:srgbClr val="236f27"/>
                </a:solidFill>
                <a:latin typeface="Tahoma"/>
              </a:rPr>
              <a:t>koşuklar, sagular, destanlar ve savlardı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Tahoma"/>
              </a:rPr>
              <a:t>KOŞUK:</a:t>
            </a:r>
            <a:r>
              <a:rPr b="0" lang="tr-TR" sz="3600" spc="-1" strike="noStrike">
                <a:solidFill>
                  <a:srgbClr val="ffffff"/>
                </a:solidFill>
                <a:latin typeface="Tahoma"/>
              </a:rPr>
              <a:t> Genellikle yiğitlik, aşk ve doğa sevgisini işleyen, hecenin değişik kalıplarıyla ve dörtlükler halinde söylenen şiirlere koşuk denir. Koşuklar dinsel kökenli şiirlerdir. Eski Türklerde "sığır" diye adlandırılan kutsal sürgün avlarında; şölen adı verilen toplu ziyafetlerde ve galibiyetle biten savaş sonlarında koşuklar söylenirdi. </a:t>
            </a:r>
            <a:br>
              <a:rPr sz="3600"/>
            </a:br>
            <a:r>
              <a:rPr b="0" lang="tr-TR" sz="3600" spc="-1" strike="noStrike">
                <a:solidFill>
                  <a:srgbClr val="ffffff"/>
                </a:solidFill>
                <a:latin typeface="Tahoma"/>
              </a:rPr>
              <a:t>Koşuklarda uyak düzeni (aaab/cccb/dddb.) biçimindedir. İlk koşuk örneklerine Kaşgarlı Mahmut'un Divanü Lügat-it Türk'ünde rastlıyoruz.</a:t>
            </a:r>
            <a:endParaRPr b="0" lang="en-US" sz="3600" spc="-1" strike="noStrike">
              <a:solidFill>
                <a:srgbClr val="ffffff"/>
              </a:solidFill>
              <a:latin typeface="Tahoma"/>
            </a:endParaRPr>
          </a:p>
        </p:txBody>
      </p:sp>
    </p:spTree>
  </p:cSld>
  <p:transition advTm="13000">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SAGU: </a:t>
            </a:r>
            <a:br>
              <a:rPr sz="4000"/>
            </a:br>
            <a:r>
              <a:rPr b="0" lang="en-US" sz="4000" spc="-1" strike="noStrike">
                <a:solidFill>
                  <a:srgbClr val="ff9900"/>
                </a:solidFill>
                <a:latin typeface="Tahoma"/>
              </a:rPr>
              <a:t>Eski Türklerin ölenler için düzenledikleri "yuğ" törenlerinde okunan yas şiirlerine "sagu" denilmiştir. Sagular, ağıt ve mersiye türlerinin ilk örnekleri sayılabilir. Sagularda sadece ölen için duyulan ıstıraplar değil, ölenin kahramanlıkları, cömertliği ve iyilikleri de dile getirilirdi. Bu yönü ile sagular sanki bir destanın devamı gibidirle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DESTAN:</a:t>
            </a:r>
            <a:r>
              <a:rPr b="0" lang="en-US" sz="4400" spc="-1" strike="noStrike">
                <a:solidFill>
                  <a:srgbClr val="ff9900"/>
                </a:solidFill>
                <a:latin typeface="Tahoma"/>
              </a:rPr>
              <a:t> </a:t>
            </a:r>
            <a:br>
              <a:rPr sz="4400"/>
            </a:br>
            <a:r>
              <a:rPr b="0" lang="en-US" sz="4400" spc="-1" strike="noStrike">
                <a:solidFill>
                  <a:srgbClr val="ff9900"/>
                </a:solidFill>
                <a:latin typeface="Tahoma"/>
              </a:rPr>
              <a:t>Tarihlerin açık seçik bilinmediği dönemlerde ulusların başlarından geçen ve daha sonraki dönemler üzerinde de etkili olan savaş, zafer, yenilgi, göç, kıtlık ve daha başka olayları ulusal kahramanlık maceraları biçiminde anlatan manzum yapıtlara destan den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Tahoma"/>
              </a:rPr>
              <a:t>Başlangıcı bilinmeyen bir dönemden 11. yüzyıla kadar süren bir edebiyat dönemidi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slâmlıktan önceki Türk destanları hakkında sağlam verilere dayanan bilgilerden yoksunuz. Bunun nedeni destan metinlerinin elde olmayışıdır. Öte yandan bunlar ulusal bir şair tarafından topluca yazılmadığı gibi, tam olarak saptanıp yayımlanamamıştı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YARI :</a:t>
            </a:r>
            <a:r>
              <a:rPr b="0" lang="en-US" sz="4400" spc="-1" strike="noStrike">
                <a:solidFill>
                  <a:srgbClr val="ffffff"/>
                </a:solidFill>
                <a:latin typeface="Tahoma"/>
              </a:rPr>
              <a:t> </a:t>
            </a:r>
            <a:br>
              <a:rPr sz="4400"/>
            </a:br>
            <a:r>
              <a:rPr b="0" lang="en-US" sz="4400" spc="-1" strike="noStrike">
                <a:solidFill>
                  <a:srgbClr val="ff0066"/>
                </a:solidFill>
                <a:latin typeface="Tahoma"/>
              </a:rPr>
              <a:t>Türk edebiyatında destan türü çok gelişmiştir. Ne var ki Türk destanları, son aşamaya kavuşamamış; yani bir ozan tarafından yazıya geçirilememiştir. Biz, Türk destanlarının sadece konularını biliyoruz ve bunları da Çin, Iran ve Arap kaynaklarından öğreniyoruz.</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250920" y="2133720"/>
            <a:ext cx="856908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AZILI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ÜRK EDEBİYATI</a:t>
            </a:r>
            <a:endParaRPr b="0" lang="en-US" sz="1800" spc="1" strike="noStrike">
              <a:ln w="9360">
                <a:solidFill>
                  <a:srgbClr val="000000"/>
                </a:solidFill>
                <a:miter/>
              </a:ln>
              <a:solidFill>
                <a:srgbClr val="ffffff"/>
              </a:solidFill>
              <a:latin typeface="Arial Black"/>
              <a:ea typeface="Arial Black"/>
            </a:endParaRPr>
          </a:p>
        </p:txBody>
      </p:sp>
      <p:sp>
        <p:nvSpPr>
          <p:cNvPr id="120" name=""/>
          <p:cNvSpPr/>
          <p:nvPr/>
        </p:nvSpPr>
        <p:spPr>
          <a:xfrm>
            <a:off x="3708360" y="5445000"/>
            <a:ext cx="3095640" cy="1079640"/>
          </a:xfrm>
          <a:custGeom>
            <a:avLst/>
            <a:gdLst>
              <a:gd name="textAreaLeft" fmla="*/ 541800 w 3095640"/>
              <a:gd name="textAreaRight" fmla="*/ 2244600 w 3095640"/>
              <a:gd name="textAreaTop" fmla="*/ 144360 h 1079640"/>
              <a:gd name="textAreaBottom" fmla="*/ 935280 h 1079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50920" y="0"/>
            <a:ext cx="2592360" cy="2349360"/>
          </a:xfrm>
          <a:custGeom>
            <a:avLst/>
            <a:gdLst>
              <a:gd name="textAreaLeft" fmla="*/ 1068120 w 2592360"/>
              <a:gd name="textAreaRight" fmla="*/ 1524240 w 2592360"/>
              <a:gd name="textAreaTop" fmla="*/ 968040 h 2349360"/>
              <a:gd name="textAreaBottom" fmla="*/ 1381320 h 2349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3000">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zılı Türk edebiyatı 8.yüzyılda başlar. 10. yüzyıla kadar sürer. Türklerin en eski yazılı eserleri 6. yüzyıldaki Yenisey yazıtlarıdır; ancak bunlar okunamadığı için belge niteliği taşımazlar. Bu bakımdan Türk tarihinin ve edebiyatının ilk yazılı ürünleri Göktürk yazısıyla ortaya konulan Orhun yazıtlarıdı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öktürk yazısı 4'ü sesli 38 harften meydana gelmiştir. Harflerin birleşmediği ve sözcüklerin üst üste iki nokta ile ayrıldığı bu yazı sağdan sola doğru yazılmaktadır. Orhun yazıtlarındaki dilin işlenmişliğine bakılırsa, Göktürkçenin eski çağlarda da kullanılmış olabileceği söylenebilir. Nitekim Yenisey yazıtlarının da aynı alfabe ile yazıldığı bilinmektedir. </a:t>
            </a:r>
            <a:endParaRPr b="0" lang="en-US" sz="4000" spc="-1" strike="noStrike">
              <a:solidFill>
                <a:srgbClr val="ffffff"/>
              </a:solidFill>
              <a:latin typeface="Tahoma"/>
            </a:endParaRPr>
          </a:p>
        </p:txBody>
      </p:sp>
    </p:spTree>
  </p:cSld>
  <p:transition advTm="13000">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0000"/>
                </a:solidFill>
                <a:latin typeface="Tahoma"/>
              </a:rPr>
              <a:t>Yazılı Türk Edebiyatının Özellikleri:</a:t>
            </a:r>
            <a:br>
              <a:rPr sz="4400"/>
            </a:br>
            <a:r>
              <a:rPr b="0" lang="en-US" sz="4400" spc="-1" strike="noStrike">
                <a:solidFill>
                  <a:srgbClr val="f2f22a"/>
                </a:solidFill>
                <a:latin typeface="Tahoma"/>
              </a:rPr>
              <a:t>1.Dönem ürünleri Göktürkçe ve Uygurca ile verilmiştir. </a:t>
            </a:r>
            <a:br>
              <a:rPr sz="4400"/>
            </a:br>
            <a:r>
              <a:rPr b="0" lang="en-US" sz="4400" spc="-1" strike="noStrike">
                <a:solidFill>
                  <a:srgbClr val="f2f22a"/>
                </a:solidFill>
                <a:latin typeface="Tahoma"/>
              </a:rPr>
              <a:t>2.Hem halk diline dayalı bir anlatım (Tonyukuk anıtı, hem de sanatlı bir söylev diliyle yapılan anlatım (Kültiğin ve Bilge Kağan anıtları) kullanılmıştır. </a:t>
            </a:r>
            <a:br>
              <a:rPr sz="4400"/>
            </a:br>
            <a:r>
              <a:rPr b="0" lang="en-US" sz="4400" spc="-1" strike="noStrike">
                <a:solidFill>
                  <a:srgbClr val="f2f22a"/>
                </a:solidFill>
                <a:latin typeface="Tahoma"/>
              </a:rPr>
              <a:t>3.Hem dini hem de din dışı ürünler verilmişt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2a"/>
                </a:solidFill>
                <a:latin typeface="Tahoma"/>
              </a:rPr>
              <a:t>4.Bazı atasözleri (savlar) ve destanlarımız bu dönemde yazıya geçirilmiştir: </a:t>
            </a:r>
            <a:br>
              <a:rPr sz="4400"/>
            </a:br>
            <a:r>
              <a:rPr b="0" lang="en-US" sz="4400" spc="-1" strike="noStrike">
                <a:solidFill>
                  <a:srgbClr val="f2f22a"/>
                </a:solidFill>
                <a:latin typeface="Tahoma"/>
              </a:rPr>
              <a:t>5.Şiirlerde nazım birimi dörtlük; ölçü, ulus ölçümüz olan hecedir. </a:t>
            </a:r>
            <a:br>
              <a:rPr sz="4400"/>
            </a:br>
            <a:r>
              <a:rPr b="0" lang="en-US" sz="4400" spc="-1" strike="noStrike">
                <a:solidFill>
                  <a:srgbClr val="f2f22a"/>
                </a:solidFill>
                <a:latin typeface="Tahoma"/>
              </a:rPr>
              <a:t>6.Göktürkçe ile ortaya konulan ürünlerde yabancı etkilerden uzaktır. Uygurca eserlerde ise yabancı etkiler görülü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1116000" y="2276640"/>
            <a:ext cx="676908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Orhun (Göktürk)</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Yazıtlarının Özellikleri</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advTm="13000">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2a"/>
                </a:solidFill>
                <a:latin typeface="Tahoma"/>
              </a:rPr>
              <a:t>Milattan sonra 8. yüzyılda ortaya konulan bu yazıtlar, Türk edebiyatının ilk yazılı örnekleridir. Yazıtlarda dağılan Göktürkleri Bilge Kağan ve kardeşi Kültiğin tarafından, bir araya getirilişi ve Göktürk devletinin yeniden kuruluşu anlatılmaktadır. </a:t>
            </a:r>
            <a:br>
              <a:rPr sz="4400"/>
            </a:br>
            <a:r>
              <a:rPr b="0" lang="en-US" sz="4400" spc="-1" strike="noStrike">
                <a:solidFill>
                  <a:srgbClr val="f2f22a"/>
                </a:solidFill>
                <a:latin typeface="Tahoma"/>
              </a:rPr>
              <a:t>Orhun yazıtları, dikili üç büyük taştan ibarett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a)Vezir Tonyukuk Anıtı: (720) </a:t>
            </a:r>
            <a:br>
              <a:rPr sz="5400"/>
            </a:br>
            <a:r>
              <a:rPr b="1" lang="en-US" sz="5400" spc="-1" strike="noStrike">
                <a:solidFill>
                  <a:srgbClr val="ffffff"/>
                </a:solidFill>
                <a:latin typeface="Tahoma"/>
              </a:rPr>
              <a:t>Vezir Tonyukuk, Çinlilerle yapılan savaşları anı şeklinde yazdırmıştı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title"/>
          </p:nvPr>
        </p:nvSpPr>
        <p:spPr>
          <a:xfrm>
            <a:off x="324000" y="476280"/>
            <a:ext cx="88200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Tahoma"/>
              </a:rPr>
              <a:t>Bu dönemde Orta Asya'da yaşayan Türk boyları çok çeşitli devletler kurmuşlardı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b)Kültiğin Anıtı: </a:t>
            </a:r>
            <a:br>
              <a:rPr sz="6000"/>
            </a:br>
            <a:r>
              <a:rPr b="1" lang="en-US" sz="6000" spc="-1" strike="noStrike">
                <a:solidFill>
                  <a:srgbClr val="ffffff"/>
                </a:solidFill>
                <a:latin typeface="Tahoma"/>
              </a:rPr>
              <a:t>Bu anıtı Bilge Kağan, kardeşi Kültiğin adına diktirmişt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Bilge Kağan Anıtı: (735) </a:t>
            </a:r>
            <a:br>
              <a:rPr sz="5400"/>
            </a:br>
            <a:r>
              <a:rPr b="1" lang="en-US" sz="5400" spc="-1" strike="noStrike">
                <a:solidFill>
                  <a:srgbClr val="ffffff"/>
                </a:solidFill>
                <a:latin typeface="Tahoma"/>
              </a:rPr>
              <a:t>Bu anıt, Bilge Kağan'ın ölümünden sonra oğlu tarafından diktirilmişt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ccff"/>
                </a:solidFill>
                <a:latin typeface="Tahoma"/>
              </a:rPr>
              <a:t>Orhun anıtlarının yazarı Yuluğ Tiğin'dir. </a:t>
            </a:r>
            <a:br>
              <a:rPr sz="4800"/>
            </a:br>
            <a:r>
              <a:rPr b="1" lang="tr-TR" sz="4800" spc="-1" strike="noStrike">
                <a:solidFill>
                  <a:srgbClr val="ffccff"/>
                </a:solidFill>
                <a:latin typeface="Tahoma"/>
              </a:rPr>
              <a:t>Dil, yabancı etkilerden uzak ve yalın bir Türkçedir. Yazıtlarda yer yer gerçekçi tarih dili, yer yer eleştiri cümleleri, yer yer de güçlü bir söylev dili kullanılmıştır.</a:t>
            </a:r>
            <a:r>
              <a:rPr b="0" lang="tr-TR"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ff"/>
                </a:solidFill>
                <a:latin typeface="Tahoma"/>
              </a:rPr>
              <a:t>Yazıtlarda aliterasyonlu (ses tekrarına dayalı) bir söyleyiş vardır. </a:t>
            </a:r>
            <a:br>
              <a:rPr sz="4400"/>
            </a:br>
            <a:r>
              <a:rPr b="1" lang="en-US" sz="4400" spc="-1" strike="noStrike">
                <a:solidFill>
                  <a:srgbClr val="ffccff"/>
                </a:solidFill>
                <a:latin typeface="Tahoma"/>
              </a:rPr>
              <a:t>Orhun yazıtlarında Türk ulusunun benliğini unutmaması ve birlik olması gerektiği düşmanların tatlı sözlerine, güzel hediyelerine aldanmayıp uyanık olması gerektiği vurgulanmıştı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star5">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0" y="2565360"/>
            <a:ext cx="9144000" cy="266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ahoma"/>
              </a:rPr>
              <a:t>Hazırlayan:</a:t>
            </a:r>
            <a:br>
              <a:rPr sz="4000"/>
            </a:br>
            <a:r>
              <a:rPr b="0" lang="en-US" sz="4000" spc="-1" strike="noStrike">
                <a:solidFill>
                  <a:srgbClr val="ff33cc"/>
                </a:solidFill>
                <a:latin typeface="Tahoma"/>
              </a:rPr>
              <a:t>FERİDE YAŞAR ÖZDEMİR</a:t>
            </a:r>
            <a:br>
              <a:rPr sz="4000"/>
            </a:br>
            <a:r>
              <a:rPr b="0" lang="en-US" sz="4000" spc="-1" strike="noStrike">
                <a:solidFill>
                  <a:srgbClr val="ff33cc"/>
                </a:solidFill>
                <a:latin typeface="Tahoma"/>
              </a:rPr>
              <a:t>Altunhisar 75. Yıl Lisesi</a:t>
            </a:r>
            <a:br>
              <a:rPr sz="4000"/>
            </a:br>
            <a:r>
              <a:rPr b="0" lang="en-US" sz="4000" spc="-1" strike="noStrike">
                <a:solidFill>
                  <a:srgbClr val="ff33cc"/>
                </a:solidFill>
                <a:latin typeface="Tahoma"/>
              </a:rPr>
              <a:t>TÜRK DİLİ VE EDEBİYATI ÖĞRETMENİ</a:t>
            </a:r>
            <a:endParaRPr b="0" lang="en-US" sz="4000" spc="-1" strike="noStrike">
              <a:solidFill>
                <a:srgbClr val="ffffff"/>
              </a:solidFill>
              <a:latin typeface="Tahoma"/>
            </a:endParaRPr>
          </a:p>
        </p:txBody>
      </p:sp>
    </p:spTree>
  </p:cSld>
  <p:transition advTm="13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4680"/>
            <a:ext cx="9144000" cy="6872040"/>
          </a:xfrm>
          <a:prstGeom prst="rect">
            <a:avLst/>
          </a:prstGeom>
          <a:ln w="0">
            <a:noFill/>
          </a:ln>
        </p:spPr>
      </p:pic>
      <p:sp>
        <p:nvSpPr>
          <p:cNvPr id="90" name="PlaceHolder 1"/>
          <p:cNvSpPr>
            <a:spLocks noGrp="1"/>
          </p:cNvSpPr>
          <p:nvPr>
            <p:ph type="title"/>
          </p:nvPr>
        </p:nvSpPr>
        <p:spPr>
          <a:xfrm>
            <a:off x="0" y="274680"/>
            <a:ext cx="9144000" cy="28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ahoma"/>
              </a:rPr>
              <a:t>Hun, Göktürk, Kutluk, Uygur ve Saka Türklerinin kurdukları </a:t>
            </a:r>
            <a:r>
              <a:rPr b="0" lang="en-US" sz="4000" spc="-1" strike="noStrike">
                <a:solidFill>
                  <a:srgbClr val="fee0da"/>
                </a:solidFill>
                <a:latin typeface="Tahoma"/>
              </a:rPr>
              <a:t>devletler </a:t>
            </a:r>
            <a:r>
              <a:rPr b="0" lang="en-US" sz="4000" spc="-1" strike="noStrike">
                <a:solidFill>
                  <a:srgbClr val="ffffff"/>
                </a:solidFill>
                <a:latin typeface="Tahoma"/>
              </a:rPr>
              <a:t>döneminde </a:t>
            </a:r>
            <a:r>
              <a:rPr b="0" lang="en-US" sz="4000" spc="-1" strike="noStrike">
                <a:solidFill>
                  <a:srgbClr val="fee0da"/>
                </a:solidFill>
                <a:latin typeface="Tahoma"/>
              </a:rPr>
              <a:t>Türkler, değişik inanç sistemlerinin etkisinde kalmışlar, ortaya koydukları edebiyat ürünlerine bu inançlarını yansıtmışlardı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transition advTm="13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beve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826920" y="907920"/>
            <a:ext cx="7490160" cy="511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slamiyet'in kabulünden önce Türkler, Orta Asya'da göçebe bir yaşam biçimi sürdürüyorlardı. Önceleri Şaman dinine bağlı olan Türkler, daha sonra Buda ve Mani dinlerinin etkisinde kalmışlardır. </a:t>
            </a:r>
            <a:endParaRPr b="0" lang="en-US" sz="4000" spc="-1" strike="noStrike">
              <a:solidFill>
                <a:srgbClr val="ffffff"/>
              </a:solidFill>
              <a:latin typeface="Tahoma"/>
            </a:endParaRPr>
          </a:p>
        </p:txBody>
      </p:sp>
    </p:spTree>
  </p:cSld>
  <p:transition advTm="13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hexagon">
            <a:avLst>
              <a:gd name="adj" fmla="val 33333"/>
              <a:gd name="vf" fmla="val 1154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PlaceHolder 1"/>
          <p:cNvSpPr>
            <a:spLocks noGrp="1"/>
          </p:cNvSpPr>
          <p:nvPr>
            <p:ph type="title"/>
          </p:nvPr>
        </p:nvSpPr>
        <p:spPr>
          <a:xfrm>
            <a:off x="457200" y="1125360"/>
            <a:ext cx="8229600" cy="43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ürklerin göçebe yaşamaları, sık sık din değiştirmeleri bu döneme ait edebiyat ürünlerinin bize kadar ulaşmasını engellemiştir.</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ransition advTm="13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4000" y="0"/>
            <a:ext cx="8496000" cy="6858000"/>
          </a:xfrm>
          <a:prstGeom prst="horizont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PlaceHolder 1"/>
          <p:cNvSpPr>
            <a:spLocks noGrp="1"/>
          </p:cNvSpPr>
          <p:nvPr>
            <p:ph type="title"/>
          </p:nvPr>
        </p:nvSpPr>
        <p:spPr>
          <a:xfrm>
            <a:off x="1258560" y="980640"/>
            <a:ext cx="7427880" cy="482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lamiyet'i kabul etmeden önce Göktürk ve Uygur alfabelerini kullanan Türkler, yazılı edebiyat ürünlerini Göktürkçe ve Uygurca ile vermişlerdir. </a:t>
            </a:r>
            <a:endParaRPr b="0" lang="en-US" sz="4400" spc="-1" strike="noStrike">
              <a:solidFill>
                <a:srgbClr val="ffffff"/>
              </a:solidFill>
              <a:latin typeface="Tahoma"/>
            </a:endParaRPr>
          </a:p>
        </p:txBody>
      </p:sp>
    </p:spTree>
  </p:cSld>
  <p:transition advTm="13000">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0" y="0"/>
            <a:ext cx="9144000" cy="6453360"/>
          </a:xfrm>
          <a:prstGeom prst="verticalScroll">
            <a:avLst>
              <a:gd name="adj" fmla="val 125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826920" y="907560"/>
            <a:ext cx="7561440" cy="547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iz, bu döneme ait bilgileri Çin kaynaklarından, Göktürk Yazıtları'ndan, Uygurca metinlerden ve Divanü Lügat'it- Türk'ten sağlıyoruz. </a:t>
            </a:r>
            <a:br>
              <a:rPr sz="4400"/>
            </a:br>
            <a:r>
              <a:rPr b="0" lang="en-US" sz="4400" spc="-1" strike="noStrike">
                <a:solidFill>
                  <a:srgbClr val="ffffff"/>
                </a:solidFill>
                <a:latin typeface="Tahoma"/>
              </a:rPr>
              <a:t>İslâmiyet'in kabulünden önceki Türk edebiyatı iki dönemde incelenebilir: </a:t>
            </a:r>
            <a:endParaRPr b="0" lang="en-US" sz="4400" spc="-1" strike="noStrike">
              <a:solidFill>
                <a:srgbClr val="ffffff"/>
              </a:solidFill>
              <a:latin typeface="Tahoma"/>
            </a:endParaRPr>
          </a:p>
        </p:txBody>
      </p:sp>
    </p:spTree>
  </p:cSld>
  <p:transition advTm="13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900000" y="2133720"/>
            <a:ext cx="748836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ÖZLÜ DÖNEM</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ÜRK EDEBİYATI</a:t>
            </a:r>
            <a:endParaRPr b="0" lang="en-US" sz="1800" spc="1" strike="noStrike">
              <a:ln w="9360">
                <a:solidFill>
                  <a:srgbClr val="000000"/>
                </a:solidFill>
                <a:miter/>
              </a:ln>
              <a:solidFill>
                <a:srgbClr val="ffffff"/>
              </a:solidFill>
              <a:latin typeface="Arial Black"/>
              <a:ea typeface="Arial Black"/>
            </a:endParaRPr>
          </a:p>
        </p:txBody>
      </p:sp>
      <p:sp>
        <p:nvSpPr>
          <p:cNvPr id="100" name=""/>
          <p:cNvSpPr/>
          <p:nvPr/>
        </p:nvSpPr>
        <p:spPr>
          <a:xfrm>
            <a:off x="2843280" y="5877000"/>
            <a:ext cx="3744720" cy="720720"/>
          </a:xfrm>
          <a:custGeom>
            <a:avLst/>
            <a:gdLst>
              <a:gd name="textAreaLeft" fmla="*/ 655200 w 3744720"/>
              <a:gd name="textAreaRight" fmla="*/ 2715120 w 374472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611280" y="404640"/>
            <a:ext cx="1944720" cy="1656000"/>
          </a:xfrm>
          <a:custGeom>
            <a:avLst/>
            <a:gdLst>
              <a:gd name="textAreaLeft" fmla="*/ 801360 w 1944720"/>
              <a:gd name="textAreaRight" fmla="*/ 1143360 w 1944720"/>
              <a:gd name="textAreaTop" fmla="*/ 682200 h 1656000"/>
              <a:gd name="textAreaBottom" fmla="*/ 973800 h 16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13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20:53:24Z</dcterms:created>
  <dc:creator>FERİDE YAŞAR ÖZDEMİR</dc:creator>
  <dc:description>TÜRK EDEBİYATI 10.SINIF</dc:description>
  <dc:language>en-US</dc:language>
  <cp:lastModifiedBy>user</cp:lastModifiedBy>
  <dcterms:modified xsi:type="dcterms:W3CDTF">2008-09-18T11:43:56Z</dcterms:modified>
  <cp:revision>27</cp:revision>
  <dc:subject/>
  <dc:title>İSLAMİYET'İN KABULÜNDEN ÖNCEKİ TÜRK EDEBİYATI </dc:title>
</cp:coreProperties>
</file>