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002-86BB-4FA9-BF6E-5C2A8F8C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2F3-098E-4A3F-8B6E-EE462EC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EC3-29FF-4ACD-B662-D1362586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DFB-9CD8-446E-A6A9-D33BE6F4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394-62ED-40D6-BF78-8A3EA834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33E0-9BBC-4659-A872-F1485320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9C1-5313-477F-B131-FDBEE5A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BFA-EAA5-40C3-9484-4CD568E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6E41-A996-405C-B0F6-AFDAE20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44D9-6740-4880-9798-62ECED8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2A4-EC2A-490A-A263-25CED00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D84-D4CF-484E-AD93-C9649B3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394E-4FE2-46F1-B92B-FB1FD3E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A89-71FE-48B5-A923-E6C9A0C2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121-0AC3-4A6A-9D90-BEB0A0E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690F-A08A-4ACE-B473-E5D4B1D2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4E7-F702-465B-89CF-948EFA1D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A30-39E7-4371-AF75-60BDFEC2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EC6-ABFD-4C87-8E60-D9CF8C6F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129-7E6A-4F24-993D-7A79022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51C-CE58-4240-89EE-EA5822B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9A9-F459-4E8A-99FC-8E17C2B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3F3-3D5F-479E-A2A6-9CFC9DE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AC3-35AC-4764-B1DA-6124868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CC5D-ACDC-4BB9-9208-068EE2C120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95E-F321-4390-92A2-32FB4E295A5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tr/imgres?imgurl=http://img1.blogcu.com/images/k/a/y/kayalik/ikili-tartisma-kavga.jpg&amp;imgrefurl=http://kayalik.blogcu.com/page304&amp;h=217&amp;w=280&amp;sz=61&amp;hl=tr&amp;start=5&amp;um=1&amp;usg=__DDXCJi4wtNti40n95tI2dana4MM=&amp;tbnid=UxQOjROGC8tE1M:&amp;tbnh=88&amp;tbnw=114&amp;prev=/images%3Fq%3DTARTI%25C5%259EMA%26um%3D1%26hl%3Dtr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tr/imgres?imgurl=http://www.chip.com.tr/images/content/20070202022018.jpg&amp;imgrefurl=http://www.chip.com.tr/konu/internette-Sohbet-ve-Tartisma_3185.html&amp;h=301&amp;w=290&amp;sz=37&amp;hl=tr&amp;start=1&amp;um=1&amp;usg=__fhDiB6zfPaOW6hCeJ4NcpB8LgEY=&amp;tbnid=VVoaJ9-tGHWJpM:&amp;tbnh=116&amp;tbnw=112&amp;prev=/images%3Fq%3DTARTI%25C5%259EMA%26um%3D1%26hl%3Dtr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tr/imgres?imgurl=http://images.habervitrini.com/haber_resim/konusma_tartisma_eller_diyalog.jpg&amp;imgrefurl=http://www.frm47.com/forum/hz_peygamber_8217_tartisma_ve_mucadele_hakkinda_soyledikleri-t21234.html&amp;h=230&amp;w=230&amp;sz=7&amp;hl=tr&amp;start=2&amp;um=1&amp;usg=__ddk0TO4jQ25NjIVRsrhEl0l-iB0=&amp;tbnid=lPoZS7G_I0EeTM:&amp;tbnh=108&amp;tbnw=108&amp;prev=/images%3Fq%3DTARTI%25C5%259EMA%26um%3D1%26hl%3Dtr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tr/imgres?imgurl=http://www.kenthaber.com/Resimler/2005/08/27/00010724.jpg&amp;imgrefurl=http://www.kenthaber.com/Arsiv/Haberler/2005/Agustos/27/Haber_81117.aspx&amp;h=300&amp;w=300&amp;sz=17&amp;hl=tr&amp;start=67&amp;um=1&amp;usg=__WAItgHMCPT3FXPRWR5WRA3ulvYY=&amp;tbnid=XjtULP1x2mQsAM:&amp;tbnh=116&amp;tbnw=116&amp;prev=/images%3Fq%3DTARTI%25C5%259EMA%26start%3D60%26ndsp%3D20%26um%3D1%26hl%3Dtr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ARTIŞMA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4076640"/>
            <a:ext cx="32400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Mustafa KARL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DİL VE ANLATIM ÖĞRETMENİ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URGUTLU ANADOLU TİCARET VE TİCARET MESLEK LİSESİ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2880000" y="56610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ww.edebiyatogretmeni.net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elli bir konunun olumlu ve olumsuz yönleri üzerinde durarak gerçek nedenleri ortaya çıkarmak için yapılan karşılıklı konuşmalara den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50864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DA AMAÇ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arklı görüşlere sahip kişilerin konuyla ilgili düşüncelerini savunmaları, problemlere karşı çözüm bulmaları amacıyla düzenlen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5373720"/>
            <a:ext cx="2519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DA KON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er konuda tartışma yapılabil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çilen konu güncel olmalıdı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4941720"/>
            <a:ext cx="3168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 TÜRLER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ünaza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an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çık otur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mpozy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52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TIŞMACILARIN UYMASI GEREKEN KURALLA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Karşı tarafın konuşması dikkatle dinlenmel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s tonuna dikkat edilmel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abırlı ve hoşgörülü olun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Herkesçe kabul edilen doğrular savunul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Konu dışına çıkılma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zaket ve saygı kurallarına uyul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Konuşma sade, akıcı, yalın, açık ve duru anlatımla yapıl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Karşı tarafın görüşlerine saygılı olunmal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NIN AŞAMALAR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1-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Tartışma Probleminin Seçimi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2-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Tartışmayı Yönlendirecek Soruların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Belirlenmesi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3-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Araç ve Tekniklerin Belirlenmesi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4-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Tartışmanın Yapılacağı Fiziksel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Ortamın Düzenlenmesi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5-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Değerlendirme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RTIŞMALARDA BAŞKANIN GÖREVLER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Konuyu özellikleri ve sınırlarıyla dinleyicilere belirtmek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2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Konuşmacıları dinleyicilere tanıt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3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Tartışmayı başlat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4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Konuşmacıların konu dışına çıkmalarını engelleme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5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Herkese eşit konuşma süresi verme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6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Konuşmacılara yerine göre sorular yöneltme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7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Tarafsız ol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8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Tartışma kurallarına uymayanları uyar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9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Kısa özetler yaparak konuyu toparla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10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Tartışmanın sonucunu açıklama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28:03Z</dcterms:created>
  <dc:creator>a</dc:creator>
  <dc:description/>
  <dc:language>en-US</dc:language>
  <cp:lastModifiedBy>user</cp:lastModifiedBy>
  <dcterms:modified xsi:type="dcterms:W3CDTF">2008-09-18T11:00:24Z</dcterms:modified>
  <cp:revision>5</cp:revision>
  <dc:subject/>
  <dc:title>   TARTIŞMA</dc:title>
</cp:coreProperties>
</file>