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259390-3037-483E-A18B-189E3E46C3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6066DE-B243-4D15-9CEB-589706748F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E46017-D735-41C6-BA49-B4A2E30B0E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83A128-9E27-43D4-B2CA-A70C4142E5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1EC247-D06E-4D04-9FC2-14B2B8A52A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44C07B-5ED1-4D38-8B20-E6361BC201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1C17AE-CD2E-44B6-B219-1A0EDDEC5D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F60B36-3669-4A33-9223-00E5D955B8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01BC25-FEE7-4A81-BE77-F0660D4EDB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E399BF-A654-4564-94DC-26D639890D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ABF631-E069-4A4A-946F-40D2889FA5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A2DC83-E113-4BD0-B0A3-A2E20E709B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8f0e8"/>
            </a:gs>
            <a:gs pos="100000">
              <a:srgbClr val="e5a8e8"/>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52F018-F63B-490B-99CD-DD72DCBA80C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images.google.com.tr/imgres?imgurl=http://www.destinationcentraleurope.com/budapest_entertainment/full_cabaretdinner.jpg&amp;imgrefurl=http://www.destinationcentraleurope.com/hungarian/budapest_entertainment/cabaret.asp&amp;h=175&amp;w=175&amp;sz=12&amp;hl=tr&amp;start=38&amp;tbnid=eOU9OLp6qUVV4M:&amp;tbnh=100&amp;tbnw=100&amp;prev=/images%3Fq%3D%2522rev%25C3%25BC%2522%26start%3D20%26gbv%3D2%26ndsp%3D20%26svnum%3D10%26hl%3Dtr%26sa%3DN" TargetMode="External"/><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hyperlink" Target="http://images.google.com.tr/imgres?imgurl=http://www.antalyasanat.com/opera/opera_resim/sabit/balebig.jpg&amp;imgrefurl=http://www.msxlabs.org/forum/muzikhol/1521-opera-ve-bale.html&amp;h=768&amp;w=1024&amp;sz=135&amp;hl=tr&amp;start=42&amp;tbnid=6Cv_W4DLJXKxyM:&amp;tbnh=113&amp;tbnw=150&amp;prev=/images%3Fq%3D%2522opera%2522%26start%3D40%26gbv%3D2%26ndsp%3D20%26svnum%3D10%26hl%3Dtr%26sa%3DN" TargetMode="External"/><Relationship Id="rId2" Type="http://schemas.openxmlformats.org/officeDocument/2006/relationships/image" Target="../media/image11.jpe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img.blogcu.com/uploads/ankoperakorosu_P4300005.JPG" TargetMode="External"/><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http://images.google.com.tr/imgres?imgurl=http://www.ntvmsnbc.com/news/232492.gif&amp;imgrefurl=http://www.ntvmsnbc.com/news/373325.asp&amp;h=263&amp;w=460&amp;sz=85&amp;hl=tr&amp;start=22&amp;tbnid=zvlDO_M0GGhlnM:&amp;tbnh=73&amp;tbnw=128&amp;prev=/images%3Fq%3D%2522opera%2522%26start%3D20%26gbv%3D2%26ndsp%3D20%26svnum%3D10%26hl%3Dtr%26sa%3DN" TargetMode="External"/><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Arial"/>
              </a:rPr>
              <a:t>MÜZİKLİ TİYATROLAR</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4653000"/>
            <a:ext cx="6400800" cy="9856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Arial"/>
              </a:rPr>
              <a:t>M. Mustafa KILINÇER</a:t>
            </a: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TÜRK DİLİ VE EDEBİYATI ÖĞRETMENİ</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www.edebiyatogretmeni.ne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8f0e8"/>
            </a:gs>
            <a:gs pos="100000">
              <a:srgbClr val="e5a8e8"/>
            </a:gs>
          </a:gsLst>
          <a:lin ang="5400000"/>
        </a:gradFill>
      </p:bgPr>
    </p:bg>
    <p:spTree>
      <p:nvGrpSpPr>
        <p:cNvPr id="1" name=""/>
        <p:cNvGrpSpPr/>
        <p:nvPr/>
      </p:nvGrpSpPr>
      <p:grpSpPr>
        <a:xfrm>
          <a:off x="0" y="0"/>
          <a:ext cx="0" cy="0"/>
          <a:chOff x="0" y="0"/>
          <a:chExt cx="0" cy="0"/>
        </a:xfrm>
      </p:grpSpPr>
      <p:sp>
        <p:nvSpPr>
          <p:cNvPr id="59"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Cumhuriyet'in müzik politikasına uygun ilk operayı </a:t>
            </a:r>
            <a:r>
              <a:rPr b="0" lang="tr-TR" sz="2800" spc="-1" strike="noStrike">
                <a:solidFill>
                  <a:srgbClr val="ff0066"/>
                </a:solidFill>
                <a:latin typeface="Arial"/>
              </a:rPr>
              <a:t>Ahmet Adnan (Saygun</a:t>
            </a:r>
            <a:r>
              <a:rPr b="0" lang="tr-TR" sz="2800" spc="-1" strike="noStrike">
                <a:solidFill>
                  <a:srgbClr val="000000"/>
                </a:solidFill>
                <a:latin typeface="Arial"/>
              </a:rPr>
              <a:t>) besteledi. Konusu ve librettosu üzerinde Mustafa Kemal'in de titizlikle durduğu </a:t>
            </a:r>
            <a:r>
              <a:rPr b="0" lang="tr-TR" sz="2800" spc="-1" strike="noStrike">
                <a:solidFill>
                  <a:srgbClr val="ff3300"/>
                </a:solidFill>
                <a:latin typeface="Arial"/>
              </a:rPr>
              <a:t>"Özsoy"</a:t>
            </a:r>
            <a:r>
              <a:rPr b="0" lang="tr-TR" sz="2800" spc="-1" strike="noStrike">
                <a:solidFill>
                  <a:srgbClr val="000000"/>
                </a:solidFill>
                <a:latin typeface="Arial"/>
              </a:rPr>
              <a:t> (öbür adıyla Feridun) adlı bu operanın metnini Münir Hayri (Egeli) yazmıştı. Türkler İranlıların aynı soydan geldiğini temasını işleyen "Özsoy" ilk kez 19 Haziran 1934'te, Mustafa Kemal'in ve onun resmi konuğu İran şahı Rıza Pehlevi'nin huzurunda sahnelendi. Bu ilk operayı, gene Ahmet Adnan Saygun'nun "</a:t>
            </a:r>
            <a:r>
              <a:rPr b="0" lang="tr-TR" sz="2800" spc="-1" strike="noStrike">
                <a:solidFill>
                  <a:srgbClr val="ff3300"/>
                </a:solidFill>
                <a:latin typeface="Arial"/>
              </a:rPr>
              <a:t>Taşbebek</a:t>
            </a:r>
            <a:r>
              <a:rPr b="0" lang="tr-TR" sz="2800" spc="-1" strike="noStrike">
                <a:solidFill>
                  <a:srgbClr val="000000"/>
                </a:solidFill>
                <a:latin typeface="Arial"/>
              </a:rPr>
              <a:t>" iyle, </a:t>
            </a:r>
            <a:r>
              <a:rPr b="0" lang="tr-TR" sz="2800" spc="-1" strike="noStrike">
                <a:solidFill>
                  <a:srgbClr val="ff3300"/>
                </a:solidFill>
                <a:latin typeface="Arial"/>
              </a:rPr>
              <a:t>Necil Kazım Akses'in "Bayönder"i</a:t>
            </a:r>
            <a:r>
              <a:rPr b="0" lang="tr-TR" sz="2800" spc="-1" strike="noStrike">
                <a:solidFill>
                  <a:srgbClr val="000000"/>
                </a:solidFill>
                <a:latin typeface="Arial"/>
              </a:rPr>
              <a:t> izledi.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8f0e8"/>
            </a:gs>
            <a:gs pos="100000">
              <a:srgbClr val="e5a8e8"/>
            </a:gs>
          </a:gsLst>
          <a:lin ang="5400000"/>
        </a:gra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PERET</a:t>
            </a: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peret</a:t>
            </a:r>
            <a:r>
              <a:rPr b="0" lang="en-US" sz="2800" spc="-1" strike="noStrike">
                <a:solidFill>
                  <a:srgbClr val="000000"/>
                </a:solidFill>
                <a:latin typeface="Arial"/>
              </a:rPr>
              <a:t>, olayları gülünç ve toplumsal, siyasal yergi öğeleri içererek anlatan müzikal sahne oyunudur.</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özlerinin müziksiz kısımları müziklerden çok olan tiyatro eserlerdir. Halka hitap etmek için yazılır. Operetlerde renk,ışık,kıyafetler ve dans en göze çarpıcı şekilde kullanılır. Eğlenceli ve hafif konular üzerinde yazılıp bestelenmiş, kısmen konuşmalı, kısmen de besteli sahne eseri. Operetlerin özellikle müzik kısmı çabuk öğrenilir ve kulakta kalacak şekilde bestelenmiştir.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8f0e8"/>
            </a:gs>
            <a:gs pos="100000">
              <a:srgbClr val="e5a8e8"/>
            </a:gs>
          </a:gsLst>
          <a:lin ang="5400000"/>
        </a:gra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ürkiye'de operet</a:t>
            </a:r>
            <a:br>
              <a:rPr sz="4000"/>
            </a:br>
            <a:endParaRPr b="0" lang="en-US" sz="40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Operet, Türkiye'de 19. yüzyı'ın ikinci yarısı ve 20. yüzyıl'ın ilk yarısında yaygın bir tür oldu. Operet besteleyen ilk müzikçi Dikran Çuhacıyan Efendi oldu. Özellikle Leblebici Horhor operetiyle yaygın bir ün kazandı. İsmail Hakkı Bey, doğu müziği sistemleri içinde operetler besteledi. Daha sonra Dr. Suphi Ezgi, Hasan Ferit Alnar, Muhlis Sabahattin Ezgi, Cemal Reşit Rey bu türden ürünler verdiler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8f0e8"/>
            </a:gs>
            <a:gs pos="100000">
              <a:srgbClr val="e5a8e8"/>
            </a:gs>
          </a:gsLst>
          <a:lin ang="5400000"/>
        </a:gra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ÜKÜS HAYAT OPERETİ’NDEN</a:t>
            </a:r>
            <a:br>
              <a:rPr sz="4000"/>
            </a:br>
            <a:r>
              <a:rPr b="0" lang="en-US" sz="4000" spc="-1" strike="noStrike">
                <a:solidFill>
                  <a:srgbClr val="000000"/>
                </a:solidFill>
                <a:latin typeface="Arial"/>
              </a:rPr>
              <a:t>SAHNELER</a:t>
            </a:r>
            <a:endParaRPr b="0" lang="en-US" sz="40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6" name="" descr=""/>
          <p:cNvPicPr/>
          <p:nvPr/>
        </p:nvPicPr>
        <p:blipFill>
          <a:blip r:embed="rId1"/>
          <a:stretch/>
        </p:blipFill>
        <p:spPr>
          <a:xfrm>
            <a:off x="468360" y="1628640"/>
            <a:ext cx="8207280" cy="4537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8f0e8"/>
            </a:gs>
            <a:gs pos="100000">
              <a:srgbClr val="e5a8e8"/>
            </a:gs>
          </a:gsLst>
          <a:lin ang="5400000"/>
        </a:gra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8f0e8"/>
            </a:gs>
            <a:gs pos="100000">
              <a:srgbClr val="e5a8e8"/>
            </a:gs>
          </a:gsLst>
          <a:lin ang="5400000"/>
        </a:gradFill>
      </p:bgPr>
    </p:bg>
    <p:spTree>
      <p:nvGrpSpPr>
        <p:cNvPr id="1" name=""/>
        <p:cNvGrpSpPr/>
        <p:nvPr/>
      </p:nvGrpSpPr>
      <p:grpSpPr>
        <a:xfrm>
          <a:off x="0" y="0"/>
          <a:ext cx="0" cy="0"/>
          <a:chOff x="0" y="0"/>
          <a:chExt cx="0" cy="0"/>
        </a:xfrm>
      </p:grpSpPr>
      <p:pic>
        <p:nvPicPr>
          <p:cNvPr id="68"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8f0e8"/>
            </a:gs>
            <a:gs pos="100000">
              <a:srgbClr val="e5a8e8"/>
            </a:gs>
          </a:gsLst>
          <a:lin ang="5400000"/>
        </a:gra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8f0e8"/>
            </a:gs>
            <a:gs pos="100000">
              <a:srgbClr val="e5a8e8"/>
            </a:gs>
          </a:gsLst>
          <a:lin ang="5400000"/>
        </a:gra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ODVİL</a:t>
            </a: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Arial"/>
              </a:rPr>
              <a:t>Vodvil</a:t>
            </a:r>
            <a:r>
              <a:rPr b="0" lang="tr-TR" sz="2000" spc="-1" strike="noStrike">
                <a:solidFill>
                  <a:srgbClr val="000000"/>
                </a:solidFill>
                <a:latin typeface="Arial"/>
              </a:rPr>
              <a:t>, toplumsal sorunları, mizahi bir yaklaşımla hicveden tiyatro türüdür.</a:t>
            </a:r>
            <a:br>
              <a:rPr sz="2000"/>
            </a:br>
            <a:r>
              <a:rPr b="0" lang="tr-TR" sz="2000" spc="-1" strike="noStrike">
                <a:solidFill>
                  <a:srgbClr val="000000"/>
                </a:solidFill>
                <a:latin typeface="Arial"/>
              </a:rPr>
              <a:t>Vodvil türü, 18. yüzyılda sınıf farkının oluşması sonucu Fransa'da ortaya çıktı. İçinde müzikal bölümler, dialoglar, monologlar, ve pandomim gibi değişik gösteri türleri barındırabilir.</a:t>
            </a:r>
            <a:br>
              <a:rPr sz="2000"/>
            </a:br>
            <a:r>
              <a:rPr b="0" lang="tr-TR" sz="2000" spc="-1" strike="noStrike">
                <a:solidFill>
                  <a:srgbClr val="000000"/>
                </a:solidFill>
                <a:latin typeface="Arial"/>
              </a:rPr>
              <a:t>Komedi'nin alt türlerinden biri olduğu için komediyle pek çok ortak tarafı vardır. Ama bazı yönleriyle komediden ayrılır. Vodvilleri, genellikle mutlu sonla biterler. Hikayenin sonucunda olayların kaynaklandığı sosyal sorunlar ortaya çıkarılmaya çalışılır. Vodvil kişilerinin karakterleri detaylarıyla belirtilmez, belli özellikleri öne çıkarılmış abartılı karakterlerdir.</a:t>
            </a:r>
            <a:br>
              <a:rPr sz="2000"/>
            </a:br>
            <a:r>
              <a:rPr b="0" lang="tr-TR" sz="2000" spc="-1" strike="noStrike">
                <a:solidFill>
                  <a:srgbClr val="000000"/>
                </a:solidFill>
                <a:latin typeface="Arial"/>
              </a:rPr>
              <a:t>Vodvil adının </a:t>
            </a:r>
            <a:r>
              <a:rPr b="0" i="1" lang="tr-TR" sz="2000" spc="-1" strike="noStrike">
                <a:solidFill>
                  <a:srgbClr val="000000"/>
                </a:solidFill>
                <a:latin typeface="Arial"/>
              </a:rPr>
              <a:t>voix de ville (şehrin sesi)</a:t>
            </a:r>
            <a:r>
              <a:rPr b="0" lang="tr-TR" sz="2000" spc="-1" strike="noStrike">
                <a:solidFill>
                  <a:srgbClr val="000000"/>
                </a:solidFill>
                <a:latin typeface="Arial"/>
              </a:rPr>
              <a:t> sözcüğünden türetildiği düşünülmektedir.</a:t>
            </a:r>
            <a:br>
              <a:rPr sz="2000"/>
            </a:br>
            <a:r>
              <a:rPr b="0" lang="tr-TR" sz="2000" spc="-1" strike="noStrike">
                <a:solidFill>
                  <a:srgbClr val="000000"/>
                </a:solidFill>
                <a:latin typeface="Arial"/>
              </a:rPr>
              <a:t>20. yüzyılda sinema türünün popülerlik kazanmasıyla, vodvil de tarihe karışmaya başladı</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8f0e8"/>
            </a:gs>
            <a:gs pos="100000">
              <a:srgbClr val="e5a8e8"/>
            </a:gs>
          </a:gsLst>
          <a:lin ang="5400000"/>
        </a:gra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PERA KOMİK</a:t>
            </a: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çinde şarkı ile konuşmanın birlikte olabildiği yarı ciddi, yarı komik sahne eseri. XVIII. yüzyılın ikinci yarısında gelişmişti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8f0e8"/>
            </a:gs>
            <a:gs pos="100000">
              <a:srgbClr val="e5a8e8"/>
            </a:gs>
          </a:gsLst>
          <a:lin ang="5400000"/>
        </a:gra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VÜ (RÖVÜ)</a:t>
            </a: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peretin daha hafif fakat hiciv, alay, tenkit dolu çeşididir.</a:t>
            </a:r>
            <a:r>
              <a:rPr b="1"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iyatroda, eserden önce gösterilen müzikli ve danslı oyu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8f0e8"/>
            </a:gs>
            <a:gs pos="100000">
              <a:srgbClr val="e5a8e8"/>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Arial"/>
              </a:rPr>
              <a:t>MÜZİKLİ TİYATROLAR</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85000"/>
          </a:bodyPr>
          <a:p>
            <a:pPr marL="291600" indent="-2916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PERA</a:t>
            </a:r>
            <a:r>
              <a:rPr b="0" lang="en-US" sz="2000" spc="-1" strike="noStrike">
                <a:solidFill>
                  <a:srgbClr val="000000"/>
                </a:solidFill>
                <a:latin typeface="Arial"/>
              </a:rPr>
              <a:t>: Sözlerin çoğu ya da tamamı koro halinde ve/veya solo şarkı olarak söylenen müzikli tiyatro türü.</a:t>
            </a:r>
            <a:br>
              <a:rPr sz="2000"/>
            </a:br>
            <a:br>
              <a:rPr sz="2000"/>
            </a:br>
            <a:r>
              <a:rPr b="1" lang="en-US" sz="2000" spc="-1" strike="noStrike">
                <a:solidFill>
                  <a:srgbClr val="000000"/>
                </a:solidFill>
                <a:latin typeface="Arial"/>
              </a:rPr>
              <a:t>OPERET</a:t>
            </a:r>
            <a:r>
              <a:rPr b="0" lang="en-US" sz="2000" spc="-1" strike="noStrike">
                <a:solidFill>
                  <a:srgbClr val="000000"/>
                </a:solidFill>
                <a:latin typeface="Arial"/>
              </a:rPr>
              <a:t>: Basit konusu olan, biraz eğlenceli, genellikle halk için yazılmış, bir kısmı bestesiz sözlerden oluşan müzikli tiyatro eseridir.</a:t>
            </a:r>
            <a:br>
              <a:rPr sz="2000"/>
            </a:br>
            <a:br>
              <a:rPr sz="2000"/>
            </a:br>
            <a:r>
              <a:rPr b="1" lang="en-US" sz="2000" spc="-1" strike="noStrike">
                <a:solidFill>
                  <a:srgbClr val="000000"/>
                </a:solidFill>
                <a:latin typeface="Arial"/>
              </a:rPr>
              <a:t>VODVİL</a:t>
            </a:r>
            <a:r>
              <a:rPr b="0" lang="en-US" sz="2000" spc="-1" strike="noStrike">
                <a:solidFill>
                  <a:srgbClr val="000000"/>
                </a:solidFill>
                <a:latin typeface="Arial"/>
              </a:rPr>
              <a:t>: Hareketli ve eğlenceli konusu olan içinde şarkılara yer verilen bir tiyatro türüdür.</a:t>
            </a:r>
            <a:br>
              <a:rPr sz="2000"/>
            </a:br>
            <a:br>
              <a:rPr sz="2000"/>
            </a:br>
            <a:r>
              <a:rPr b="1" lang="en-US" sz="2000" spc="-1" strike="noStrike">
                <a:solidFill>
                  <a:srgbClr val="000000"/>
                </a:solidFill>
                <a:latin typeface="Arial"/>
              </a:rPr>
              <a:t>BALE</a:t>
            </a:r>
            <a:r>
              <a:rPr b="0" lang="en-US" sz="2000" spc="-1" strike="noStrike">
                <a:solidFill>
                  <a:srgbClr val="000000"/>
                </a:solidFill>
                <a:latin typeface="Arial"/>
              </a:rPr>
              <a:t>: Konuyu dans ve hareketlerle anlatan müzikli ve sözsüz tiyatro türüdür. (Belli bir konuyu anlatan dans türü olarak da tanımlanabilir.)</a:t>
            </a:r>
            <a:br>
              <a:rPr sz="2000"/>
            </a:br>
            <a:br>
              <a:rPr sz="2000"/>
            </a:br>
            <a:r>
              <a:rPr b="0" lang="en-US" sz="2000" spc="-1" strike="noStrike">
                <a:solidFill>
                  <a:srgbClr val="000000"/>
                </a:solidFill>
                <a:latin typeface="Arial"/>
              </a:rPr>
              <a:t> </a:t>
            </a:r>
            <a:endParaRPr b="0" lang="en-US" sz="2000" spc="-1" strike="noStrike">
              <a:solidFill>
                <a:srgbClr val="000000"/>
              </a:solidFill>
              <a:latin typeface="Arial"/>
            </a:endParaRPr>
          </a:p>
        </p:txBody>
      </p:sp>
      <p:pic>
        <p:nvPicPr>
          <p:cNvPr id="45" name="" descr=""/>
          <p:cNvPicPr/>
          <p:nvPr/>
        </p:nvPicPr>
        <p:blipFill>
          <a:blip r:embed="rId1"/>
          <a:stretch/>
        </p:blipFill>
        <p:spPr>
          <a:xfrm>
            <a:off x="4716360" y="1197000"/>
            <a:ext cx="4032360" cy="54007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8f0e8"/>
            </a:gs>
            <a:gs pos="100000">
              <a:srgbClr val="e5a8e8"/>
            </a:gs>
          </a:gsLst>
          <a:lin ang="5400000"/>
        </a:gradFill>
      </p:bgPr>
    </p:bg>
    <p:spTree>
      <p:nvGrpSpPr>
        <p:cNvPr id="1" name=""/>
        <p:cNvGrpSpPr/>
        <p:nvPr/>
      </p:nvGrpSpPr>
      <p:grpSpPr>
        <a:xfrm>
          <a:off x="0" y="0"/>
          <a:ext cx="0" cy="0"/>
          <a:chOff x="0" y="0"/>
          <a:chExt cx="0" cy="0"/>
        </a:xfrm>
      </p:grpSpPr>
      <p:pic>
        <p:nvPicPr>
          <p:cNvPr id="76" name="" descr="">
            <a:hlinkClick r:id="rId1"/>
          </p:cNvP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8f0e8"/>
            </a:gs>
            <a:gs pos="100000">
              <a:srgbClr val="e5a8e8"/>
            </a:gs>
          </a:gsLst>
          <a:lin ang="5400000"/>
        </a:gradFill>
      </p:bgPr>
    </p:bg>
    <p:spTree>
      <p:nvGrpSpPr>
        <p:cNvPr id="1" name=""/>
        <p:cNvGrpSpPr/>
        <p:nvPr/>
      </p:nvGrpSpPr>
      <p:grpSpPr>
        <a:xfrm>
          <a:off x="0" y="0"/>
          <a:ext cx="0" cy="0"/>
          <a:chOff x="0" y="0"/>
          <a:chExt cx="0" cy="0"/>
        </a:xfrm>
      </p:grpSpPr>
      <p:pic>
        <p:nvPicPr>
          <p:cNvPr id="77"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8f0e8"/>
            </a:gs>
            <a:gs pos="100000">
              <a:srgbClr val="e5a8e8"/>
            </a:gs>
          </a:gsLst>
          <a:lin ang="5400000"/>
        </a:gra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LE</a:t>
            </a:r>
            <a:endParaRPr b="0" lang="en-US" sz="4400" spc="-1" strike="noStrike">
              <a:solidFill>
                <a:srgbClr val="000000"/>
              </a:solidFill>
              <a:latin typeface="Arial"/>
            </a:endParaRPr>
          </a:p>
        </p:txBody>
      </p:sp>
      <p:sp>
        <p:nvSpPr>
          <p:cNvPr id="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Bale, kuralları belli akademik dans (danse d’école) tekniğinin, başka sanatsal öğelerle de birleştirilerek bir sahne gösterisi oluşturacak biçimde sunulmasıdır. Bale terimi, bu akademik dans tekniği için de kullanılır. Bir gösteri sanatı olarak genellikle müzik eşliğinde, dekor ve sahne giysileriyle sunulan, son derece titiz bir danstır. Bir bale, dans, müzik ve tasarımla dramatik bir öykü anlatabilir ya da hiç bir öykü olmadan yalnızca müziğin dans aracılığıyla bir yorumu biçiminde sunulabilir. bale dans ile ayni sey demek degildir. `Dans-drama-müzik-dekor` `bale`yi olusturur. Her ne kadar bir kisim koreograflar son yillarda `George Balanchine` örnegini izlemektelerse de -yalnizca dekoratif dekor olmaksizin yapilan uygulama ki bunda dansçilar basit leotardlar giymislerdir ve sahne açik bir siklorama halindedir veya kumaslarla kaplidir- tüm büyük baleler hemen hemen esit partlar halinde bu bilesenlerden olusur.</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8f0e8"/>
            </a:gs>
            <a:gs pos="100000">
              <a:srgbClr val="e5a8e8"/>
            </a:gs>
          </a:gsLst>
          <a:lin ang="5400000"/>
        </a:gradFill>
      </p:bgPr>
    </p:bg>
    <p:spTree>
      <p:nvGrpSpPr>
        <p:cNvPr id="1" name=""/>
        <p:cNvGrpSpPr/>
        <p:nvPr/>
      </p:nvGrpSpPr>
      <p:grpSpPr>
        <a:xfrm>
          <a:off x="0" y="0"/>
          <a:ext cx="0" cy="0"/>
          <a:chOff x="0" y="0"/>
          <a:chExt cx="0" cy="0"/>
        </a:xfrm>
      </p:grpSpPr>
      <p:sp>
        <p:nvSpPr>
          <p:cNvPr id="80" name=""/>
          <p:cNvSpPr/>
          <p:nvPr/>
        </p:nvSpPr>
        <p:spPr>
          <a:xfrm>
            <a:off x="0" y="2754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81" name="images" descr="">
            <a:hlinkClick r:id="rId1"/>
          </p:cNvPr>
          <p:cNvPicPr/>
          <p:nvPr/>
        </p:nvPicPr>
        <p:blipFill>
          <a:blip r:embed="rId2"/>
          <a:stretch/>
        </p:blipFill>
        <p:spPr>
          <a:xfrm>
            <a:off x="0" y="0"/>
            <a:ext cx="9144000" cy="6858000"/>
          </a:xfrm>
          <a:prstGeom prst="rect">
            <a:avLst/>
          </a:prstGeom>
          <a:ln w="0">
            <a:noFill/>
          </a:ln>
        </p:spPr>
      </p:pic>
      <p:sp>
        <p:nvSpPr>
          <p:cNvPr id="82" name=""/>
          <p:cNvSpPr/>
          <p:nvPr/>
        </p:nvSpPr>
        <p:spPr>
          <a:xfrm>
            <a:off x="360" y="3830040"/>
            <a:ext cx="30564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o</a:t>
            </a:r>
            <a:r>
              <a:rPr b="0" lang="en-US" sz="1100" spc="-1" strike="noStrike">
                <a:solidFill>
                  <a:srgbClr val="000000"/>
                </a:solidFill>
                <a:latin typeface="Arial"/>
              </a:rPr>
              <a:t>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8f0e8"/>
            </a:gs>
            <a:gs pos="100000">
              <a:srgbClr val="e5a8e8"/>
            </a:gs>
          </a:gsLst>
          <a:lin ang="5400000"/>
        </a:gradFill>
      </p:bgPr>
    </p:bg>
    <p:spTree>
      <p:nvGrpSpPr>
        <p:cNvPr id="1" name=""/>
        <p:cNvGrpSpPr/>
        <p:nvPr/>
      </p:nvGrpSpPr>
      <p:grpSpPr>
        <a:xfrm>
          <a:off x="0" y="0"/>
          <a:ext cx="0" cy="0"/>
          <a:chOff x="0" y="0"/>
          <a:chExt cx="0" cy="0"/>
        </a:xfrm>
      </p:grpSpPr>
      <p:sp>
        <p:nvSpPr>
          <p:cNvPr id="83" name=""/>
          <p:cNvSpPr/>
          <p:nvPr/>
        </p:nvSpPr>
        <p:spPr>
          <a:xfrm>
            <a:off x="0" y="3014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84" name="images"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8f0e8"/>
            </a:gs>
            <a:gs pos="100000">
              <a:srgbClr val="e5a8e8"/>
            </a:gs>
          </a:gsLst>
          <a:lin ang="5400000"/>
        </a:gradFill>
      </p:bgPr>
    </p:bg>
    <p:spTree>
      <p:nvGrpSpPr>
        <p:cNvPr id="1" name=""/>
        <p:cNvGrpSpPr/>
        <p:nvPr/>
      </p:nvGrpSpPr>
      <p:grpSpPr>
        <a:xfrm>
          <a:off x="0" y="0"/>
          <a:ext cx="0" cy="0"/>
          <a:chOff x="0" y="0"/>
          <a:chExt cx="0" cy="0"/>
        </a:xfrm>
      </p:grpSpPr>
      <p:pic>
        <p:nvPicPr>
          <p:cNvPr id="85"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8f0e8"/>
            </a:gs>
            <a:gs pos="100000">
              <a:srgbClr val="e5a8e8"/>
            </a:gs>
          </a:gsLst>
          <a:lin ang="5400000"/>
        </a:gradFill>
      </p:bgPr>
    </p:bg>
    <p:spTree>
      <p:nvGrpSpPr>
        <p:cNvPr id="1" name=""/>
        <p:cNvGrpSpPr/>
        <p:nvPr/>
      </p:nvGrpSpPr>
      <p:grpSpPr>
        <a:xfrm>
          <a:off x="0" y="0"/>
          <a:ext cx="0" cy="0"/>
          <a:chOff x="0" y="0"/>
          <a:chExt cx="0" cy="0"/>
        </a:xfrm>
      </p:grpSpPr>
      <p:pic>
        <p:nvPicPr>
          <p:cNvPr id="86"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8f0e8"/>
            </a:gs>
            <a:gs pos="100000">
              <a:srgbClr val="e5a8e8"/>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2290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ÖZEL İZMİR BİLGE ATA LİSESİ</a:t>
            </a:r>
            <a:br>
              <a:rPr sz="3200"/>
            </a:br>
            <a:r>
              <a:rPr b="0" lang="en-US" sz="4400" spc="-1" strike="noStrike">
                <a:solidFill>
                  <a:srgbClr val="000000"/>
                </a:solidFill>
                <a:latin typeface="Arial"/>
              </a:rPr>
              <a:t>M. Mustafa KILINÇER</a:t>
            </a:r>
            <a:br>
              <a:rPr sz="4400"/>
            </a:br>
            <a:r>
              <a:rPr b="0" lang="en-US" sz="2400" spc="-1" strike="noStrike">
                <a:solidFill>
                  <a:srgbClr val="000000"/>
                </a:solidFill>
                <a:latin typeface="Arial"/>
              </a:rPr>
              <a:t>TÜRK DİLİ VE EDEBİYATI ÖĞRETMENİ</a:t>
            </a:r>
            <a:endParaRPr b="0" lang="en-US" sz="2400" spc="-1" strike="noStrike">
              <a:solidFill>
                <a:srgbClr val="000000"/>
              </a:solidFill>
              <a:latin typeface="Arial"/>
            </a:endParaRPr>
          </a:p>
        </p:txBody>
      </p:sp>
      <p:pic>
        <p:nvPicPr>
          <p:cNvPr id="88" name="" descr=""/>
          <p:cNvPicPr/>
          <p:nvPr/>
        </p:nvPicPr>
        <p:blipFill>
          <a:blip r:embed="rId1"/>
          <a:stretch/>
        </p:blipFill>
        <p:spPr>
          <a:xfrm>
            <a:off x="0" y="2205000"/>
            <a:ext cx="9144000" cy="4653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8f0e8"/>
            </a:gs>
            <a:gs pos="100000">
              <a:srgbClr val="e5a8e8"/>
            </a:gs>
          </a:gsLst>
          <a:lin ang="5400000"/>
        </a:gra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PERA</a:t>
            </a: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Bütün sözler,hareketler ve jestlerin musikiyle bestelenmiş ve orkestra şefinin idaresine verilmiş dram ve trajedilerdir. Trajedilerde bir tek kelime müziksiz söylenmez. Opera, musiki, kilise ve paganizm (Eski Yunan Putperestligi)den çıkmıştır. Ağır bir hüzün havası vardır. Olaylar acıklı ve hislidir. Çok gösterişli dekor ve kıyafetler içinde sunulur.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8f0e8"/>
            </a:gs>
            <a:gs pos="100000">
              <a:srgbClr val="e5a8e8"/>
            </a:gs>
          </a:gsLst>
          <a:lin ang="5400000"/>
        </a:gradFill>
      </p:bgPr>
    </p:bg>
    <p:spTree>
      <p:nvGrpSpPr>
        <p:cNvPr id="1" name=""/>
        <p:cNvGrpSpPr/>
        <p:nvPr/>
      </p:nvGrpSpPr>
      <p:grpSpPr>
        <a:xfrm>
          <a:off x="0" y="0"/>
          <a:ext cx="0" cy="0"/>
          <a:chOff x="0" y="0"/>
          <a:chExt cx="0" cy="0"/>
        </a:xfrm>
      </p:grpSpPr>
      <p:sp>
        <p:nvSpPr>
          <p:cNvPr id="48" name=""/>
          <p:cNvSpPr/>
          <p:nvPr/>
        </p:nvSpPr>
        <p:spPr>
          <a:xfrm>
            <a:off x="0" y="2882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49" name="images" descr="">
            <a:hlinkClick r:id="rId1"/>
          </p:cNvPr>
          <p:cNvPicPr/>
          <p:nvPr/>
        </p:nvPicPr>
        <p:blipFill>
          <a:blip r:embed="rId2"/>
          <a:stretch/>
        </p:blipFill>
        <p:spPr>
          <a:xfrm>
            <a:off x="0" y="0"/>
            <a:ext cx="9144000" cy="6858000"/>
          </a:xfrm>
          <a:prstGeom prst="rect">
            <a:avLst/>
          </a:prstGeom>
          <a:ln w="0">
            <a:noFill/>
          </a:ln>
        </p:spPr>
      </p:pic>
      <p:sp>
        <p:nvSpPr>
          <p:cNvPr id="50" name=""/>
          <p:cNvSpPr/>
          <p:nvPr/>
        </p:nvSpPr>
        <p:spPr>
          <a:xfrm>
            <a:off x="2160" y="3701160"/>
            <a:ext cx="35136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8f0e8"/>
            </a:gs>
            <a:gs pos="100000">
              <a:srgbClr val="e5a8e8"/>
            </a:gs>
          </a:gsLst>
          <a:lin ang="5400000"/>
        </a:gradFill>
      </p:bgPr>
    </p:bg>
    <p:spTree>
      <p:nvGrpSpPr>
        <p:cNvPr id="1" name=""/>
        <p:cNvGrpSpPr/>
        <p:nvPr/>
      </p:nvGrpSpPr>
      <p:grpSpPr>
        <a:xfrm>
          <a:off x="0" y="0"/>
          <a:ext cx="0" cy="0"/>
          <a:chOff x="0" y="0"/>
          <a:chExt cx="0" cy="0"/>
        </a:xfrm>
      </p:grpSpPr>
      <p:sp>
        <p:nvSpPr>
          <p:cNvPr id="51" name=""/>
          <p:cNvSpPr/>
          <p:nvPr/>
        </p:nvSpPr>
        <p:spPr>
          <a:xfrm>
            <a:off x="0" y="3081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52" name="images" descr="">
            <a:hlinkClick r:id="rId1"/>
          </p:cNvP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8f0e8"/>
            </a:gs>
            <a:gs pos="100000">
              <a:srgbClr val="e5a8e8"/>
            </a:gs>
          </a:gsLst>
          <a:lin ang="5400000"/>
        </a:gra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Sözlükler ve ansiklopediler "Opera" nın tanımını kısaca şöyle yapmışlar: Sözlerinin tümü ya da bölümü şarkı olarak söylenen, müziğe uygulanmış sahne yapıtı ve baştan sona bestelenmiş, sololu, korolu, orkestralı sahne oyunu gibi.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İlk opera eserinin Jacopo Peri'nin "Dafne" operası 1597 yılında İtalya'da (Floransa kenti) sahnelenmesinden sonra, bu sanat dalı Avrupa'da hızlı gelişti ve yayıldı. Ancak ülkemiz uzun süre opera sanatına kapalı kaldı.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8f0e8"/>
            </a:gs>
            <a:gs pos="100000">
              <a:srgbClr val="e5a8e8"/>
            </a:gs>
          </a:gsLst>
          <a:lin ang="5400000"/>
        </a:gra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ürkiye'de opera deyince konumuzu iki büyük başlık altında incelemek gerekmektedir.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 Osmanlı İmparatorluğu Dönemi</a:t>
            </a:r>
            <a:br>
              <a:rPr sz="3200"/>
            </a:br>
            <a:r>
              <a:rPr b="0" lang="en-US" sz="3200" spc="-1" strike="noStrike">
                <a:solidFill>
                  <a:srgbClr val="000000"/>
                </a:solidFill>
                <a:latin typeface="Arial"/>
              </a:rPr>
              <a:t>II. Cumhuriyet Dönem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8f0e8"/>
            </a:gs>
            <a:gs pos="100000">
              <a:srgbClr val="e5a8e8"/>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OSMANLI İMPARATORLUĞU DÖNEMİ</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Osmanlı İmparatorluğu döneminde Avrupa ülkelerine gönderilen elçilerin ülkemize döndüklerinde padişaha hazırlayıp sundukları sefaretnamelerde "Opera" kelimesinden bahsettikleri görülür. Uzun uzun bu seyrettikleri "opera"ları anlatan elçiler sarayda operalara karşı bir ilginin oluşmasına neden oldular. Böylece padişah III Murad döneminde (1574-1595) sarayda ilk müzikli oyun sergilendi. Daha sonraları kendisi de bir besteci olan padişah III Selim döneminde (1761-1808) bu Sefaretnamelerden etkilenerek Topkapı sarayında 1797 yılında yabancı bir topluluğa opera temsili verdirdiği o dönemin saray katibinin tuttuğu notlardan anlaşılmaktadır.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8f0e8"/>
            </a:gs>
            <a:gs pos="100000">
              <a:srgbClr val="e5a8e8"/>
            </a:gs>
          </a:gsLst>
          <a:lin ang="5400000"/>
        </a:gra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UMHURİYET DÖNEMİ</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Cumhuriyet'in ilan edildiği yıllarda ülkemizde opera dalında önemli gelişmeler olmadı. Ziya Gökalp'in müzik konusundaki görüşlerinden etkilenen Mustafa Kemal (Atatürk) Cumhuriyet sonrasında devletin müzik politikasını, "Türk halk müziğini temel alıp Batı'da geliştirilmiş çoksesli teknik ve yöntemleri kullanarak yeni bir müziğin yoğurulması" biçiminde belirlemişti. Bu temel ilke uyarınca yetenekli gençler Avrupa'ya müzik öğrenimine gönderildi. Avrupa'daki müzik eğitimini tamamlayarak yurda dönen genç müzikçiler, 1930'lardan sonra bu alanda da etkinliklerini göstermeye başladılar. Ankara'da Musiki Muallim Mektebi'nin, İstanbul'da Darülelhan'ın kurulması, dışarda eğitim gören genç öğretim üyelerinin bu kuruluşlarda öğrenci yetiştirmeye başlaması, opera alanında gerek besteci gerekse yorumcu açısından umutlu bir geleceğe atılan ilk adımlar oldu.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11T22:36:07Z</dcterms:created>
  <dc:creator>Mustafa</dc:creator>
  <dc:description/>
  <dc:language>en-US</dc:language>
  <cp:lastModifiedBy>Yusuf</cp:lastModifiedBy>
  <dcterms:modified xsi:type="dcterms:W3CDTF">2007-03-18T10:43:41Z</dcterms:modified>
  <cp:revision>4</cp:revision>
  <dc:subject/>
  <dc:title>MÜZİKLİ TİYATROLAR</dc:title>
</cp:coreProperties>
</file>