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1F5-1BA1-44F9-94EA-8F4BC1B0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260C-2175-42B1-84C3-3924C837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9CB0-39C8-4383-B8D4-54B4FAAA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33D-B108-4649-BFB5-3EB12263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280C-B677-4941-8950-C04E13C5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4D7B-CF5D-44FD-84BD-FEED33E6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4376-F243-4C3F-B0B2-C5B591CA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7601-A0E6-43E1-92EB-92A0DBD4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9ABD-6A68-4FBE-A729-5A238E23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1CD3-B2E8-466A-8658-7C3C018F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2B03-535C-4394-B522-D316EDFF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5F01-F37E-4C08-87B2-21DBB774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19E6-1F51-4E35-B73B-04E6D012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187A-43D0-47AD-AE67-793C6C8F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F828-ADE9-4E7F-8989-35A6EFCD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C199-25E0-48FA-93E7-231693D8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5FA2-7271-45AD-9D57-A6DE7B38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17CD-5D5B-4990-9B7D-05933F81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57A1-77FF-4E8A-941C-21890DBD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6021-EDDD-4333-BEEF-D235C40B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BEC-A6F1-4BF4-A367-8FC6EA89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7DE8-F740-4DBD-B7C7-BA884363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5AF-DCC2-4DA4-A88F-0B0C0D79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661-9CAA-4771-A920-8410D65A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95E2-6082-40AA-8A68-2AF08BA9E62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915B-706D-4F39-B13B-BA650F18FB4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http://www.edebiyatogretmeni.net/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TANZİMAT DÖNEMİ TÜRK EDEBİYAT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885080" y="7174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804000" y="73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anzimat Edebiyatı Batı etkisindeki Türk Edebiyatının ilk devresid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anzimat Dönemi siyasi açıdan  Tanzimat Fermanının ilan edildiği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839 tarihiyle başla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anzimat Döneminin sanatsal açıdan başlangıcı ise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TERCÜMAN-I AHVAL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gazetesinin çıkarılması iledir.(</a:t>
            </a:r>
            <a:r>
              <a:rPr b="0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1860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anzimat Edebiyatı 1. Dönem ve 2. Dönem olarak iki bölümde ele alını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HAZIRLIK DÖNEMİ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1839 ile 1860 yılları arasını kapsa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2f1311"/>
                </a:solidFill>
                <a:uFillTx/>
                <a:latin typeface="Arial"/>
              </a:rPr>
              <a:t>Özellikle Fransız Edebiyatı’ndan şiir, hikaye ve roman çevirilerinin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yapıldığı bir geçiş dönemidir.Divan Edb. İle Tanzimat Edb. Arasında bir köprü gibid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Devlet eliyle çıkarılan </a:t>
            </a:r>
            <a:r>
              <a:rPr b="0" lang="tr-TR" sz="2000" spc="-1" strike="noStrike" u="sng">
                <a:solidFill>
                  <a:srgbClr val="2f1311"/>
                </a:solidFill>
                <a:uFillTx/>
                <a:latin typeface="Arial"/>
              </a:rPr>
              <a:t>ilk Türk gazetesi olan TAKVİM-İ VAKAYİ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bu dönemde çıkarılı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Bu dönemde </a:t>
            </a:r>
            <a:r>
              <a:rPr b="0" lang="tr-TR" sz="2000" spc="-1" strike="noStrike" u="sng">
                <a:solidFill>
                  <a:srgbClr val="2f1311"/>
                </a:solidFill>
                <a:uFillTx/>
                <a:latin typeface="Arial"/>
              </a:rPr>
              <a:t>Yusuf Kamil Paşa’nın Fenelon’dan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tr-TR" sz="2000" spc="-1" strike="noStrike" u="sng">
                <a:solidFill>
                  <a:srgbClr val="2f1311"/>
                </a:solidFill>
                <a:uFillTx/>
                <a:latin typeface="Arial"/>
              </a:rPr>
              <a:t>çevirdiği Telemak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ilk çeviri romanımızdır</a:t>
            </a:r>
            <a:r>
              <a:rPr b="0" lang="tr-TR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d47d"/>
                </a:solidFill>
                <a:latin typeface="Arial"/>
              </a:rPr>
              <a:t>1. DÖNEM(1860-1878)</a:t>
            </a:r>
            <a:endParaRPr b="0" lang="en-US" sz="1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1356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 u="sng">
                <a:solidFill>
                  <a:srgbClr val="2f1311"/>
                </a:solidFill>
                <a:uFillTx/>
                <a:latin typeface="Arial"/>
              </a:rPr>
              <a:t>“</a:t>
            </a:r>
            <a:r>
              <a:rPr b="0" lang="tr-TR" sz="1400" spc="-1" strike="noStrike" u="sng">
                <a:solidFill>
                  <a:srgbClr val="2f1311"/>
                </a:solidFill>
                <a:uFillTx/>
                <a:latin typeface="Arial"/>
              </a:rPr>
              <a:t>Sanat toplum içindir</a:t>
            </a: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.” görüşüyle eserler vermeye çalışmışlard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 u="sng">
                <a:solidFill>
                  <a:srgbClr val="2f1311"/>
                </a:solidFill>
                <a:uFillTx/>
                <a:latin typeface="Arial"/>
              </a:rPr>
              <a:t>Dilde sadeleşmeyi amaçlamışlar ancak başarılı olamamışlard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 u="sng">
                <a:solidFill>
                  <a:srgbClr val="2f1311"/>
                </a:solidFill>
                <a:uFillTx/>
                <a:latin typeface="Arial"/>
              </a:rPr>
              <a:t>Fransız Edebiyatı’nı</a:t>
            </a: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 örnek almışlar ve Fransa’da ortaya çıkan “</a:t>
            </a:r>
            <a:r>
              <a:rPr b="0" lang="tr-TR" sz="1400" spc="-1" strike="noStrike" u="sng">
                <a:solidFill>
                  <a:srgbClr val="2f1311"/>
                </a:solidFill>
                <a:uFillTx/>
                <a:latin typeface="Arial"/>
              </a:rPr>
              <a:t>ROMANTİZM</a:t>
            </a: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” akımının etkisinde kalmışlard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Batı Edebiyatı’ındaki </a:t>
            </a:r>
            <a:r>
              <a:rPr b="0" lang="tr-TR" sz="1400" spc="-1" strike="noStrike" u="sng">
                <a:solidFill>
                  <a:srgbClr val="2f1311"/>
                </a:solidFill>
                <a:uFillTx/>
                <a:latin typeface="Arial"/>
              </a:rPr>
              <a:t>roman, makale, eleştiri, deneme</a:t>
            </a: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 gibi türler edebiyatımıza bu dönemde girmişti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Ortaya koyulan romanlar teknik bakımdan kusurludu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Şiirde Divan Edb. nazım şekilleri kullanılmıştır ancak </a:t>
            </a:r>
            <a:r>
              <a:rPr b="0" lang="tr-TR" sz="1400" spc="-1" strike="noStrike" u="sng">
                <a:solidFill>
                  <a:srgbClr val="2f1311"/>
                </a:solidFill>
                <a:uFillTx/>
                <a:latin typeface="Arial"/>
              </a:rPr>
              <a:t>içerikte yeniliğe gidilmiştir</a:t>
            </a: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. Şiirlerde adalet, hürriyet, zulüm gibi konular işlenmişti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Şiirde biçim güzelliği değil </a:t>
            </a:r>
            <a:r>
              <a:rPr b="0" lang="tr-TR" sz="1400" spc="-1" strike="noStrike" u="sng">
                <a:solidFill>
                  <a:srgbClr val="2f1311"/>
                </a:solidFill>
                <a:uFillTx/>
                <a:latin typeface="Arial"/>
              </a:rPr>
              <a:t>içerik ön plana çıkarılmaya</a:t>
            </a: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 çalışılmışt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Türk Edebiyatı’na “</a:t>
            </a:r>
            <a:r>
              <a:rPr b="0" lang="tr-TR" sz="1400" spc="-1" strike="noStrike" u="sng">
                <a:solidFill>
                  <a:srgbClr val="2f1311"/>
                </a:solidFill>
                <a:uFillTx/>
                <a:latin typeface="Arial"/>
              </a:rPr>
              <a:t>noktalama işaretleri</a:t>
            </a: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”  bu dönemde getirilmişti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 u="sng">
                <a:solidFill>
                  <a:srgbClr val="2f1311"/>
                </a:solidFill>
                <a:uFillTx/>
                <a:latin typeface="Arial"/>
              </a:rPr>
              <a:t>Çeviri edb. ve gazetecilik</a:t>
            </a: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 dönemin özelliklerindendi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Dönemin şair ve yazarları </a:t>
            </a:r>
            <a:r>
              <a:rPr b="0" lang="tr-TR" sz="1400" spc="-1" strike="noStrike" u="sng">
                <a:solidFill>
                  <a:srgbClr val="2f1311"/>
                </a:solidFill>
                <a:uFillTx/>
                <a:latin typeface="Arial"/>
              </a:rPr>
              <a:t>ŞİNASİ, NAMIK KEMAL VE ZİYA PAŞA’dır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d47d"/>
                </a:solidFill>
                <a:latin typeface="Arial"/>
              </a:rPr>
              <a:t>2. DÖNEM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Ağırlaşan siyasi şartlardan dolayı  “</a:t>
            </a:r>
            <a:r>
              <a:rPr b="0" lang="tr-TR" sz="1800" spc="-1" strike="noStrike" u="sng">
                <a:solidFill>
                  <a:srgbClr val="2f1311"/>
                </a:solidFill>
                <a:uFillTx/>
                <a:latin typeface="Arial"/>
              </a:rPr>
              <a:t>Sanat, sanat içindir.”</a:t>
            </a: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anlayışını benimsemişlerdi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Toplumsal konuların yerini </a:t>
            </a:r>
            <a:r>
              <a:rPr b="0" lang="tr-TR" sz="1800" spc="-1" strike="noStrike" u="sng">
                <a:solidFill>
                  <a:srgbClr val="2f1311"/>
                </a:solidFill>
                <a:uFillTx/>
                <a:latin typeface="Arial"/>
              </a:rPr>
              <a:t>aşk, ayrılık, düş kırıklığı gibi konular</a:t>
            </a: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almıştı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Divan Edebiyatı’nın etkisi azaldığından edebiyatta yenilik hareketleri belli bir düzeye ulaşmıştır. Dönem sanatçılarından ABDÜLHAK HAMİT TARHAN şiirde yeniliğin öncüsü olmuştu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Biçim yönünden </a:t>
            </a:r>
            <a:r>
              <a:rPr b="0" lang="tr-TR" sz="1800" spc="-1" strike="noStrike" u="sng">
                <a:solidFill>
                  <a:srgbClr val="2f1311"/>
                </a:solidFill>
                <a:uFillTx/>
                <a:latin typeface="Arial"/>
              </a:rPr>
              <a:t>yeni nazım şekilleri</a:t>
            </a: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denense de </a:t>
            </a:r>
            <a:r>
              <a:rPr b="0" lang="tr-TR" sz="1800" spc="-1" strike="noStrike" u="sng">
                <a:solidFill>
                  <a:srgbClr val="2f1311"/>
                </a:solidFill>
                <a:uFillTx/>
                <a:latin typeface="Arial"/>
              </a:rPr>
              <a:t>dildeki ağırlık</a:t>
            </a: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tr-TR" sz="1800" spc="-1" strike="noStrike" u="sng">
                <a:solidFill>
                  <a:srgbClr val="2f1311"/>
                </a:solidFill>
                <a:uFillTx/>
                <a:latin typeface="Arial"/>
              </a:rPr>
              <a:t>devam etmişti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Dönemin yazar ve şairleri</a:t>
            </a:r>
            <a:r>
              <a:rPr b="1" lang="tr-TR" sz="18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r>
              <a:rPr b="1" lang="tr-TR" sz="1400" spc="-1" strike="noStrike" u="sng">
                <a:solidFill>
                  <a:srgbClr val="2f1311"/>
                </a:solidFill>
                <a:uFillTx/>
                <a:latin typeface="Arial"/>
              </a:rPr>
              <a:t>RECAİZADE MAHMUT EKREM</a:t>
            </a:r>
            <a:r>
              <a:rPr b="1" lang="tr-TR" sz="1800" spc="-1" strike="noStrike" u="sng">
                <a:solidFill>
                  <a:srgbClr val="2f1311"/>
                </a:solidFill>
                <a:uFillTx/>
                <a:latin typeface="Arial"/>
              </a:rPr>
              <a:t>, </a:t>
            </a:r>
            <a:r>
              <a:rPr b="1" lang="tr-TR" sz="1400" spc="-1" strike="noStrike" u="sng">
                <a:solidFill>
                  <a:srgbClr val="2f1311"/>
                </a:solidFill>
                <a:uFillTx/>
                <a:latin typeface="Arial"/>
              </a:rPr>
              <a:t>ABDÜLHAK HAMİT TARHAN, AHMET MİTHAT EFENDİ, ŞEMSEDDİN SAMİ, SAMİ PAŞAZADE SEZAİ, NABİZADE NAZIM VE MUALLİM NACİ’dir</a:t>
            </a:r>
            <a:r>
              <a:rPr b="0" lang="tr-TR" sz="1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ŞİİR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Her iki dönem şairleri </a:t>
            </a:r>
            <a:r>
              <a:rPr b="0" lang="en-US" sz="1600" spc="-1" strike="noStrike" u="sng">
                <a:solidFill>
                  <a:srgbClr val="2f1311"/>
                </a:solidFill>
                <a:uFillTx/>
                <a:latin typeface="Arial"/>
              </a:rPr>
              <a:t>biçim yönünden Divan şiiri geleneğine bağlı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kalmışlardı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Her iki dönem şairleri </a:t>
            </a:r>
            <a:r>
              <a:rPr b="0" lang="en-US" sz="1600" spc="-1" strike="noStrike" u="sng">
                <a:solidFill>
                  <a:srgbClr val="2f1311"/>
                </a:solidFill>
                <a:uFillTx/>
                <a:latin typeface="Arial"/>
              </a:rPr>
              <a:t>“Romantizm”in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etkisinde kalmışlardı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2f1311"/>
                </a:solidFill>
                <a:uFillTx/>
                <a:latin typeface="Arial"/>
              </a:rPr>
              <a:t>1.dönem şairleri “toplum için sanat”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anlayışını; </a:t>
            </a:r>
            <a:r>
              <a:rPr b="0" lang="en-US" sz="1600" spc="-1" strike="noStrike" u="sng">
                <a:solidFill>
                  <a:srgbClr val="2f1311"/>
                </a:solidFill>
                <a:uFillTx/>
                <a:latin typeface="Arial"/>
              </a:rPr>
              <a:t>2.dönem şairleri ise “sanat için sanat”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anlayışını benimsemişlerdi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2f1311"/>
                </a:solidFill>
                <a:uFillTx/>
                <a:latin typeface="Arial"/>
              </a:rPr>
              <a:t>1.dönem şairleri “vatan,millet,adalet” gibi konuları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ele alırken; </a:t>
            </a:r>
            <a:r>
              <a:rPr b="0" lang="en-US" sz="1600" spc="-1" strike="noStrike" u="sng">
                <a:solidFill>
                  <a:srgbClr val="2f1311"/>
                </a:solidFill>
                <a:uFillTx/>
                <a:latin typeface="Arial"/>
              </a:rPr>
              <a:t>2. dönemdekiler “aşk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lang="en-US" sz="1600" spc="-1" strike="noStrike" u="sng">
                <a:solidFill>
                  <a:srgbClr val="2f1311"/>
                </a:solidFill>
                <a:uFillTx/>
                <a:latin typeface="Arial"/>
              </a:rPr>
              <a:t>doğa, ölüm” gibi konuları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ele almışlardı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1. dönem şairleri dilde sadeleşmeyi amaçlamış ancak bunda başarılı olamamışlardır.   </a:t>
            </a:r>
            <a:r>
              <a:rPr b="0" lang="en-US" sz="1600" spc="-1" strike="noStrike" u="sng">
                <a:solidFill>
                  <a:srgbClr val="2f1311"/>
                </a:solidFill>
                <a:uFillTx/>
                <a:latin typeface="Arial"/>
              </a:rPr>
              <a:t>2. dönem şairleri ise ağır olan bu dili daha da ağırlaştırmışlardır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Şiirde </a:t>
            </a:r>
            <a:r>
              <a:rPr b="0" lang="en-US" sz="1600" spc="-1" strike="noStrike" u="sng">
                <a:solidFill>
                  <a:srgbClr val="2f1311"/>
                </a:solidFill>
                <a:uFillTx/>
                <a:latin typeface="Arial"/>
              </a:rPr>
              <a:t>sanatlı söyleyiş her iki dönem şairleri için de amaç olmaktan çıkmıştır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İki dönemin şairleri de şiirde parça güzelliğini bırakıp </a:t>
            </a:r>
            <a:r>
              <a:rPr b="0" lang="en-US" sz="1600" spc="-1" strike="noStrike" u="sng">
                <a:solidFill>
                  <a:srgbClr val="2f1311"/>
                </a:solidFill>
                <a:uFillTx/>
                <a:latin typeface="Arial"/>
              </a:rPr>
              <a:t>bütün güzelliğine ve konu birliğine önem vermişti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ROMAN VE HİKAYE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685440" cy="68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2f1311"/>
                </a:solidFill>
                <a:latin typeface="Arial"/>
              </a:rPr>
              <a:t>İlk çeviri roman Yusuf Kamil Paşa’nın Fenelon’dan çevirdiği Telemak’tı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2f1311"/>
                </a:solidFill>
                <a:latin typeface="Arial"/>
              </a:rPr>
              <a:t>İlk yerli romanımız Şemseddin Sami’nin yazdığı “Taaşşuk-ı Talat ve Fitnat”tı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2f1311"/>
                </a:solidFill>
                <a:latin typeface="Arial"/>
              </a:rPr>
              <a:t>İlk edebi romanımız Namık Kemal’in yazdığı “İntibah”tı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2f1311"/>
                </a:solidFill>
                <a:latin typeface="Arial"/>
              </a:rPr>
              <a:t>İlk tarihi romanımız Namık Kemal’in yazdığı “Cezmi”di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2f1311"/>
                </a:solidFill>
                <a:latin typeface="Arial"/>
              </a:rPr>
              <a:t>İlk köy romanımız Nabizade Nazım’ın yazdığı “Karabibik”ti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2f1311"/>
                </a:solidFill>
                <a:latin typeface="Arial"/>
              </a:rPr>
              <a:t>İlk hikaye kitabımız Ahmet Mithat Efendi’nin “ Letaif-i Rivayat”ıdı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2f1311"/>
                </a:solidFill>
                <a:latin typeface="Arial"/>
              </a:rPr>
              <a:t>Konular genellikle günlük yaşamdan ya da tarihten alınmıştı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2f1311"/>
                </a:solidFill>
                <a:latin typeface="Arial"/>
              </a:rPr>
              <a:t>Yazarlar, kişiliklerini eserlerine yansıtmışlardı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2f1311"/>
                </a:solidFill>
                <a:latin typeface="Arial"/>
              </a:rPr>
              <a:t>Olay akışında rastlantılara sıkça karşılaşılı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2f1311"/>
                </a:solidFill>
                <a:latin typeface="Arial"/>
              </a:rPr>
              <a:t>Kahramanlar tek yönlüdür; hep iyi ya da hep kötü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2f1311"/>
                </a:solidFill>
                <a:latin typeface="Arial"/>
              </a:rPr>
              <a:t>1.dönemde romanın amacı halkı eğitmek iken 2.dönemde amaç sanattı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2f1311"/>
                </a:solidFill>
                <a:latin typeface="Arial"/>
              </a:rPr>
              <a:t>1.dönem “Romantim”in, 2.dönem “Realizm”in etkisinde kalmıştı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İYATR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2f1311"/>
                </a:solidFill>
                <a:latin typeface="Arial"/>
              </a:rPr>
              <a:t>İlk ciddi tiyatro 1867’de Güllü Agop’un idare ettiği Osmanlı Tiyatrosu’du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2f1311"/>
                </a:solidFill>
                <a:latin typeface="Arial"/>
              </a:rPr>
              <a:t>İlk Türk piyesi küçük bir dram ola”Hikaye-i İbrahim Paşa ve İbrahim Gülşeni”di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2f1311"/>
                </a:solidFill>
                <a:latin typeface="Arial"/>
              </a:rPr>
              <a:t>Batılı anlamdaki </a:t>
            </a:r>
            <a:r>
              <a:rPr b="0" lang="tr-TR" sz="1600" spc="-1" strike="noStrike" u="sng">
                <a:solidFill>
                  <a:srgbClr val="2f1311"/>
                </a:solidFill>
                <a:uFillTx/>
                <a:latin typeface="Arial"/>
              </a:rPr>
              <a:t>ilk tiyatro Şinasi’nin yazdığı “Şair Evlenmesi’ adlı komedidir</a:t>
            </a:r>
            <a:r>
              <a:rPr b="0" lang="tr-TR" sz="16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 u="sng">
                <a:solidFill>
                  <a:srgbClr val="2f1311"/>
                </a:solidFill>
                <a:uFillTx/>
                <a:latin typeface="Arial"/>
              </a:rPr>
              <a:t>Sahnelenen ilk tiyatromuz ise Namık Kemal’in yazdığı “Vatan Yahut Silistre’di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2f1311"/>
                </a:solidFill>
                <a:latin typeface="Arial"/>
              </a:rPr>
              <a:t>Tiyatro halkı eğitmek amacından dolayı daha çok okunmak için yazılmıştı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2f1311"/>
                </a:solidFill>
                <a:latin typeface="Arial"/>
              </a:rPr>
              <a:t>1.dönem tiyatrolarının dili 2. döneme göre daha anlaşılır bir niteliktedi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2f1311"/>
                </a:solidFill>
                <a:latin typeface="Arial"/>
              </a:rPr>
              <a:t>                                     </a:t>
            </a:r>
            <a:r>
              <a:rPr b="0" lang="tr-TR" sz="1600" spc="-1" strike="noStrike" u="sng">
                <a:solidFill>
                  <a:srgbClr val="f0b854"/>
                </a:solidFill>
                <a:uFillTx/>
                <a:latin typeface="Arial"/>
                <a:hlinkClick r:id="rId7"/>
              </a:rPr>
              <a:t>www.edebiyatogretmeni.net</a:t>
            </a:r>
            <a:r>
              <a:rPr b="0" lang="tr-TR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0:16:41Z</dcterms:created>
  <dc:creator>computer</dc:creator>
  <dc:description/>
  <dc:language>en-US</dc:language>
  <cp:lastModifiedBy>Yusuf</cp:lastModifiedBy>
  <dcterms:modified xsi:type="dcterms:W3CDTF">2007-03-04T22:07:33Z</dcterms:modified>
  <cp:revision>4</cp:revision>
  <dc:subject/>
  <dc:title>TANZİMAT DÖNEMİ TÜRK EDEBİYATI</dc:title>
</cp:coreProperties>
</file>