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260-3946-4C54-8C65-5F987B19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C4C-DD89-4338-9895-5AEEC6B2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D71B-DA04-4577-8FF2-5D5CDA98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EBC1-A29E-4FC8-9AE0-74B7FC11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E131-D36A-4763-BD4B-D315CAA4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0D20-53F1-4A92-A03C-8AE69DC7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C83C-4CD8-4508-B725-C913F2BA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FEF2-697A-4AFF-BC1B-5B82E5D3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4858-4723-4DEF-BD5E-C60B2F25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63B4-4BFE-4455-A18B-EE6DDEC1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4B9E-39A1-4CE4-B0C6-89353B85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6CCA-C771-4F9A-8E7F-0227C4B6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C6CC-B4BE-4B29-8388-BCF128B2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3B4F-C75A-4203-A083-F6D47438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8CA1-EBE5-4B32-8056-C77A3601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53A1-B57A-49FB-84CE-B296DA54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09CA-0A7D-4379-9737-1630E0B5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2A0-6FBF-4813-8855-FB0C6C06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75DC-3905-48F8-AB04-57A55073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09F-9F4C-45DC-B566-47A3D0B9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1F0-D6D9-49F1-A35B-C2FCA2F6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348-B204-4778-AA6F-F72FDCC2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DFB-AC12-482E-8CD6-EC399CF6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5902-28FC-4852-B58C-41E20234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046F-7F09-416A-9F5A-98CA36A35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8937-8DFE-4064-9071-5745B049D9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r.wikipedia.org/wiki/1_Haziran" TargetMode="External"/><Relationship Id="rId3" Type="http://schemas.openxmlformats.org/officeDocument/2006/relationships/hyperlink" Target="http://tr.wikipedia.org/wiki/1850" TargetMode="External"/><Relationship Id="rId4" Type="http://schemas.openxmlformats.org/officeDocument/2006/relationships/hyperlink" Target="http://tr.wikipedia.org/wiki/Arnavutluk" TargetMode="External"/><Relationship Id="rId5" Type="http://schemas.openxmlformats.org/officeDocument/2006/relationships/hyperlink" Target="http://tr.wikipedia.org/wiki/5_Haziran" TargetMode="External"/><Relationship Id="rId6" Type="http://schemas.openxmlformats.org/officeDocument/2006/relationships/hyperlink" Target="http://tr.wikipedia.org/wiki/1904" TargetMode="External"/><Relationship Id="rId7" Type="http://schemas.openxmlformats.org/officeDocument/2006/relationships/hyperlink" Target="http://tr.wikipedia.org/wiki/&#304;stanbul" TargetMode="External"/><Relationship Id="rId8" Type="http://schemas.openxmlformats.org/officeDocument/2006/relationships/hyperlink" Target="http://tr.wikipedia.org/wiki/Taa&#351;&#351;uk-&#305;_Talat_ve_Fitnat" TargetMode="External"/><Relationship Id="rId9" Type="http://schemas.openxmlformats.org/officeDocument/2006/relationships/hyperlink" Target="http://tr.wikipedia.org/w/index.php?title=Kamus-&#252;l_Alam&amp;action=edit" TargetMode="External"/><Relationship Id="rId10" Type="http://schemas.openxmlformats.org/officeDocument/2006/relationships/hyperlink" Target="http://tr.wikipedia.org/w/index.php?title=Kamus-&#252;l_Alam&amp;action=edit" TargetMode="External"/><Relationship Id="rId11" Type="http://schemas.openxmlformats.org/officeDocument/2006/relationships/hyperlink" Target="http://tr.wikipedia.org/w/index.php?title=Kamus-&#252;l_Alam&amp;action=edit" TargetMode="External"/><Relationship Id="rId12" Type="http://schemas.openxmlformats.org/officeDocument/2006/relationships/hyperlink" Target="http://tr.wikipedia.org/w/index.php?title=Kamus-&#252;l_Alam&amp;action=edit" TargetMode="External"/><Relationship Id="rId13" Type="http://schemas.openxmlformats.org/officeDocument/2006/relationships/hyperlink" Target="http://tr.wikipedia.org/wiki/Kamus-&#305;_T&#252;rki" TargetMode="External"/><Relationship Id="rId14" Type="http://schemas.openxmlformats.org/officeDocument/2006/relationships/hyperlink" Target="http://upload.wikimedia.org/wikipedia/tr/c/c9/Sami_frasheri.jpg" TargetMode="External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debiyatogretmeni.net/ziya_pasa.htm" TargetMode="External"/><Relationship Id="rId3" Type="http://schemas.openxmlformats.org/officeDocument/2006/relationships/hyperlink" Target="http://www.edebiyatogretmeni.net/halit_ziya_usakligil.htm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debiyatogretmeni.net/mehmet_emin_yurdakul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r.wikipedia.org/wiki/21_Aral&#305;k" TargetMode="External"/><Relationship Id="rId3" Type="http://schemas.openxmlformats.org/officeDocument/2006/relationships/hyperlink" Target="http://tr.wikipedia.org/wiki/1840" TargetMode="External"/><Relationship Id="rId4" Type="http://schemas.openxmlformats.org/officeDocument/2006/relationships/hyperlink" Target="http://tr.wikipedia.org/wiki/Tekirda&#287;" TargetMode="External"/><Relationship Id="rId5" Type="http://schemas.openxmlformats.org/officeDocument/2006/relationships/hyperlink" Target="http://tr.wikipedia.org/wiki/2_Aral&#305;k" TargetMode="External"/><Relationship Id="rId6" Type="http://schemas.openxmlformats.org/officeDocument/2006/relationships/hyperlink" Target="http://tr.wikipedia.org/wiki/1888" TargetMode="External"/><Relationship Id="rId7" Type="http://schemas.openxmlformats.org/officeDocument/2006/relationships/hyperlink" Target="http://tr.wikipedia.org/wiki/Sak&#305;z_Adas&#305;" TargetMode="External"/><Relationship Id="rId8" Type="http://schemas.openxmlformats.org/officeDocument/2006/relationships/hyperlink" Target="http://tr.wikipedia.org/wiki/J&#246;n_T&#252;rkler" TargetMode="External"/><Relationship Id="rId9" Type="http://schemas.openxmlformats.org/officeDocument/2006/relationships/hyperlink" Target="http://tr.wikipedia.org/wiki/&#304;ntibah" TargetMode="External"/><Relationship Id="rId10" Type="http://schemas.openxmlformats.org/officeDocument/2006/relationships/hyperlink" Target="http://tr.wikipedia.org/wiki/Vatan%2C_Yahut_Silistre" TargetMode="External"/><Relationship Id="rId11" Type="http://schemas.openxmlformats.org/officeDocument/2006/relationships/hyperlink" Target="http://upload.wikimedia.org/wikipedia/commons/b/b6/Kemalbey.jpg" TargetMode="External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r.wikipedia.org/wiki/1862" TargetMode="External"/><Relationship Id="rId3" Type="http://schemas.openxmlformats.org/officeDocument/2006/relationships/hyperlink" Target="http://tr.wikipedia.org/wiki/&#304;stanbul" TargetMode="External"/><Relationship Id="rId4" Type="http://schemas.openxmlformats.org/officeDocument/2006/relationships/hyperlink" Target="http://tr.wikipedia.org/wiki/6_A&#287;ustos" TargetMode="External"/><Relationship Id="rId5" Type="http://schemas.openxmlformats.org/officeDocument/2006/relationships/hyperlink" Target="http://tr.wikipedia.org/wiki/1893" TargetMode="External"/><Relationship Id="rId6" Type="http://schemas.openxmlformats.org/officeDocument/2006/relationships/hyperlink" Target="http://tr.wikipedia.org/wiki/Meslek" TargetMode="External"/><Relationship Id="rId7" Type="http://schemas.openxmlformats.org/officeDocument/2006/relationships/hyperlink" Target="http://tr.wikipedia.org/wiki/Yazar" TargetMode="External"/><Relationship Id="rId8" Type="http://schemas.openxmlformats.org/officeDocument/2006/relationships/hyperlink" Target="http://tr.wikipedia.org/wiki/T&#252;rk" TargetMode="External"/><Relationship Id="rId9" Type="http://schemas.openxmlformats.org/officeDocument/2006/relationships/hyperlink" Target="http://tr.wikipedia.org/wiki/Osmanl&#305;" TargetMode="External"/><Relationship Id="rId10" Type="http://schemas.openxmlformats.org/officeDocument/2006/relationships/hyperlink" Target="http://tr.wikipedia.org/wiki/Tanzimat" TargetMode="External"/><Relationship Id="rId11" Type="http://schemas.openxmlformats.org/officeDocument/2006/relationships/hyperlink" Target="http://tr.wikipedia.org/wiki/1886" TargetMode="External"/><Relationship Id="rId12" Type="http://schemas.openxmlformats.org/officeDocument/2006/relationships/hyperlink" Target="http://tr.wikipedia.org/wiki/Karabibik" TargetMode="External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r.wikipedia.org/wiki/1_Mart" TargetMode="External"/><Relationship Id="rId3" Type="http://schemas.openxmlformats.org/officeDocument/2006/relationships/hyperlink" Target="http://tr.wikipedia.org/wiki/1847" TargetMode="External"/><Relationship Id="rId4" Type="http://schemas.openxmlformats.org/officeDocument/2006/relationships/hyperlink" Target="http://tr.wikipedia.org/wiki/&#304;stanbul" TargetMode="External"/><Relationship Id="rId5" Type="http://schemas.openxmlformats.org/officeDocument/2006/relationships/hyperlink" Target="http://tr.wikipedia.org/wiki/31_Ocak" TargetMode="External"/><Relationship Id="rId6" Type="http://schemas.openxmlformats.org/officeDocument/2006/relationships/hyperlink" Target="http://tr.wikipedia.org/wiki/1914" TargetMode="External"/><Relationship Id="rId7" Type="http://schemas.openxmlformats.org/officeDocument/2006/relationships/hyperlink" Target="http://tr.wikipedia.org/wiki/T&#252;rk" TargetMode="External"/><Relationship Id="rId8" Type="http://schemas.openxmlformats.org/officeDocument/2006/relationships/hyperlink" Target="http://tr.wikipedia.org/wiki/&#350;air" TargetMode="External"/><Relationship Id="rId9" Type="http://schemas.openxmlformats.org/officeDocument/2006/relationships/hyperlink" Target="http://tr.wikipedia.org/wiki/Yazar" TargetMode="External"/><Relationship Id="rId10" Type="http://schemas.openxmlformats.org/officeDocument/2006/relationships/hyperlink" Target="http://tr.wikipedia.org/wiki/1870" TargetMode="External"/><Relationship Id="rId11" Type="http://schemas.openxmlformats.org/officeDocument/2006/relationships/hyperlink" Target="http://tr.wikipedia.org/w/index.php?title=Afife_Anjelik&amp;action=edit" TargetMode="External"/><Relationship Id="rId12" Type="http://schemas.openxmlformats.org/officeDocument/2006/relationships/hyperlink" Target="http://tr.wikipedia.org/w/index.php?title=Afife_Anjelik&amp;action=edit" TargetMode="External"/><Relationship Id="rId13" Type="http://schemas.openxmlformats.org/officeDocument/2006/relationships/hyperlink" Target="http://tr.wikipedia.org/wiki/1871" TargetMode="External"/><Relationship Id="rId14" Type="http://schemas.openxmlformats.org/officeDocument/2006/relationships/hyperlink" Target="http://tr.wikipedia.org/w/index.php?title=Na&#287;me-i_Seher&amp;action=edit" TargetMode="External"/><Relationship Id="rId15" Type="http://schemas.openxmlformats.org/officeDocument/2006/relationships/image" Target="../media/image5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r.wikipedia.org/wiki/12_A&#287;ustos" TargetMode="External"/><Relationship Id="rId3" Type="http://schemas.openxmlformats.org/officeDocument/2006/relationships/hyperlink" Target="http://tr.wikipedia.org/wiki/1875" TargetMode="External"/><Relationship Id="rId4" Type="http://schemas.openxmlformats.org/officeDocument/2006/relationships/hyperlink" Target="http://tr.wikipedia.org/wiki/23_Aral&#305;k" TargetMode="External"/><Relationship Id="rId5" Type="http://schemas.openxmlformats.org/officeDocument/2006/relationships/hyperlink" Target="http://tr.wikipedia.org/wiki/1931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r.wikipedia.org/wiki/1860" TargetMode="External"/><Relationship Id="rId3" Type="http://schemas.openxmlformats.org/officeDocument/2006/relationships/hyperlink" Target="http://tr.wikipedia.org/wiki/&#304;stanbul" TargetMode="External"/><Relationship Id="rId4" Type="http://schemas.openxmlformats.org/officeDocument/2006/relationships/hyperlink" Target="http://tr.wikipedia.org/wiki/26_Nisan" TargetMode="External"/><Relationship Id="rId5" Type="http://schemas.openxmlformats.org/officeDocument/2006/relationships/hyperlink" Target="http://tr.wikipedia.org/wiki/1936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r.wikipedia.org/wiki/T&#252;rk" TargetMode="External"/><Relationship Id="rId3" Type="http://schemas.openxmlformats.org/officeDocument/2006/relationships/hyperlink" Target="http://tr.wikipedia.org/wiki/Gazetecilik" TargetMode="External"/><Relationship Id="rId4" Type="http://schemas.openxmlformats.org/officeDocument/2006/relationships/hyperlink" Target="http://tr.wikipedia.org/w/index.php?title=Terc&#252;me-i_Manzume&amp;action=edit" TargetMode="External"/><Relationship Id="rId5" Type="http://schemas.openxmlformats.org/officeDocument/2006/relationships/hyperlink" Target="http://tr.wikipedia.org/wiki/&#350;air_Evlenmesi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www.edebiyatogretmeni.net/atasozleri.htm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826920" y="476280"/>
            <a:ext cx="756144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 Antiqua"/>
              </a:rPr>
              <a:t>Edebiyatımızdaki İlkler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 Antiqua"/>
              <a:ea typeface="Book Antiqua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2006640"/>
            <a:ext cx="4643640" cy="41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Şemseddin Sami (Fraşeri)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(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1 Haziran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1850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Frashër (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Arnavutluk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) -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5 Haziran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1904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İstanbul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), Arnavut asıllı Türk yazar, ansiklopedist ve sözlükç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Türk harfleriyle yazılan ilk Türkçe roman olan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Taaşşuk-ı Talat ve Fitnat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'ın (1872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ilk Türkçe ansiklopedi olan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Kamus-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ül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Alam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'ın (1889-1898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Modern anlamdaki ilk geniş kapsamlı Türkçe sözlük olan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Kamus-ı Türki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'nin (1901) yazarıdı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Resim:Sami frasheri.jp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435640" y="1700280"/>
            <a:ext cx="3127320" cy="4176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46440" y="602064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Şemseddin Sami Bey ve eş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32480" y="2456640"/>
            <a:ext cx="4912560" cy="31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İlk tezkire :Ali Şir Nevai /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Mecalisün Nef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İlk antolojisi: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Ziya paşa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/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Harab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*İlk mizah dergisi:Diyojen /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Teodor Kas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İlk fıkra yazarı : Ahmet Ras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İlk siyasetname :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Kutadgu Bil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İlk mensur şiir örneklerini veren :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alit Zi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22400" y="1700280"/>
            <a:ext cx="48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İlk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hikaye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kitabı :A.Mithat /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Letaif-i Riva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94560" y="981000"/>
            <a:ext cx="42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Türkçe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yazılan ilk kitap :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Kutadgu Bil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72000" y="1175760"/>
            <a:ext cx="720180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Şiirde ilk defa Türk kelimesini kullanan :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Mehmet Emin Yurdak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Dünya edebiyatındaki ilk modern roman :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Cervantes / Don Kiş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İlk edebi bildiriyi yayımlayan topluluk: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Fecr-i 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Mesnevi tarzında yazılmış ilk eser :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KUTADGU BİLİ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İlk seyahatname :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MİR’ATÜL MEMALİK / SEYDİ ALİ REİ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İlk Edebiyat tarihçimiz: 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Abdulhalim Memduh Efen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Batı anlayışındaki ilk edebiyat tarihçimiz: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Fuat Köprül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Dünya edebiyatındaki ilk hikayeci ve eseri: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Boccaio Decamkeron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618012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.edebiyatogretmeni.n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1113840"/>
            <a:ext cx="460872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Namık Kemal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21 Aralık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1840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Tekirdağ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2 Aralık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1888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Sakız Adası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), Türk Milliyetçiliğinin öncülerinden,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Jön Türklerden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ünlü yazar ve şairdi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Özellikle "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İntibah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" isimli roman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"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Vatan, Yahut Silistre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" isimli tiyatro oyunu ile tanını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İlk tarihi roman “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Cezmi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sıl adı </a:t>
            </a: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Mehmed Kemal'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d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Namık adını ona şair Eşref Paşa vermişti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Resim:Kemalbey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292720" y="692280"/>
            <a:ext cx="3666960" cy="5248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82680" y="616500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hmet "Namık" Kem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57200" y="380880"/>
          <a:ext cx="4619160" cy="5714640"/>
        </p:xfrm>
        <a:graphic>
          <a:graphicData uri="http://schemas.openxmlformats.org/drawingml/2006/table">
            <a:tbl>
              <a:tblPr/>
              <a:tblGrid>
                <a:gridCol w="1660680"/>
                <a:gridCol w="2958480"/>
              </a:tblGrid>
              <a:tr h="601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bizade Nazı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Doğum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  <a:hlinkClick r:id="rId2"/>
                        </a:rPr>
                        <a:t>1862</a:t>
                      </a:r>
                      <a:r>
                        <a:rPr b="0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(?)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  <a:hlinkClick r:id="rId3"/>
                        </a:rPr>
                        <a:t>İstanbu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 w="720">
                      <a:solidFill>
                        <a:srgbClr val="aaaaaa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5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Ölümü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  <a:hlinkClick r:id="rId4"/>
                        </a:rPr>
                        <a:t>6 Ağustos</a:t>
                      </a:r>
                      <a:r>
                        <a:rPr b="0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  <a:hlinkClick r:id="rId5"/>
                        </a:rPr>
                        <a:t>1893</a:t>
                      </a: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İstanbu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  <a:hlinkClick r:id="rId6"/>
                        </a:rPr>
                        <a:t>Mesleği</a:t>
                      </a:r>
                      <a:r>
                        <a:rPr b="0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  <a:hlinkClick r:id="rId7"/>
                        </a:rPr>
                        <a:t>Yaz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Milliyeti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  <a:hlinkClick r:id="rId8"/>
                        </a:rPr>
                        <a:t>Türk</a:t>
                      </a:r>
                      <a:r>
                        <a:rPr b="0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/</a:t>
                      </a:r>
                      <a:r>
                        <a:rPr b="0" lang="en-US" sz="18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  <a:hlinkClick r:id="rId9"/>
                        </a:rPr>
                        <a:t>Osmanl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Dönem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  <a:hlinkClick r:id="rId10"/>
                        </a:rPr>
                        <a:t>Tanzim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Tür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üz yaz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İlk eseri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digârlarım, </a:t>
                      </a:r>
                      <a:r>
                        <a:rPr b="0" lang="en-US" sz="18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  <a:hlinkClick r:id="rId11"/>
                        </a:rPr>
                        <a:t>18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5580000" y="1033560"/>
            <a:ext cx="3313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ilk Türk romanlarından olan “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Karabibik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” 'in de yazarıdı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3"/>
          <a:stretch/>
        </p:blipFill>
        <p:spPr>
          <a:xfrm>
            <a:off x="6012000" y="2133720"/>
            <a:ext cx="2322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735920"/>
            <a:ext cx="45370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: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1 Mart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1847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İstanbul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- ö.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31 Ocak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1914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),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Türk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şair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ve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yazar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248280"/>
            <a:ext cx="4968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İlk realist roman olan “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Araba Sevdası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” ‘nında yazarıdı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1870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'te ilk oyunu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Afife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Anjelik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1871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'de ilk şiir kitabı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14"/>
              </a:rPr>
              <a:t>Nağme-i Seher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yayınland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5"/>
          <a:stretch/>
        </p:blipFill>
        <p:spPr>
          <a:xfrm>
            <a:off x="5508720" y="1125360"/>
            <a:ext cx="3168720" cy="511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8320" y="105264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caizade Mahmut Ekr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1473480"/>
            <a:ext cx="56516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: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12 Ağusto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1875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- ö: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23 Aralık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1931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) Türk edebiyatç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443640" y="1773360"/>
            <a:ext cx="1943280" cy="2735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002600" y="2637000"/>
            <a:ext cx="50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İlk psikolojik roman olan “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</a:rPr>
              <a:t>Eylü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” ‘ün yazarıdı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350028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İlk defa 1900-1901 yılları arasında “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</a:rPr>
              <a:t>Servet-i Fünun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dergisinde tefrika edilen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</a:rPr>
              <a:t>Eylü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'ün kitap halinde ilk baskısı 1901 yılında yapılmıştır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6760" y="1052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ehmet Ra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1112400"/>
            <a:ext cx="42116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: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1860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İstanbul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- ö.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26 Nisan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1936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İstanbul) Türk realist öykücü, romanc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7320" y="2135160"/>
            <a:ext cx="275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ccff"/>
                </a:solidFill>
                <a:latin typeface="Tahoma"/>
              </a:rPr>
              <a:t>ESERLERİ</a:t>
            </a:r>
            <a:r>
              <a:rPr b="0" lang="tr-TR" sz="1800" spc="-1" strike="noStrike">
                <a:solidFill>
                  <a:srgbClr val="00ccff"/>
                </a:solidFill>
                <a:latin typeface="Tahoma"/>
              </a:rPr>
              <a:t> </a:t>
            </a:r>
            <a:br>
              <a:rPr sz="1800"/>
            </a:br>
            <a:br>
              <a:rPr sz="1800"/>
            </a:b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ROMAN: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800"/>
            </a:b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*Sergüzeşt (1889)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800"/>
            </a:br>
            <a:br>
              <a:rPr sz="1800"/>
            </a:b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ÖYKÜ: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800"/>
            </a:b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*Küçük Şeyler (1892)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800"/>
            </a:br>
            <a:br>
              <a:rPr sz="1800"/>
            </a:b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OYUN: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800"/>
            </a:b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Şir (arslan, 1879) </a:t>
            </a:r>
            <a:br>
              <a:rPr sz="1800"/>
            </a:br>
            <a:br>
              <a:rPr sz="1800"/>
            </a:b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SOHBET-ELEŞTİRİ-ANI: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800"/>
            </a:b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Rumuzu’l- Edeb (1900) </a:t>
            </a:r>
            <a:br>
              <a:rPr sz="1800"/>
            </a:b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İclal (1923)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4716360" y="476280"/>
            <a:ext cx="4176720" cy="5905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95760" y="7650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Tahoma"/>
              </a:rPr>
              <a:t>Samipaşazade Sez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225680" y="888840"/>
            <a:ext cx="4609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</a:rPr>
              <a:t>(1826-1871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şair,yazar,ilk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Türk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gazetecisi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6720" y="1897920"/>
            <a:ext cx="3298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Tercüme-i Manzum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” (1859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3880" y="2763000"/>
            <a:ext cx="48042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Şair Evlenmesi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” (Bir perdelik komedi,1860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5651640" y="1773360"/>
            <a:ext cx="2447640" cy="3371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4320" y="3573360"/>
            <a:ext cx="50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İlk makale “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</a:rPr>
              <a:t>Tercüman-ı Ahval Mukaddimes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91360" y="429264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İlk fab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28760" y="508464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İlk noktalama işaretler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9400" y="5734080"/>
            <a:ext cx="60465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İlk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atasözleri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kitabı :Şinasi /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Durub-i Emsal-ı Osmaniy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8320" y="85248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Şin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97840" y="2060640"/>
            <a:ext cx="46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 İlk resmî gazete “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Takvim-i Vakayi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(183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94760" y="2852640"/>
            <a:ext cx="63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İlk yarı resmî gazete “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</a:rPr>
              <a:t>Ceride-i Havadi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” :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</a:rPr>
              <a:t>Churchill (184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63360" y="3789360"/>
            <a:ext cx="477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İlk özel gazete “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</a:rPr>
              <a:t>Tercüman-ı Ahva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</a:rPr>
              <a:t>(1860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56000" y="260280"/>
            <a:ext cx="359064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urier New"/>
              </a:rPr>
              <a:t>İlk Gazetel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urier New"/>
              <a:ea typeface="Courier New"/>
            </a:endParaRPr>
          </a:p>
        </p:txBody>
      </p:sp>
      <p:sp>
        <p:nvSpPr>
          <p:cNvPr id="118" name=""/>
          <p:cNvSpPr/>
          <p:nvPr/>
        </p:nvSpPr>
        <p:spPr>
          <a:xfrm>
            <a:off x="2923560" y="465300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“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</a:rPr>
              <a:t>Tasvir-i Efkâ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en-US" sz="1800" spc="-1" strike="noStrike">
                <a:solidFill>
                  <a:srgbClr val="00ccff"/>
                </a:solidFill>
                <a:latin typeface="Tahoma"/>
              </a:rPr>
              <a:t>(186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213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500"/>
                            </p:stCondLst>
                            <p:childTnLst>
                              <p:par>
                                <p:cTn id="221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64240" y="837360"/>
            <a:ext cx="8390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İlk yerli roman :Şemsettin Sami /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Taaşşuk-ı Talat ve Fıtn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Batılı tekniğine uygun kusursuz ilk roman :Halit Ziya Uşaklıgil/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Aşk-ı mem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İlk çeviri roman :Yusuf Kamil Paşa/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Fenelon’dan Telemak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/185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İlk pastoral şir:A.Hamit Tarhan /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Sah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Aruzla ilk manzum tiyatro eseri yazan :A.Hamit /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Eşber veya Sardanap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Heceyle yazılan ilk manzum tiyatro eseri:A.Hamit /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Nest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4365720"/>
            <a:ext cx="777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İlk bibliyografya: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Keşfü’z Zünun</a:t>
            </a: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 / Katip Çeleb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İlk hatıra kitabı: Babürşah / </a:t>
            </a:r>
            <a:r>
              <a:rPr b="0" lang="tr-TR" sz="1800" spc="-1" strike="noStrike" u="sng">
                <a:solidFill>
                  <a:srgbClr val="00ccff"/>
                </a:solidFill>
                <a:uFillTx/>
                <a:latin typeface="Tahoma"/>
              </a:rPr>
              <a:t>Babür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*İlk hamse yazarı: Ali Şir Nev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8:03:03Z</dcterms:created>
  <dc:creator>usef</dc:creator>
  <dc:description/>
  <dc:language>en-US</dc:language>
  <cp:lastModifiedBy>Yusuf</cp:lastModifiedBy>
  <dcterms:modified xsi:type="dcterms:W3CDTF">2007-10-04T21:55:57Z</dcterms:modified>
  <cp:revision>11</cp:revision>
  <dc:subject/>
  <dc:title>Slayt 1</dc:title>
</cp:coreProperties>
</file>